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A45-AF1B-4066-881F-61C2CAD0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8FD-105D-4E77-9E6C-2500942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950-828B-40C0-8D17-45241B8D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D79-2432-4DDB-A8DF-79B4187C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760-6E3D-43CE-A4AA-D71C755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0FE-C00B-43D7-83E2-13F762F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771-71AB-4EC3-8E3E-B5B7A63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9CF-F0BB-4ED2-99D3-7463C82D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A57-6941-42DA-A293-2FF6CB8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096-213F-40C2-8BE6-7C67861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A79-608B-42BA-89FF-4FFC234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A5A-D051-477A-9E6B-DFECD87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5254-F479-47DF-9414-FD458B707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0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图片2"/>
          <p:cNvPicPr/>
          <p:nvPr/>
        </p:nvPicPr>
        <p:blipFill>
          <a:blip r:embed="rId5"/>
          <a:stretch/>
        </p:blipFill>
        <p:spPr>
          <a:xfrm>
            <a:off x="685800" y="20574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中国风 (1)"/>
          <p:cNvPicPr/>
          <p:nvPr/>
        </p:nvPicPr>
        <p:blipFill>
          <a:blip r:embed="rId8"/>
          <a:stretch/>
        </p:blipFill>
        <p:spPr>
          <a:xfrm>
            <a:off x="-533520" y="39956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3"/>
          <a:stretch/>
        </p:blipFill>
        <p:spPr>
          <a:xfrm>
            <a:off x="-914400" y="4246560"/>
            <a:ext cx="453384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8" name="矩形 18"/>
          <p:cNvSpPr/>
          <p:nvPr/>
        </p:nvSpPr>
        <p:spPr>
          <a:xfrm>
            <a:off x="4318200" y="2579760"/>
            <a:ext cx="1025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114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5280" y="324648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10209 C -0.0316 0.08218 0.00573 0.06227 0.05972 0.05556 C 0.11372 0.04885 0.18976 0.06343 0.25503 0.06204 C 0.32014 0.06065 0.38507 0.05648 0.45035 0.04723 C 0.51545 0.03797 0.58681 0.00417 0.64705 0.00695 C 0.70729 0.00973 0.78472 0.05463 0.81215 0.06412 E">
                                      <p:cBhvr>
                                        <p:cTn id="4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8600" y="0"/>
            <a:ext cx="114444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4_副本"/>
          <p:cNvPicPr/>
          <p:nvPr/>
        </p:nvPicPr>
        <p:blipFill>
          <a:blip r:embed="rId8"/>
          <a:stretch/>
        </p:blipFill>
        <p:spPr>
          <a:xfrm>
            <a:off x="1981080" y="236232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4_副本"/>
          <p:cNvPicPr/>
          <p:nvPr/>
        </p:nvPicPr>
        <p:blipFill>
          <a:blip r:embed="rId9"/>
          <a:stretch/>
        </p:blipFill>
        <p:spPr>
          <a:xfrm>
            <a:off x="205740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4_副本"/>
          <p:cNvPicPr/>
          <p:nvPr/>
        </p:nvPicPr>
        <p:blipFill>
          <a:blip r:embed="rId10"/>
          <a:stretch/>
        </p:blipFill>
        <p:spPr>
          <a:xfrm>
            <a:off x="2057400" y="4191120"/>
            <a:ext cx="69228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绿2"/>
          <p:cNvPicPr/>
          <p:nvPr/>
        </p:nvPicPr>
        <p:blipFill>
          <a:blip r:embed="rId5"/>
          <a:stretch/>
        </p:blipFill>
        <p:spPr>
          <a:xfrm>
            <a:off x="3352680" y="-380880"/>
            <a:ext cx="4572000" cy="184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荷花 10_副本"/>
          <p:cNvPicPr/>
          <p:nvPr/>
        </p:nvPicPr>
        <p:blipFill>
          <a:blip r:embed="rId9"/>
          <a:stretch/>
        </p:blipFill>
        <p:spPr>
          <a:xfrm>
            <a:off x="-533520" y="4495680"/>
            <a:ext cx="2289240" cy="2895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栏杆_副本"/>
          <p:cNvPicPr/>
          <p:nvPr/>
        </p:nvPicPr>
        <p:blipFill>
          <a:blip r:embed="rId3"/>
          <a:stretch/>
        </p:blipFill>
        <p:spPr>
          <a:xfrm>
            <a:off x="-228600" y="6173640"/>
            <a:ext cx="9372600" cy="6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217-E660-495B-91E4-BCDC01B75E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6:05:42Z</dcterms:created>
  <dc:creator/>
  <dc:description/>
  <cp:keywords>幻灯片之家 http:/www.eeppt.com</cp:keywords>
  <dc:language>en-US</dc:language>
  <cp:lastModifiedBy/>
  <dcterms:modified xsi:type="dcterms:W3CDTF">2015-07-12T08:35:15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