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F75B-BBDB-47A3-88AF-4E5750A0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DE7-0A7A-46A2-9657-3A156CA8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1613-C362-4155-99E5-C8CF8134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D8E6-8340-4770-B053-9979E4BA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8F0-7EEC-4027-AC18-22C19B48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2C7-6A72-4581-87A6-85BEBB87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2EF5-B050-4096-93EF-6E822A1F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073-1E19-4F50-95BD-1E5086B2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AF2A-01C8-4342-A2F5-2A7CDF44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0560-F382-42AD-BB59-78BCB58A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052D-ED7E-48AB-8EE6-9CB625E3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29F4-7254-40F8-9B64-B3525DC8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8439-D650-400B-BC03-2BCA7FBB0D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15720" y="836640"/>
            <a:ext cx="29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免费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0560" y="363708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E3EA-AAF7-4566-90A9-14DF5387AD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/>
  <dc:description/>
  <cp:keywords>幻灯片之家 http:/www.eeppt.com</cp:keywords>
  <dc:language>en-US</dc:language>
  <cp:lastModifiedBy/>
  <dcterms:modified xsi:type="dcterms:W3CDTF">2015-07-09T09:50:07Z</dcterms:modified>
  <cp:revision>7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