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E6A6-6B67-4925-BD6E-ADD924402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A594-CD57-45BD-A89F-F7A8A6EA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9D1B-D40C-4DB6-8BC9-8858F2236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2854-DE6F-4105-A0EC-0BEDDB1F1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4ED2-3D56-40E9-9632-2168EB34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CE90-72DA-4062-A408-A98F8A55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06CB-5774-4383-B480-A1CDC868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4A60-3EBA-485A-A91B-FD040ACF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A58D-39D1-441F-93A8-F0B40AB3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5B9B-0A29-4139-A152-F22F1196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A2F4-9993-42AD-8EDA-A3C354F2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0BAE-D105-4D66-A348-9A0237AE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2464-DEC5-4892-B48A-D4203B11EE5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25F9-AADB-4DEF-ABCC-11A1712795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56880" y="2530440"/>
            <a:ext cx="240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竹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B9AC-0D5C-4891-95E3-4FE50FD641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>幻灯片之家 http:/www.eeppt.com</cp:keywords>
  <dc:language>en-US</dc:language>
  <cp:lastModifiedBy/>
  <dcterms:modified xsi:type="dcterms:W3CDTF">2015-07-03T09:57:3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