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482A-47A0-4EEA-9427-EED5B127E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6DCC-BDEF-4B91-8B64-56EA38C6B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6BC0-EB3F-4AC1-9075-E889F7A66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4262-CCFF-4A59-B125-D091EFF8B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96CD-3780-4B8E-A721-1033E23BB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ADB3-5A30-4BD1-848E-F9A917232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F933-159F-44A5-A1C7-36F8BDB3F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5192-C20E-495A-9986-8A3364D90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0CBA-331D-4CA7-B34B-31F33C4EC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5F5B-D9E2-4C1E-B6B2-8D4B033F0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569C-7450-493A-8A02-2E5F101A7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4E1A-FA89-4889-81F7-1AA14BD12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F7188-F5A6-4863-A950-7CA9168B6F6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9667F-8D57-464A-A932-5B89992DC0C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jieri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388620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59120" y="6404040"/>
            <a:ext cx="6499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节日ppt模板下载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moban/jier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339C-061D-4C29-8FFF-C0937518719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/>
  <dc:description/>
  <cp:keywords>幻灯片之家 http:/www.eeppt.com</cp:keywords>
  <dc:language>en-US</dc:language>
  <cp:lastModifiedBy/>
  <dcterms:modified xsi:type="dcterms:W3CDTF">2015-07-09T08:33:08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