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D7E-EE8C-45D2-84FB-035C0B92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C50-071A-4421-BA39-3C30B34E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761-5D6C-4F2D-894D-515E96B6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2AC-F585-4640-9804-26AE8FF9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2F62-4BAE-4ECA-8AC1-37452818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C32F-DCEB-43D6-A145-EDA1A72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3379-A4C1-4AC5-B053-CE74A8C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9369-9FA4-4644-A1DE-203DBD1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D365-F38E-47B7-A00B-B2F9C31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F1A4-EEFA-447F-B051-CB3BC818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9B46-DE28-4AE8-BA8C-EF9B955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A58-A6BF-4785-8A46-E6185AF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9FA9-D198-4B3B-A75E-AC185DE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5FB-953C-4F06-AAB0-0DF9159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0AC-CF8C-4007-8743-44A1E4B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1AD5-F39F-4AF3-AB56-52A4B25B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32C8-10EA-490A-9A5C-97848DC7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3CA-A161-41C0-803D-344CE37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4F1-3A92-424C-A401-71D7A1A3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CCF-22E8-4804-BABE-CCDA788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C85-AC3D-4ECF-8CD0-8FE7921A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439-E1B9-42A9-8A72-7987267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DB5-D7F4-46F1-98C3-0C7EB62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A21-8D84-4F78-ACCC-412F083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5DCA-0CD5-44B6-A39E-25A1E65E3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029-07C6-4A6C-AE5B-576B7347F07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hyperlink" Target="http://www.eeppt.com/moban/kejian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1" name="Picture 4" descr="树叶5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71640" y="1989000"/>
            <a:ext cx="8172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7320" y="635148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6680" y="184464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做一片美的叶子》优质课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1332000" y="17002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树叶1"/>
          <p:cNvPicPr/>
          <p:nvPr/>
        </p:nvPicPr>
        <p:blipFill>
          <a:blip r:embed="rId20"/>
          <a:stretch/>
        </p:blipFill>
        <p:spPr>
          <a:xfrm>
            <a:off x="0" y="-243000"/>
            <a:ext cx="9144000" cy="7318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5E2-AC88-4CEA-84CA-3B686BEBF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4" descr="树叶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树叶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4" descr="树叶4"/>
          <p:cNvPicPr/>
          <p:nvPr/>
        </p:nvPicPr>
        <p:blipFill>
          <a:blip r:embed="rId2"/>
          <a:stretch/>
        </p:blipFill>
        <p:spPr>
          <a:xfrm>
            <a:off x="0" y="0"/>
            <a:ext cx="10260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056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你怎么理解以下这些语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每一片叶子形态各异——你找不到两片相同的叶子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春天的时候，叶子嫩绿；夏天的时候，叶子肥美；秋叶变黄；冬日飘零——回归大树地下的根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大树把无数的叶子结为一个整体。无数的叶子在树上找到了自己的位置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每一棵大树都很美，每一片叶子都很美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3" descr="树叶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55640" y="198900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（      ）做一片美的叶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2:11Z</dcterms:created>
  <dc:creator/>
  <dc:description/>
  <cp:keywords>幻灯片之家 http:/www.eeppt.com</cp:keywords>
  <dc:language>en-US</dc:language>
  <cp:lastModifiedBy/>
  <dcterms:modified xsi:type="dcterms:W3CDTF">2015-07-12T09:37:4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