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6.gif" ContentType="image/gif"/>
  <Override PartName="/ppt/media/image7.jpeg" ContentType="image/jpeg"/>
  <Override PartName="/ppt/media/image12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DB2D-1B7C-45C8-B50E-98D70C79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4182-E2E9-4297-BEAC-4DBA46A7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790E-C586-4567-A6DC-03AFADF3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F83-A10F-4623-8A7E-95E44A04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9189-E0C1-4234-A9C9-4511F6F4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2DE-121A-488D-82AB-62A6B7EC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388B-BDAE-4F05-89DC-2677D887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8E2-DC5A-48BA-8A7D-1C5CA5BD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D85-A707-42FA-AB56-26BBD60D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4C9-4C58-4DC1-84F9-19B8CCC5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3C8-8B57-49B7-9599-86878117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92E-EF02-4CB0-A80C-10E5D793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F74E-1C48-47BE-A8E5-0928154BD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4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2"/>
          <p:cNvGrpSpPr/>
          <p:nvPr/>
        </p:nvGrpSpPr>
        <p:grpSpPr>
          <a:xfrm>
            <a:off x="228600" y="609480"/>
            <a:ext cx="9143640" cy="5790960"/>
            <a:chOff x="228600" y="609480"/>
            <a:chExt cx="9143640" cy="5790960"/>
          </a:xfrm>
        </p:grpSpPr>
        <p:pic>
          <p:nvPicPr>
            <p:cNvPr id="43" name="Picture 15" descr="200671120440642"/>
            <p:cNvPicPr/>
            <p:nvPr/>
          </p:nvPicPr>
          <p:blipFill>
            <a:blip r:embed="rId17"/>
            <a:stretch/>
          </p:blipFill>
          <p:spPr>
            <a:xfrm>
              <a:off x="228600" y="609480"/>
              <a:ext cx="9143640" cy="57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AutoShape 20"/>
            <p:cNvSpPr/>
            <p:nvPr/>
          </p:nvSpPr>
          <p:spPr>
            <a:xfrm>
              <a:off x="7187400" y="4035240"/>
              <a:ext cx="2184840" cy="2202120"/>
            </a:xfrm>
            <a:prstGeom prst="wedgeEllipseCallout">
              <a:avLst>
                <a:gd name="adj1" fmla="val -73226"/>
                <a:gd name="adj2" fmla="val -486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18" descr="ma2_004"/>
            <p:cNvPicPr/>
            <p:nvPr/>
          </p:nvPicPr>
          <p:blipFill>
            <a:blip r:embed="rId18"/>
            <a:stretch/>
          </p:blipFill>
          <p:spPr>
            <a:xfrm>
              <a:off x="7511400" y="4442760"/>
              <a:ext cx="145656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WordArt 23"/>
          <p:cNvSpPr txBox="1"/>
          <p:nvPr/>
        </p:nvSpPr>
        <p:spPr>
          <a:xfrm>
            <a:off x="1676520" y="5627520"/>
            <a:ext cx="597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人教课标版小学语文六年级上册</a:t>
            </a:r>
            <a:endParaRPr b="0" lang="en-US" sz="1800" spc="-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1143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别饿坏了那匹马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4"/>
          <p:cNvSpPr/>
          <p:nvPr/>
        </p:nvSpPr>
        <p:spPr>
          <a:xfrm>
            <a:off x="5105520" y="1295280"/>
            <a:ext cx="2971800" cy="914400"/>
          </a:xfrm>
          <a:prstGeom prst="wedgeRoundRectCallout">
            <a:avLst>
              <a:gd name="adj1" fmla="val -68856"/>
              <a:gd name="adj2" fmla="val 96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76560" y="137124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中宋"/>
              </a:rPr>
              <a:t>心理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可是迟了！我已经走进他家的后院，看见了一堆枯蔫焦黄的马草──这些日子我卖给他的所有的马草！那匹马呢？那匹香甜地吃着我的马草的马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523880" y="4800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这段话通过两个感叹句、两个问句写出了“我”见到马草后的震惊与感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1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520" y="1066680"/>
            <a:ext cx="3124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父    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5867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书页中分明多了几张毛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晚上，父亲对我说：</a:t>
            </a:r>
            <a:r>
              <a:rPr b="1" lang="zh-CN" sz="3200" spc="-1" strike="noStrike">
                <a:solidFill>
                  <a:srgbClr val="006600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打你不为别的事，都像你这样白看书，人家怎么过日子？搬运队的马车夫需要马草，你可以扯马草换钱。</a:t>
            </a:r>
            <a:r>
              <a:rPr b="1" lang="zh-CN" sz="3200" spc="-1" strike="noStrike">
                <a:solidFill>
                  <a:srgbClr val="006600"/>
                </a:solidFill>
                <a:latin typeface="华文仿宋"/>
                <a:ea typeface="华文仿宋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父亲</a:t>
            </a:r>
            <a:r>
              <a:rPr b="1" lang="en-US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善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315200" y="1752480"/>
            <a:ext cx="990720" cy="2819520"/>
            <a:chOff x="7315200" y="1752480"/>
            <a:chExt cx="990720" cy="2819520"/>
          </a:xfrm>
        </p:grpSpPr>
        <p:sp>
          <p:nvSpPr>
            <p:cNvPr id="96" name="AutoShape 9"/>
            <p:cNvSpPr/>
            <p:nvPr/>
          </p:nvSpPr>
          <p:spPr>
            <a:xfrm>
              <a:off x="7315200" y="1752480"/>
              <a:ext cx="990720" cy="2819520"/>
            </a:xfrm>
            <a:prstGeom prst="wedgeRoundRectCallout">
              <a:avLst>
                <a:gd name="adj1" fmla="val -91504"/>
                <a:gd name="adj2" fmla="val 51634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7467480" y="1904760"/>
              <a:ext cx="762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语言描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86728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67080" y="51051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碧    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仿宋"/>
              </a:rPr>
              <a:t>姑娘接过我的马草，提进了里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中宋"/>
              </a:rPr>
              <a:t>碧云</a:t>
            </a:r>
            <a:r>
              <a:rPr b="1" lang="en-US" sz="3600" spc="-1" strike="noStrike">
                <a:solidFill>
                  <a:srgbClr val="006600"/>
                </a:solidFill>
                <a:latin typeface="华文中宋"/>
                <a:ea typeface="华文中宋"/>
              </a:rPr>
              <a:t>——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中宋"/>
              </a:rPr>
              <a:t>善解人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7315200" y="1752480"/>
            <a:ext cx="990720" cy="2819520"/>
            <a:chOff x="7315200" y="1752480"/>
            <a:chExt cx="990720" cy="2819520"/>
          </a:xfrm>
        </p:grpSpPr>
        <p:sp>
          <p:nvSpPr>
            <p:cNvPr id="104" name="AutoShape 7"/>
            <p:cNvSpPr/>
            <p:nvPr/>
          </p:nvSpPr>
          <p:spPr>
            <a:xfrm>
              <a:off x="7315200" y="1752480"/>
              <a:ext cx="990720" cy="2819520"/>
            </a:xfrm>
            <a:prstGeom prst="wedgeRoundRectCallout">
              <a:avLst>
                <a:gd name="adj1" fmla="val -119069"/>
                <a:gd name="adj2" fmla="val -18638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8"/>
            <p:cNvSpPr/>
            <p:nvPr/>
          </p:nvSpPr>
          <p:spPr>
            <a:xfrm>
              <a:off x="7467480" y="1904760"/>
              <a:ext cx="762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动作描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780109963x0902007-fm02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124080" y="3200040"/>
            <a:ext cx="5486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文几次写到了“别饿坏了那匹马”，其用意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3200400" y="1981080"/>
            <a:ext cx="4038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探讨问题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09" name="Picture 5" descr="ma2_004"/>
          <p:cNvPicPr/>
          <p:nvPr/>
        </p:nvPicPr>
        <p:blipFill>
          <a:blip r:embed="rId3"/>
          <a:stretch/>
        </p:blipFill>
        <p:spPr>
          <a:xfrm>
            <a:off x="7543800" y="5334120"/>
            <a:ext cx="129528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它在文中出现了三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一次是“我”把马草卖给残疾青年，离开书摊时，青年嘱咐“我”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二次是青年看见“我”背着马草走向书摊时，吩咐妹妹碧云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三次是“我”对青年说的话。“我”担心误了喂马时间而饿着马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609480" y="2209680"/>
            <a:ext cx="468360" cy="2619360"/>
            <a:chOff x="609480" y="2209680"/>
            <a:chExt cx="468360" cy="2619360"/>
          </a:xfrm>
        </p:grpSpPr>
        <p:pic>
          <p:nvPicPr>
            <p:cNvPr id="113" name="Picture 4" descr="01a"/>
            <p:cNvPicPr/>
            <p:nvPr/>
          </p:nvPicPr>
          <p:blipFill>
            <a:blip r:embed="rId3"/>
            <a:stretch/>
          </p:blipFill>
          <p:spPr>
            <a:xfrm>
              <a:off x="609480" y="2209680"/>
              <a:ext cx="4395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5" descr="01a"/>
            <p:cNvPicPr/>
            <p:nvPr/>
          </p:nvPicPr>
          <p:blipFill>
            <a:blip r:embed="rId4"/>
            <a:stretch/>
          </p:blipFill>
          <p:spPr>
            <a:xfrm>
              <a:off x="609480" y="3276360"/>
              <a:ext cx="46836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6" descr="01a"/>
            <p:cNvPicPr/>
            <p:nvPr/>
          </p:nvPicPr>
          <p:blipFill>
            <a:blip r:embed="rId5"/>
            <a:stretch/>
          </p:blipFill>
          <p:spPr>
            <a:xfrm>
              <a:off x="609480" y="4343400"/>
              <a:ext cx="466560" cy="48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WordArt 8"/>
          <p:cNvSpPr txBox="1"/>
          <p:nvPr/>
        </p:nvSpPr>
        <p:spPr>
          <a:xfrm>
            <a:off x="4419720" y="5791320"/>
            <a:ext cx="3047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善意的谎言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宋体"/>
                <a:ea typeface="黑体"/>
              </a:rPr>
              <a:t>“</a:t>
            </a:r>
            <a:r>
              <a:rPr b="1" lang="zh-CN" sz="4400" spc="-1" strike="noStrike">
                <a:solidFill>
                  <a:srgbClr val="00cc00"/>
                </a:solidFill>
                <a:latin typeface="Arial"/>
                <a:ea typeface="黑体"/>
              </a:rPr>
              <a:t>别饿坏了那匹马</a:t>
            </a:r>
            <a:r>
              <a:rPr b="1" lang="zh-CN" sz="4400" spc="-1" strike="noStrike">
                <a:solidFill>
                  <a:srgbClr val="00cc00"/>
                </a:solidFill>
                <a:latin typeface="宋体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6705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00ff"/>
                </a:solidFill>
                <a:latin typeface="华文仿宋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别饿坏了那匹马</a:t>
            </a:r>
            <a:r>
              <a:rPr b="1" lang="zh-CN" sz="3200" spc="-1" strike="noStrike">
                <a:solidFill>
                  <a:srgbClr val="ff00ff"/>
                </a:solidFill>
                <a:latin typeface="华文仿宋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既是课文的题目，也是推动故事发生的关键句。文章用</a:t>
            </a:r>
            <a:r>
              <a:rPr b="1" lang="zh-CN" sz="3200" spc="-1" strike="noStrike">
                <a:solidFill>
                  <a:srgbClr val="ff00ff"/>
                </a:solidFill>
                <a:latin typeface="华文仿宋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别饿坏了那匹马</a:t>
            </a:r>
            <a:r>
              <a:rPr b="1" lang="zh-CN" sz="3200" spc="-1" strike="noStrike">
                <a:solidFill>
                  <a:srgbClr val="ff00ff"/>
                </a:solidFill>
                <a:latin typeface="华文仿宋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贯穿全文，起到了层层推进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20067112044064202"/>
          <p:cNvPicPr/>
          <p:nvPr/>
        </p:nvPicPr>
        <p:blipFill>
          <a:blip r:embed="rId3"/>
          <a:stretch/>
        </p:blipFill>
        <p:spPr>
          <a:xfrm>
            <a:off x="2057400" y="4648320"/>
            <a:ext cx="1752480" cy="180000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/>
          <p:cNvSpPr/>
          <p:nvPr/>
        </p:nvSpPr>
        <p:spPr>
          <a:xfrm>
            <a:off x="4876920" y="4572000"/>
            <a:ext cx="3124080" cy="1828800"/>
          </a:xfrm>
          <a:prstGeom prst="wedgeEllipseCallout">
            <a:avLst>
              <a:gd name="adj1" fmla="val -79930"/>
              <a:gd name="adj2" fmla="val -4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ma2_004"/>
          <p:cNvPicPr/>
          <p:nvPr/>
        </p:nvPicPr>
        <p:blipFill>
          <a:blip r:embed="rId4"/>
          <a:stretch/>
        </p:blipFill>
        <p:spPr>
          <a:xfrm>
            <a:off x="5486400" y="4876920"/>
            <a:ext cx="18288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52320" y="1066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拓展训练：小练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6324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推开了木板房的门，真相终于大白。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站在那一堆枯黄的马草前，脑海中也许会浮现出一幕幕往事；耳畔也许还会回响着守摊的残疾青年说过的每一句话；也许</a:t>
            </a:r>
            <a:r>
              <a:rPr b="1" lang="en-US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…</a:t>
            </a:r>
            <a:r>
              <a:rPr b="0" lang="en-US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在这一刻都会想些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请发挥你的想象，把它写下来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1-4"/>
          <p:cNvPicPr/>
          <p:nvPr/>
        </p:nvPicPr>
        <p:blipFill>
          <a:blip r:embed="rId3"/>
          <a:stretch/>
        </p:blipFill>
        <p:spPr>
          <a:xfrm>
            <a:off x="7543800" y="5029200"/>
            <a:ext cx="1295280" cy="1319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480" y="36828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词语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82680"/>
            <a:ext cx="2514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刻骨铭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毛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一如既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瞥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尴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971800" y="12826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形容记忆深刻，永远不忘。多用于对别人的感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971800" y="2273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口语，就是面值一角的人民币纸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048120" y="28065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048120" y="3340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跟过去完全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048120" y="38736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一眼看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048120" y="44067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处境困难，不好处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8654"/>
          <p:cNvPicPr/>
          <p:nvPr/>
        </p:nvPicPr>
        <p:blipFill>
          <a:blip r:embed="rId2"/>
          <a:stretch/>
        </p:blipFill>
        <p:spPr>
          <a:xfrm>
            <a:off x="7315200" y="4483080"/>
            <a:ext cx="12193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5120" y="19047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中宋"/>
              </a:rPr>
              <a:t>朗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34290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华文仿宋"/>
              </a:rPr>
              <a:t>课文主要讲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20067112044064202"/>
          <p:cNvPicPr/>
          <p:nvPr/>
        </p:nvPicPr>
        <p:blipFill>
          <a:blip r:embed="rId2"/>
          <a:stretch/>
        </p:blipFill>
        <p:spPr>
          <a:xfrm>
            <a:off x="762120" y="1600200"/>
            <a:ext cx="1752480" cy="172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8654"/>
          <p:cNvPicPr/>
          <p:nvPr/>
        </p:nvPicPr>
        <p:blipFill>
          <a:blip r:embed="rId3"/>
          <a:stretch/>
        </p:blipFill>
        <p:spPr>
          <a:xfrm>
            <a:off x="7238880" y="5181480"/>
            <a:ext cx="12193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主要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97180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华文仿宋"/>
              </a:rPr>
              <a:t>   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主要写了酷爱读书的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在失去看书机会时，摆书摊的残疾青年谎称家中有马，买下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的马草，让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得以继续看书的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20067112044064201"/>
          <p:cNvPicPr/>
          <p:nvPr/>
        </p:nvPicPr>
        <p:blipFill>
          <a:blip r:embed="rId2"/>
          <a:stretch/>
        </p:blipFill>
        <p:spPr>
          <a:xfrm>
            <a:off x="533520" y="1295280"/>
            <a:ext cx="167616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8654"/>
          <p:cNvPicPr/>
          <p:nvPr/>
        </p:nvPicPr>
        <p:blipFill>
          <a:blip r:embed="rId3"/>
          <a:stretch/>
        </p:blipFill>
        <p:spPr>
          <a:xfrm>
            <a:off x="7467480" y="5562720"/>
            <a:ext cx="10479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90720" y="34290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文中出现了哪几个人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这些人物分别有什么样的性格特点呢？请从文中找出有关的内容加以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828800" y="2209680"/>
            <a:ext cx="4724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6000"/>
                    </a:srgbClr>
                  </a:outerShdw>
                </a:effectLst>
                <a:latin typeface="宋体"/>
              </a:rPr>
              <a:t>速读课文，回答问题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8" name="Picture 8" descr="Gif0405_136"/>
          <p:cNvPicPr/>
          <p:nvPr/>
        </p:nvPicPr>
        <p:blipFill>
          <a:blip r:embed="rId2"/>
          <a:stretch/>
        </p:blipFill>
        <p:spPr>
          <a:xfrm>
            <a:off x="6781680" y="121932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52320" y="91404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黑体"/>
              </a:rPr>
              <a:t>残疾青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240" y="251424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他依然宽厚地对我一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瞥见轮椅上的他正定定地看着我，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坐下慢慢看吧！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他说着指了指身旁的一只小凳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别打孩子！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年轻人竭力想从轮椅上挣扎起来阻止我父亲，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孩子看书不是坏事。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0067112044064201"/>
          <p:cNvPicPr/>
          <p:nvPr/>
        </p:nvPicPr>
        <p:blipFill>
          <a:blip r:embed="rId2"/>
          <a:stretch/>
        </p:blipFill>
        <p:spPr>
          <a:xfrm>
            <a:off x="457200" y="6858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4"/>
          <p:cNvSpPr/>
          <p:nvPr/>
        </p:nvSpPr>
        <p:spPr>
          <a:xfrm>
            <a:off x="380880" y="1447920"/>
            <a:ext cx="1524240" cy="2057400"/>
          </a:xfrm>
          <a:prstGeom prst="wedgeRoundRectCallout">
            <a:avLst>
              <a:gd name="adj1" fmla="val 74166"/>
              <a:gd name="adj2" fmla="val -425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09320" y="1295280"/>
            <a:ext cx="6629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先是一愣，继而眼睛一亮，笑着对我说：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过来，让我看看你的马草。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认真地看过马草后，冲里屋叫道：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碧云，你出来一下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别别别</a:t>
            </a:r>
            <a:r>
              <a:rPr b="1" lang="en-US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……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急了，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碧云！碧云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用双手拼命摇着轮椅，想挡住我的路，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你放下！等碧云来拿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回来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在身后喊道，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那马会踢伤你的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残疾青年</a:t>
            </a: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宽厚、善良、善解人意，用心良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523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语言、动作、神态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7339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我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80720" y="1599840"/>
            <a:ext cx="5410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上小学五年级那年，学校不远处的书摊是我放学后流连忘返的地方。可是更多的时候，手无分文的我只能装作选书的样子，偷看几则小故事，然后溜之大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攥着马草换来的毛票，我立即奔向书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我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”</a:t>
            </a:r>
            <a:r>
              <a:rPr b="1" lang="en-US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喜爱看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20067112044064202"/>
          <p:cNvPicPr/>
          <p:nvPr/>
        </p:nvPicPr>
        <p:blipFill>
          <a:blip r:embed="rId3"/>
          <a:stretch/>
        </p:blipFill>
        <p:spPr>
          <a:xfrm>
            <a:off x="380880" y="1371600"/>
            <a:ext cx="16909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0"/>
          <p:cNvGrpSpPr/>
          <p:nvPr/>
        </p:nvGrpSpPr>
        <p:grpSpPr>
          <a:xfrm>
            <a:off x="7620120" y="1295280"/>
            <a:ext cx="838080" cy="2362320"/>
            <a:chOff x="7620120" y="1295280"/>
            <a:chExt cx="838080" cy="2362320"/>
          </a:xfrm>
        </p:grpSpPr>
        <p:sp>
          <p:nvSpPr>
            <p:cNvPr id="82" name="AutoShape 11"/>
            <p:cNvSpPr/>
            <p:nvPr/>
          </p:nvSpPr>
          <p:spPr>
            <a:xfrm>
              <a:off x="7620120" y="1295280"/>
              <a:ext cx="838080" cy="2362320"/>
            </a:xfrm>
            <a:prstGeom prst="wedgeRoundRectCallout">
              <a:avLst>
                <a:gd name="adj1" fmla="val -60037"/>
                <a:gd name="adj2" fmla="val 62231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2"/>
            <p:cNvSpPr/>
            <p:nvPr/>
          </p:nvSpPr>
          <p:spPr>
            <a:xfrm>
              <a:off x="7696440" y="1371600"/>
              <a:ext cx="685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动作描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54E9-3C86-4AE6-B452-706C43D69F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0T07:58:02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07-15T07:45:28Z</dcterms:modified>
  <cp:revision>26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