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740-74CD-49BB-B71D-8DD7E2EA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169-E140-4818-9F17-2E6B64B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8A1-8EAC-4AE4-A1F4-2199B796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349-DCA8-4B83-A3D3-B442C3F5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0D9-D17C-479B-8787-F73C01AE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FE8-2CEF-417D-B12A-5F80FC87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08C8-C043-4C11-BBDE-B0F2F872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2F3D-E79F-4277-AD0E-09C1126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9E84-8DA7-4CE5-A1A2-EC4BDEA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8225-F92F-4D41-A612-BD49DC9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B62-5BA4-44BC-9DFC-C14C7DC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001-CE11-49CC-8287-1F74F9E0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2968-42DB-46A7-9272-B51E7FD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C567-5779-49E4-87C0-9A5AC549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F81-7A9E-4CA6-83CD-61FE1618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D27F-1EA0-402B-B7E0-F93A0099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2CA-7824-40C7-AFE2-4486EB3D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C11-1538-4CAC-8262-A8A6A3BB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4F1-46D5-40F5-B876-DD94FAA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9CE-410E-4048-8576-8F6EFF59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DAA-81F8-4576-BA67-A6A8866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AB4-DF77-4300-A815-E1D86FB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F75-2AD3-4813-A2E7-2CC1961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282-318C-4FFD-8A73-3562EE5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84FE-C0B8-4EE5-B7AE-D5BE86FC7BE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09FA-C5C7-4728-B897-6879F988B8C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610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</a:t>
            </a:r>
            <a:r>
              <a:rPr b="1" lang="zh-CN" sz="5400" spc="-1" strike="noStrike">
                <a:solidFill>
                  <a:srgbClr val="89351b"/>
                </a:solidFill>
                <a:latin typeface="Webdings"/>
                <a:ea typeface="Webdings"/>
              </a:rPr>
              <a:t>《成本会计》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3800" y="3213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九章     成本报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§9-1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成本报表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一、成本报表的内涵及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、内涵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、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成本报表属于</a:t>
            </a:r>
            <a:r>
              <a:rPr b="1" lang="zh-CN" sz="2800" spc="-1" strike="noStrike">
                <a:solidFill>
                  <a:srgbClr val="861e6b"/>
                </a:solidFill>
                <a:latin typeface="Times New Roman"/>
              </a:rPr>
              <a:t>内部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报表，旨在为企业内部管理提供服务。它的格式、指标项目、编制日期、报送对象，都由企业根据自身的生产经营特点和内部管理要求而定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二、成本报表的作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………………………………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十章      成本分析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§10-1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成本分析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一、成本分析的内容及意义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成本事前分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、内容：成本事中分析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成本事后分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本章所讲的成本分析，仅指成本事后分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二、成本事后分析的内容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…………………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73392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solidFill>
              <a:srgbClr val="5b5249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28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351b"/>
                </a:solidFill>
                <a:latin typeface="Webdings"/>
                <a:ea typeface="Webdings"/>
              </a:rPr>
              <a:t></a:t>
            </a:r>
            <a:r>
              <a:rPr b="1" lang="zh-CN" sz="4400" spc="-1" strike="noStrike">
                <a:solidFill>
                  <a:srgbClr val="89351b"/>
                </a:solidFill>
                <a:latin typeface="Webdings"/>
                <a:ea typeface="Webdings"/>
              </a:rPr>
              <a:t>第一章总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495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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§1-1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成本的意义和作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1460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351b"/>
                </a:solidFill>
                <a:latin typeface="Webdings"/>
                <a:ea typeface="Webdings"/>
              </a:rPr>
              <a:t>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一、成本的概念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广义的成本：指取得资产的代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狭义的成本：仅指制造成本，为制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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产品而发生成本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351b"/>
                </a:solidFill>
                <a:latin typeface="Times New Roman"/>
              </a:rPr>
              <a:t>二、成本的经济实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。。。。。。。。。。。。。。。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67480" y="5084640"/>
            <a:ext cx="1346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二章 产品成本核算原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§2-1    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产品成本核算的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实际成本计价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成本分期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合法性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重要性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一贯性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权责发生制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a0a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§2-2   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成本核算的要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………………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三章  生产费用的归集与分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第一节     各项要素费用的分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一、材料费用的归集与分配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材料费用的内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产品生产过程中耗用的，构成产品实体或有助于产品形成的各种材料物资的货币表现。包括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…………………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第四章 产品成本计算方法概述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§4-1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企业的生产类型及特点</a:t>
            </a:r>
            <a:br>
              <a:rPr sz="3200"/>
            </a:b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…………………………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五章         品种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7"/>
                </a:solidFill>
                <a:latin typeface="Times New Roman"/>
              </a:rPr>
              <a:t>§5-1         </a:t>
            </a:r>
            <a:r>
              <a:rPr b="1" lang="zh-CN" sz="3200" spc="-1" strike="noStrike">
                <a:solidFill>
                  <a:srgbClr val="1d5287"/>
                </a:solidFill>
                <a:latin typeface="Times New Roman"/>
              </a:rPr>
              <a:t>品种法概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7"/>
                </a:solidFill>
                <a:latin typeface="Times New Roman"/>
              </a:rPr>
              <a:t>一、品种法的特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按照产品品种作为成本计算对象来归集生产费用、计算产品成本的一种方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它是最基本的成本计算方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…………………………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六章      分步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§6-1 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分步法概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、概念及特点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以产品的生产步骤为成本计算对象，归集生产费用，计算产品成本的一种方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分步法的特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…………………………………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七章     分批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1e6b"/>
                </a:solidFill>
                <a:latin typeface="Times New Roman"/>
              </a:rPr>
              <a:t>分批法的特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）以产品批别或定单作为成本计算对象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）以每批或每一定单产品的生产周期作为成本计算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）月末，一般不需把生产费用在完工产品和在产品之间进行分配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61e6b"/>
                </a:solidFill>
                <a:latin typeface="Times New Roman"/>
              </a:rPr>
              <a:t>分批法的成本计算程序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e6b"/>
                </a:solidFill>
                <a:latin typeface="Times New Roman"/>
              </a:rPr>
              <a:t>………………………………………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八章 其他行业的成本计算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§8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商品流通企业的成本计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§8-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施工企业的成本计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§8-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房地产开发企业的成本计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2:59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