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28C3-928C-413A-A9EA-C2C9AD00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15F-1048-4910-B9DB-35C76380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7452-C758-4965-88A7-51D51BF7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90AF-C81D-44F5-971C-BFEE2DE0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9018-DB55-423E-99DE-68B37971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371A-0710-420A-886E-2DE1E013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FEB7-BA47-493B-8610-C028E0E9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669-265E-464C-ACC7-DE1252A4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4E8-22CE-4478-876F-D8462C82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1A9E-D40F-46A0-91DB-12B3317F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A0D-0308-44FF-8082-D417115C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06D-1C23-45FD-905A-16463FF4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4FF9-BD96-4BAC-9D48-F85B56E97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创建农村合格中小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27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2240" y="324648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一、统一思想，端正态度，充分认识创建农村合格中小学的重要意义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194292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创建农村合格中小学工作是保持共产党员先进性，提高党的执政能力的具体体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396960"/>
            <a:ext cx="81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创建农村合格中小学工作是促进教育公平，构建社会主义和谐社会的迫切需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7080" y="48362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创建农村合格中小学是落实科学发展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91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二、硬件从实，软件从严，高水平、高质量完成创建农村合格中小学目标任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1715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以“六有”工程为抓手，进一步改善农村中小学办学条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5880" y="3468600"/>
            <a:ext cx="781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以提高资源利用效率为重点，进一步推进教育信息化工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48369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以强化管理为重点，进一步提高农村中小学教学质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91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、落实责任，加大投入，切实加强对创建农村合格中小学工作的领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61840" y="2087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坚持“以县为主”，层层落实创建农村合格中小学的办学责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5080" y="3455640"/>
            <a:ext cx="777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坚持政府主导，切实保障创建农村合格中小学的教育投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4824000"/>
            <a:ext cx="78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坚持严格督查，把创建农村合格中小学工作纳入各级党委、政府考核范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7D6D-5B12-49C5-9AFF-53303B7DF9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6920" y="22874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创建农村合格学校是改善农村基础教育条件，实现教育公平，为农民办实事的民心工程；也是促进教育事业健康协调可持续发展，让人民满意教育的德政工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7:2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23:4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