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75C-CF1F-41AC-84C1-A59467DA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857-B9E8-4017-8753-A9740BA3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2EB-E3C6-4A05-8341-A4A8B50E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2AD-7254-480E-9024-E0F4EF27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6674-B9A0-41F8-87A0-BCC3C060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F712-44FC-409F-8BE5-80090456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15C8-5C3B-41CA-9356-4FCDF47A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FD6D-30B3-4FD1-89EF-1719C685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DE23-62E0-483B-9D11-84DA8536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E0C7-06FF-468C-843B-09DEC6ED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87B8-34FE-42EC-A761-BA24E81A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999-4E2B-4DB6-84D1-72163F69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6671-C6D3-4E61-9948-E961753B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5CA0-5201-4DF3-ACBD-797496F2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F83F-1742-4077-9B15-88E215AB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C865-8526-4D59-975A-A27F8E41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EEE4-2F55-4F21-940E-E444B854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F5A1-8AF9-4948-AFE5-7536111B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DE7-EA8A-4A0D-9856-390BFF02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729-8D37-40F9-B190-76F5F4E6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BF6-6FCB-4E72-8AA5-2CD83115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8CF-2C9D-49E3-97E7-21527541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A84-01C8-4793-842C-390EC848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445-6456-4665-A3CE-8A862D68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" name="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896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EA7C-B45C-4D3A-B8BA-2EDD775E1E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5680"/>
            <a:chOff x="0" y="927000"/>
            <a:chExt cx="8991720" cy="449568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268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2820-71DD-4C94-A62E-79882C19B1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76360" y="141300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6600"/>
                </a:solidFill>
                <a:latin typeface="文鼎CS魏碑"/>
                <a:ea typeface="文鼎CS魏碑"/>
              </a:rPr>
              <a:t>测量与误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2240" y="324648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8380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②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.</a:t>
            </a:r>
            <a:r>
              <a:rPr b="1" lang="zh-CN" sz="36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相对误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64960" y="2743200"/>
                <a:ext cx="35863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误差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测量值）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（真值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313160" y="2743200"/>
                <a:ext cx="44816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 txBox="1"/>
          <p:nvPr/>
        </p:nvSpPr>
        <p:spPr>
          <a:xfrm>
            <a:off x="609480" y="182880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7f76f0"/>
                  </a:solidFill>
                  <a:miter/>
                </a:ln>
                <a:solidFill>
                  <a:srgbClr val="7f76f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例：</a:t>
            </a:r>
            <a:endParaRPr b="0" lang="en-US" sz="1800" spc="-1" strike="noStrike">
              <a:ln w="9360">
                <a:solidFill>
                  <a:srgbClr val="7f76f0"/>
                </a:solidFill>
                <a:miter/>
              </a:ln>
              <a:solidFill>
                <a:srgbClr val="7f76f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233960" y="608040"/>
                <a:ext cx="3114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7280" y="3946680"/>
                <a:ext cx="483732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04840" y="5241960"/>
                <a:ext cx="53816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811840" y="4800600"/>
                <a:ext cx="23209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7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8380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②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.</a:t>
            </a:r>
            <a:r>
              <a:rPr b="1" lang="zh-CN" sz="36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相对误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64960" y="2743200"/>
                <a:ext cx="35863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误差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测量值）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（真值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313160" y="2743200"/>
                <a:ext cx="44816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 txBox="1"/>
          <p:nvPr/>
        </p:nvSpPr>
        <p:spPr>
          <a:xfrm>
            <a:off x="609480" y="182880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7f76f0"/>
                  </a:solidFill>
                  <a:miter/>
                </a:ln>
                <a:solidFill>
                  <a:srgbClr val="7f76f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例：</a:t>
            </a:r>
            <a:endParaRPr b="0" lang="en-US" sz="1800" spc="-1" strike="noStrike">
              <a:ln w="9360">
                <a:solidFill>
                  <a:srgbClr val="7f76f0"/>
                </a:solidFill>
                <a:miter/>
              </a:ln>
              <a:solidFill>
                <a:srgbClr val="7f76f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233960" y="608040"/>
                <a:ext cx="3114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87280" y="3946680"/>
                <a:ext cx="483732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04840" y="5241960"/>
                <a:ext cx="53816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811840" y="4800600"/>
                <a:ext cx="23209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75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4695840" cy="3851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38080" y="7621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6bf0"/>
                </a:solidFill>
                <a:latin typeface="Times New Roman"/>
                <a:ea typeface="仿宋_GB2312"/>
              </a:rPr>
              <a:t>偶然误差分布的三个性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3092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1.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单峰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4114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2.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有界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5105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3.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对称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057040" y="457200"/>
            <a:ext cx="51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隶书"/>
              </a:rPr>
              <a:t>系统误差与偶然误差的关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4080" y="2286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偶然误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90680" y="2362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随机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65600" y="32004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可通过多次测量来减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4080" y="4191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系统误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14720" y="4191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确定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96400" y="5105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可用特定方法来消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48769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                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：精密度与正确度的综合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                       反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1240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                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：实验结果与真值的符合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                       程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137160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                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：重复测量数据相互分散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                       的程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876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准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876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准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4876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准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4876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17"/>
                </a:solidFill>
                <a:latin typeface="Times New Roman"/>
                <a:ea typeface="文鼎CS魏碑"/>
              </a:rPr>
              <a:t>准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876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17"/>
                </a:solidFill>
                <a:latin typeface="Times New Roman"/>
                <a:ea typeface="文鼎CS魏碑"/>
              </a:rPr>
              <a:t>准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3124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正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3124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正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3124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正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3124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17"/>
                </a:solidFill>
                <a:latin typeface="Times New Roman"/>
                <a:ea typeface="文鼎CS魏碑"/>
              </a:rPr>
              <a:t>正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3124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17"/>
                </a:solidFill>
                <a:latin typeface="Times New Roman"/>
                <a:ea typeface="文鼎CS魏碑"/>
              </a:rPr>
              <a:t>正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1371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精密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371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17"/>
                </a:solidFill>
                <a:latin typeface="Times New Roman"/>
                <a:ea typeface="文鼎CS魏碑"/>
              </a:rPr>
              <a:t>精密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1371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精密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1371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17"/>
                </a:solidFill>
                <a:latin typeface="Times New Roman"/>
                <a:ea typeface="文鼎CS魏碑"/>
              </a:rPr>
              <a:t>精密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1371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精密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8360" y="333000"/>
            <a:ext cx="6750000" cy="4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4. </a:t>
            </a:r>
            <a:r>
              <a:rPr b="1" lang="zh-CN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误差的几个基本概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99ff"/>
                </a:solidFill>
                <a:latin typeface="Times New Roman"/>
                <a:ea typeface="仿宋_GB2312"/>
              </a:rPr>
              <a:t>系统误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4038480"/>
            <a:ext cx="685800" cy="0"/>
          </a:xfrm>
          <a:prstGeom prst="line">
            <a:avLst/>
          </a:prstGeom>
          <a:ln w="38160">
            <a:solidFill>
              <a:srgbClr val="ff48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2286000"/>
            <a:ext cx="685800" cy="0"/>
          </a:xfrm>
          <a:prstGeom prst="line">
            <a:avLst/>
          </a:prstGeom>
          <a:ln w="38160">
            <a:solidFill>
              <a:srgbClr val="ff48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1905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99ff"/>
                </a:solidFill>
                <a:latin typeface="Times New Roman"/>
                <a:ea typeface="仿宋_GB2312"/>
              </a:rPr>
              <a:t>偶然误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371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①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4876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③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3200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②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75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75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75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75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7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19920" y="21337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200400" y="21337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267080" y="3200400"/>
            <a:ext cx="90720" cy="9036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3276720"/>
            <a:ext cx="75960" cy="7596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3352680"/>
            <a:ext cx="76320" cy="7632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81280"/>
            <a:ext cx="90720" cy="9072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91120" y="3581280"/>
            <a:ext cx="90360" cy="9072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743200"/>
            <a:ext cx="76320" cy="76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2743200"/>
            <a:ext cx="76320" cy="76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2590920"/>
            <a:ext cx="76320" cy="75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2743200"/>
            <a:ext cx="76320" cy="76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2666880"/>
            <a:ext cx="76320" cy="76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86600" y="3352680"/>
            <a:ext cx="90360" cy="9072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15200" y="3352680"/>
            <a:ext cx="90360" cy="9072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3505320"/>
            <a:ext cx="90360" cy="9036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3505320"/>
            <a:ext cx="90720" cy="9036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3429000"/>
            <a:ext cx="90720" cy="9036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51055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图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51814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图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  <a:ea typeface="仿宋_GB2312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25240" y="5181480"/>
            <a:ext cx="10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图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  <a:ea typeface="仿宋_GB2312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Book Antiqua"/>
                <a:ea typeface="仿宋_GB2312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85800"/>
            <a:ext cx="20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精密度高正确度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精密度低正确度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70520" y="9144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准确度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000"/>
                            </p:stCondLst>
                            <p:childTnLst>
                              <p:par>
                                <p:cTn id="58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500"/>
                            </p:stCondLst>
                            <p:childTnLst>
                              <p:par>
                                <p:cTn id="59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500"/>
                            </p:stCondLst>
                            <p:childTnLst>
                              <p:par>
                                <p:cTn id="63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7000"/>
                            </p:stCondLst>
                            <p:childTnLst>
                              <p:par>
                                <p:cTn id="64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6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000"/>
                            </p:stCondLst>
                            <p:childTnLst>
                              <p:par>
                                <p:cTn id="67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500"/>
                            </p:stCondLst>
                            <p:childTnLst>
                              <p:par>
                                <p:cTn id="67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7000"/>
                            </p:stCondLst>
                            <p:childTnLst>
                              <p:par>
                                <p:cTn id="68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059120" y="304920"/>
            <a:ext cx="73400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测量的四要素是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和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误差按性质可分为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和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</a:t>
            </a:r>
            <a:br>
              <a:rPr sz="4000"/>
            </a:b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误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52920" y="228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Impact"/>
              </a:rPr>
              <a:t>对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67520" y="228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Impact"/>
              </a:rPr>
              <a:t>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144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Impact"/>
              </a:rPr>
              <a:t>单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33080" y="1447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Impact"/>
              </a:rPr>
              <a:t>准确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4160" y="3276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Impact"/>
              </a:rPr>
              <a:t>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20160" y="3276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Impact"/>
              </a:rPr>
              <a:t>偶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9360" y="5334120"/>
            <a:ext cx="150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修正值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93360" y="53341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宋体"/>
              </a:rPr>
              <a:t>真值 </a:t>
            </a:r>
            <a:r>
              <a:rPr b="1" i="1" lang="en-US" sz="4000" spc="-1" strike="noStrike">
                <a:solidFill>
                  <a:srgbClr val="cc3300"/>
                </a:solidFill>
                <a:latin typeface="宋体"/>
              </a:rPr>
              <a:t>- </a:t>
            </a:r>
            <a:r>
              <a:rPr b="1" i="1" lang="zh-CN" sz="4000" spc="-1" strike="noStrike">
                <a:solidFill>
                  <a:srgbClr val="cc3300"/>
                </a:solidFill>
                <a:latin typeface="宋体"/>
              </a:rPr>
              <a:t>测量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432080" y="15408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85320" y="914400"/>
            <a:ext cx="717804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凡可用仪器量具直接读出某物理量值</a:t>
            </a:r>
            <a:br>
              <a:rPr sz="4000"/>
            </a:b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称为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测量，例如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__</a:t>
            </a:r>
            <a:r>
              <a:rPr b="1" lang="en-US" sz="4000" spc="-1" strike="noStrike" u="sng">
                <a:solidFill>
                  <a:srgbClr val="177810"/>
                </a:solidFill>
                <a:uFillTx/>
                <a:latin typeface="Times New Roman"/>
                <a:ea typeface="宋体"/>
              </a:rPr>
              <a:t>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；</a:t>
            </a:r>
            <a:br>
              <a:rPr sz="4000"/>
            </a:b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在直接测出与被量具有一定函数关系</a:t>
            </a:r>
            <a:br>
              <a:rPr sz="4000"/>
            </a:b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的几个量后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通过函数关系式确定被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量的大小的测量称为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测量，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如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____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64080" y="1471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3300"/>
                </a:solidFill>
                <a:latin typeface="Impact"/>
              </a:rPr>
              <a:t>直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29280" y="14716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3300"/>
                </a:solidFill>
                <a:latin typeface="Impact"/>
              </a:rPr>
              <a:t>米尺测长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45360" y="3452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3300"/>
                </a:solidFill>
                <a:latin typeface="Impact"/>
              </a:rPr>
              <a:t>间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45400" y="4216320"/>
            <a:ext cx="23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3300"/>
                </a:solidFill>
                <a:latin typeface="Times New Roman"/>
              </a:rPr>
              <a:t>V=S/t </a:t>
            </a:r>
            <a:r>
              <a:rPr b="1" i="1" lang="zh-CN" sz="3600" spc="-1" strike="noStrike">
                <a:solidFill>
                  <a:srgbClr val="cc3300"/>
                </a:solidFill>
                <a:latin typeface="Times New Roman"/>
              </a:rPr>
              <a:t>测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81560" y="533520"/>
            <a:ext cx="755064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Impact"/>
              </a:rPr>
              <a:t>三角形三内角和的测量值是                               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Impact"/>
              </a:rPr>
              <a:t>其绝对误差等于</a:t>
            </a:r>
            <a:r>
              <a:rPr b="1" lang="en-US" sz="3600" spc="-1" strike="noStrike">
                <a:solidFill>
                  <a:srgbClr val="996633"/>
                </a:solidFill>
                <a:latin typeface="Impact"/>
              </a:rPr>
              <a:t>_________</a:t>
            </a:r>
            <a:r>
              <a:rPr b="1" lang="zh-CN" sz="3600" spc="-1" strike="noStrike">
                <a:solidFill>
                  <a:srgbClr val="996633"/>
                </a:solidFill>
                <a:latin typeface="Impact"/>
              </a:rPr>
              <a:t>，修正值是</a:t>
            </a:r>
            <a:r>
              <a:rPr b="1" lang="en-US" sz="3600" spc="-1" strike="noStrike">
                <a:solidFill>
                  <a:srgbClr val="996633"/>
                </a:solidFill>
                <a:latin typeface="Impact"/>
              </a:rPr>
              <a:t>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Impact"/>
              </a:rPr>
              <a:t>_____________</a:t>
            </a:r>
            <a:r>
              <a:rPr b="1" lang="zh-CN" sz="3600" spc="-1" strike="noStrike">
                <a:solidFill>
                  <a:srgbClr val="996633"/>
                </a:solidFill>
                <a:latin typeface="Impact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Impact"/>
              </a:rPr>
              <a:t>下列几个测量结果中，测量精度最低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Impact"/>
              </a:rPr>
              <a:t>（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01520" y="4648320"/>
                <a:ext cx="90424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867280" y="609480"/>
                <a:ext cx="2248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657600" y="1143000"/>
                <a:ext cx="22827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914400" y="1828800"/>
                <a:ext cx="22287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1068120" y="3809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5120" y="533160"/>
            <a:ext cx="43228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1.</a:t>
            </a:r>
            <a:r>
              <a:rPr b="1" lang="en-US" sz="4200" spc="-1" strike="noStrike">
                <a:solidFill>
                  <a:srgbClr val="ff3d3d"/>
                </a:solidFill>
                <a:latin typeface="楷体_GB2312"/>
                <a:ea typeface="楷体_GB2312"/>
              </a:rPr>
              <a:t> </a:t>
            </a:r>
            <a:r>
              <a:rPr b="1" lang="zh-CN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测量的含义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898640"/>
            <a:ext cx="77788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876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测量就是把待测物理量与作为计量单位的同类已知量相比较，找出被测量是单位的多少倍的过程</a:t>
            </a:r>
            <a:r>
              <a:rPr b="0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510552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876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测量的要素：对象，单位，方法，准确度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lvl="2" marL="937080" indent="-187200">
              <a:spcBef>
                <a:spcPts val="876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倍数→ 读数</a:t>
            </a:r>
            <a:r>
              <a:rPr b="1" lang="en-US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+</a:t>
            </a:r>
            <a:r>
              <a:rPr b="1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单位→数据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593640"/>
            <a:ext cx="518508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2. </a:t>
            </a:r>
            <a:r>
              <a:rPr b="1" lang="zh-CN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测量的分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905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按方法分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3434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按条件分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63600" y="2500200"/>
            <a:ext cx="2408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直接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4290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间接测量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仿宋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34290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间接测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4290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间接测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34290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间接测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56386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非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133360" y="5638680"/>
            <a:ext cx="3352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非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56386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非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56386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非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7960" y="480060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7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306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 u="sng">
                <a:solidFill>
                  <a:srgbClr val="003366"/>
                </a:solidFill>
                <a:uFillTx/>
                <a:latin typeface="文鼎CS舒同体"/>
                <a:ea typeface="文鼎CS舒同体"/>
              </a:rPr>
              <a:t>二</a:t>
            </a:r>
            <a:r>
              <a:rPr b="1" lang="en-US" sz="4200" spc="-1" strike="noStrike" u="sng">
                <a:solidFill>
                  <a:srgbClr val="003366"/>
                </a:solidFill>
                <a:uFillTx/>
                <a:latin typeface="文鼎CS舒同体"/>
                <a:ea typeface="文鼎CS舒同体"/>
              </a:rPr>
              <a:t>. </a:t>
            </a:r>
            <a:r>
              <a:rPr b="1" lang="zh-CN" sz="4200" spc="-1" strike="noStrike" u="sng">
                <a:solidFill>
                  <a:srgbClr val="003366"/>
                </a:solidFill>
                <a:uFillTx/>
                <a:latin typeface="文鼎CS舒同体"/>
                <a:ea typeface="文鼎CS舒同体"/>
              </a:rPr>
              <a:t>误差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1828800"/>
            <a:ext cx="5257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1. </a:t>
            </a:r>
            <a:r>
              <a:rPr b="1" lang="zh-CN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绝对误差与相对误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809880"/>
            <a:ext cx="38098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3</a:t>
            </a:r>
            <a:r>
              <a:rPr b="1" lang="zh-CN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．误差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800600"/>
            <a:ext cx="50292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4</a:t>
            </a:r>
            <a:r>
              <a:rPr b="1" lang="zh-CN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．误差的几个基本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819520"/>
            <a:ext cx="30481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2</a:t>
            </a:r>
            <a:r>
              <a:rPr b="1" lang="zh-CN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．误差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141ff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5120" y="352080"/>
            <a:ext cx="66009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1. </a:t>
            </a:r>
            <a:r>
              <a:rPr b="1" lang="zh-CN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绝对误差与相对误差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141ff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600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①</a:t>
            </a:r>
            <a:r>
              <a:rPr b="1" lang="en-US" sz="36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.</a:t>
            </a:r>
            <a:r>
              <a:rPr b="1" lang="zh-CN" sz="36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绝对误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76240" y="4038480"/>
            <a:ext cx="7240680" cy="685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7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5120" y="533160"/>
            <a:ext cx="43228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1.</a:t>
            </a:r>
            <a:r>
              <a:rPr b="1" lang="en-US" sz="4200" spc="-1" strike="noStrike">
                <a:solidFill>
                  <a:srgbClr val="ff3d3d"/>
                </a:solidFill>
                <a:latin typeface="楷体_GB2312"/>
                <a:ea typeface="楷体_GB2312"/>
              </a:rPr>
              <a:t> </a:t>
            </a:r>
            <a:r>
              <a:rPr b="1" lang="zh-CN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测量的含义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898640"/>
            <a:ext cx="77788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876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测量就是把待测物理量与作为计量单位的同类已知量相比较，找出被测量是单位的多少倍的过程</a:t>
            </a:r>
            <a:r>
              <a:rPr b="0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510552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876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测量的要素：对象，单位，方法，准确度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lvl="2" marL="937080" indent="-187200">
              <a:spcBef>
                <a:spcPts val="876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倍数→ 读数</a:t>
            </a:r>
            <a:r>
              <a:rPr b="1" lang="en-US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+</a:t>
            </a:r>
            <a:r>
              <a:rPr b="1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单位→数据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75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593640"/>
            <a:ext cx="518508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2. </a:t>
            </a:r>
            <a:r>
              <a:rPr b="1" lang="zh-CN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测量的分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1905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按方法分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43434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按条件分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63600" y="2500200"/>
            <a:ext cx="2408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直接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34290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间接测量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仿宋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34290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间接测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4290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间接测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4290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间接测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6386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非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133360" y="5638680"/>
            <a:ext cx="3352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非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56386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非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56386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非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7960" y="480060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7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306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 u="sng">
                <a:solidFill>
                  <a:srgbClr val="003366"/>
                </a:solidFill>
                <a:uFillTx/>
                <a:latin typeface="文鼎CS舒同体"/>
                <a:ea typeface="文鼎CS舒同体"/>
              </a:rPr>
              <a:t>二</a:t>
            </a:r>
            <a:r>
              <a:rPr b="1" lang="en-US" sz="4200" spc="-1" strike="noStrike" u="sng">
                <a:solidFill>
                  <a:srgbClr val="003366"/>
                </a:solidFill>
                <a:uFillTx/>
                <a:latin typeface="文鼎CS舒同体"/>
                <a:ea typeface="文鼎CS舒同体"/>
              </a:rPr>
              <a:t>. </a:t>
            </a:r>
            <a:r>
              <a:rPr b="1" lang="zh-CN" sz="4200" spc="-1" strike="noStrike" u="sng">
                <a:solidFill>
                  <a:srgbClr val="003366"/>
                </a:solidFill>
                <a:uFillTx/>
                <a:latin typeface="文鼎CS舒同体"/>
                <a:ea typeface="文鼎CS舒同体"/>
              </a:rPr>
              <a:t>误差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1828800"/>
            <a:ext cx="5257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1. </a:t>
            </a:r>
            <a:r>
              <a:rPr b="1" lang="zh-CN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绝对误差与相对误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3809880"/>
            <a:ext cx="38098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3</a:t>
            </a:r>
            <a:r>
              <a:rPr b="1" lang="zh-CN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．误差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4800600"/>
            <a:ext cx="50292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4</a:t>
            </a:r>
            <a:r>
              <a:rPr b="1" lang="zh-CN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．误差的几个基本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2819520"/>
            <a:ext cx="30481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2</a:t>
            </a:r>
            <a:r>
              <a:rPr b="1" lang="zh-CN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．误差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7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7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7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7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7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141ff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5120" y="352080"/>
            <a:ext cx="66009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1. </a:t>
            </a:r>
            <a:r>
              <a:rPr b="1" lang="zh-CN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绝对误差与相对误差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141ff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600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①</a:t>
            </a:r>
            <a:r>
              <a:rPr b="1" lang="en-US" sz="36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.</a:t>
            </a:r>
            <a:r>
              <a:rPr b="1" lang="zh-CN" sz="36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绝对误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76240" y="4038480"/>
            <a:ext cx="724068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5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3:00:0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