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gif" ContentType="image/gif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1.jpeg" ContentType="image/jpeg"/>
  <Override PartName="/ppt/media/image29.jpeg" ContentType="image/jpeg"/>
  <Override PartName="/ppt/media/image33.gif" ContentType="image/gif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DING.WAV" ContentType="audio/x-wav"/>
  <Override PartName="/ppt/media/image4.jpeg" ContentType="image/jpeg"/>
  <Override PartName="/ppt/media/image25.jpeg" ContentType="image/jpeg"/>
  <Override PartName="/ppt/media/image13.gif" ContentType="image/gif"/>
  <Override PartName="/ppt/media/image16.jpeg" ContentType="image/jpeg"/>
  <Override PartName="/ppt/media/image9.gif" ContentType="image/gif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D88-A138-4142-89C5-3A0920DE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FD8-A243-4581-8672-2DEFCBBC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934-4861-43AC-A4DB-73CBAB58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0E9-0071-4E33-A776-40D4227C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2B39-2347-4051-8BF0-25CE1325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2F3-1C1D-4435-AABD-28915571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830A-8C7D-4CBC-AF68-0AA4BB9A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3729-7BEC-43A5-98CF-D7EAAAEC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4DEE-508F-4283-8999-B3CB045B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68D2-FAE6-4C4F-8B5B-F9CCB3D2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57D4-534A-4648-857B-2A63EA01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2D3-79F0-4304-AE2B-CE1D264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4544-F9D0-441E-9E24-A675954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90D8-1D87-4A65-BBA5-DBDD7EBD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26E3-AFC5-4C17-B643-17321DF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BE6-5846-4F9C-B6E7-181A5DDB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4703-B6C7-49F6-90EF-3EB762B9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D4C5-DAFA-4937-93BA-73D39693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45DA-8DF6-41FF-9A6B-C00EF3AA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9959-4432-4D90-9C6B-71F2AC3E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89F0-9887-459B-9CB1-E2B5D8ED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E7CB-22C2-457F-98AB-DA4A5D4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29B-41F2-43A5-9A1C-0BF2804E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3583-834A-4E5F-8A34-A83358E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8209-A404-4DBF-AD60-C417E7D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E489-C6D7-43BD-9E6B-210F27C3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3AFC-419A-41D5-9785-82F6D9BB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5EF1-D738-498F-A1DC-2652C1F1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DFDA-4CDC-4B68-A013-7A050D80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DA5F-AB08-4502-AAF3-12F2EEA3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46E-7348-456B-B813-452C4D02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0D2-43FD-4486-8E13-377D96D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89A-02D5-4671-A58E-74FC2B1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A21-C7D8-4C6A-9084-4F85C657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D23-DF5F-4F76-9F37-43431FCB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06B-04EA-4364-BB1A-F6D21D89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61E0-F765-467E-8693-A76FE255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仿宋_GB2312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仿宋_GB2312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仿宋_GB2312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仿宋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BAA3-DAC8-4D9B-9B37-000C5CBE30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D13B-A02A-49D4-B6DF-1B6009473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file:///tmp/home/.config/libreoffice/4/user/gallery/push.wav" TargetMode="External"/><Relationship Id="rId5" Type="http://schemas.microsoft.com/office/2007/relationships/media" Target="file:///tmp/home/.config/libreoffice/4/user/gallery/push.wav" TargetMode="Externa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翠鸟 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762120" y="3808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35280" y="403200"/>
            <a:ext cx="53294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ff0000"/>
                </a:solidFill>
                <a:latin typeface="方正舒体"/>
                <a:ea typeface="方正舒体"/>
              </a:rPr>
              <a:t> 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73880" y="333360"/>
            <a:ext cx="2800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翠鸟课件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69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它的颜色非常鲜艳。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头上的羽毛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像</a:t>
            </a:r>
            <a:r>
              <a:rPr b="1" lang="zh-CN" sz="4400" spc="-1" strike="noStrike">
                <a:solidFill>
                  <a:srgbClr val="b4e6be"/>
                </a:solidFill>
                <a:latin typeface="Tahoma"/>
              </a:rPr>
              <a:t>橄榄色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的头巾，绣满了</a:t>
            </a:r>
            <a:r>
              <a:rPr b="1" lang="zh-CN" sz="4400" spc="-1" strike="noStrike">
                <a:solidFill>
                  <a:srgbClr val="00c600"/>
                </a:solidFill>
                <a:latin typeface="Tahoma"/>
              </a:rPr>
              <a:t>翠绿色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的花纹。</a:t>
            </a:r>
            <a:r>
              <a:rPr b="1" lang="zh-CN" sz="4400" spc="-1" strike="noStrike">
                <a:solidFill>
                  <a:srgbClr val="ff5050"/>
                </a:solidFill>
                <a:latin typeface="Tahoma"/>
              </a:rPr>
              <a:t>背上的羽毛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像</a:t>
            </a:r>
            <a:r>
              <a:rPr b="1" lang="zh-CN" sz="4400" spc="-1" strike="noStrike">
                <a:solidFill>
                  <a:srgbClr val="b4e6be"/>
                </a:solidFill>
                <a:latin typeface="Tahoma"/>
              </a:rPr>
              <a:t>浅绿色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的外衣。</a:t>
            </a:r>
            <a:r>
              <a:rPr b="1" lang="zh-CN" sz="4400" spc="-1" strike="noStrike">
                <a:solidFill>
                  <a:srgbClr val="ff5050"/>
                </a:solidFill>
                <a:latin typeface="Tahoma"/>
              </a:rPr>
              <a:t>腹部的羽毛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像</a:t>
            </a:r>
            <a:r>
              <a:rPr b="1" lang="zh-CN" sz="4400" spc="-1" strike="noStrike">
                <a:solidFill>
                  <a:srgbClr val="996633"/>
                </a:solidFill>
                <a:latin typeface="Tahoma"/>
              </a:rPr>
              <a:t>赤褐色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的衬衫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8028000" y="5805360"/>
            <a:ext cx="720720" cy="287640"/>
          </a:xfrm>
          <a:custGeom>
            <a:avLst/>
            <a:gdLst>
              <a:gd name="textAreaLeft" fmla="*/ 18000 w 720720"/>
              <a:gd name="textAreaRight" fmla="*/ 703080 w 720720"/>
              <a:gd name="textAreaTop" fmla="*/ 18000 h 287640"/>
              <a:gd name="textAreaBottom" fmla="*/ 270000 h 287640"/>
            </a:gdLst>
            <a:ahLst/>
            <a:rect l="textAreaLeft" t="textAreaTop" r="textAreaRight" b="textAreaBottom"/>
            <a:pathLst>
              <a:path w="54081" h="21600">
                <a:moveTo>
                  <a:pt x="0" y="0"/>
                </a:moveTo>
                <a:lnTo>
                  <a:pt x="54081" y="0"/>
                </a:lnTo>
                <a:lnTo>
                  <a:pt x="54081" y="21600"/>
                </a:lnTo>
                <a:lnTo>
                  <a:pt x="0" y="21600"/>
                </a:lnTo>
                <a:close/>
              </a:path>
              <a:path fill="lightenLess" w="54081" h="21600">
                <a:moveTo>
                  <a:pt x="0" y="0"/>
                </a:moveTo>
                <a:lnTo>
                  <a:pt x="54081" y="0"/>
                </a:lnTo>
                <a:lnTo>
                  <a:pt x="52731" y="1350"/>
                </a:lnTo>
                <a:lnTo>
                  <a:pt x="1350" y="1350"/>
                </a:lnTo>
                <a:close/>
              </a:path>
              <a:path fill="darken" w="54081" h="21600">
                <a:moveTo>
                  <a:pt x="54081" y="0"/>
                </a:moveTo>
                <a:lnTo>
                  <a:pt x="54081" y="21600"/>
                </a:lnTo>
                <a:lnTo>
                  <a:pt x="52731" y="20250"/>
                </a:lnTo>
                <a:lnTo>
                  <a:pt x="52731" y="1350"/>
                </a:lnTo>
                <a:close/>
              </a:path>
              <a:path fill="darkenLess" w="54081" h="21600">
                <a:moveTo>
                  <a:pt x="540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2731" y="20250"/>
                </a:lnTo>
                <a:close/>
              </a:path>
              <a:path fill="lighten" w="540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4081" h="21600">
                <a:moveTo>
                  <a:pt x="19997" y="3756"/>
                </a:moveTo>
                <a:lnTo>
                  <a:pt x="34084" y="10800"/>
                </a:lnTo>
                <a:lnTo>
                  <a:pt x="19997" y="1784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11"/>
          <p:cNvPicPr/>
          <p:nvPr/>
        </p:nvPicPr>
        <p:blipFill>
          <a:blip r:embed="rId1"/>
          <a:stretch/>
        </p:blipFill>
        <p:spPr>
          <a:xfrm>
            <a:off x="6442200" y="380880"/>
            <a:ext cx="2701800" cy="2819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0038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172200"/>
            <a:ext cx="476280" cy="460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0039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8200" y="6172200"/>
            <a:ext cx="457200" cy="4428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739800" y="1538280"/>
            <a:ext cx="79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羽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6"/>
          <p:cNvGrpSpPr/>
          <p:nvPr/>
        </p:nvGrpSpPr>
        <p:grpSpPr>
          <a:xfrm>
            <a:off x="1403280" y="2205000"/>
            <a:ext cx="4800600" cy="1526400"/>
            <a:chOff x="1403280" y="2205000"/>
            <a:chExt cx="4800600" cy="1526400"/>
          </a:xfrm>
        </p:grpSpPr>
        <p:sp>
          <p:nvSpPr>
            <p:cNvPr id="248" name="Text Box 7"/>
            <p:cNvSpPr/>
            <p:nvPr/>
          </p:nvSpPr>
          <p:spPr>
            <a:xfrm>
              <a:off x="1403280" y="2205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8"/>
            <p:cNvSpPr/>
            <p:nvPr/>
          </p:nvSpPr>
          <p:spPr>
            <a:xfrm>
              <a:off x="1860480" y="25858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9"/>
            <p:cNvSpPr/>
            <p:nvPr/>
          </p:nvSpPr>
          <p:spPr>
            <a:xfrm>
              <a:off x="4298760" y="2585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403280" y="27385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1"/>
            <p:cNvSpPr/>
            <p:nvPr/>
          </p:nvSpPr>
          <p:spPr>
            <a:xfrm>
              <a:off x="1860480" y="3119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"/>
            <p:cNvSpPr/>
            <p:nvPr/>
          </p:nvSpPr>
          <p:spPr>
            <a:xfrm>
              <a:off x="4298760" y="3119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3"/>
            <p:cNvSpPr/>
            <p:nvPr/>
          </p:nvSpPr>
          <p:spPr>
            <a:xfrm>
              <a:off x="1403280" y="32716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4"/>
            <p:cNvSpPr/>
            <p:nvPr/>
          </p:nvSpPr>
          <p:spPr>
            <a:xfrm>
              <a:off x="1860480" y="36529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5"/>
            <p:cNvSpPr/>
            <p:nvPr/>
          </p:nvSpPr>
          <p:spPr>
            <a:xfrm>
              <a:off x="4298760" y="3652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6"/>
          <p:cNvGrpSpPr/>
          <p:nvPr/>
        </p:nvGrpSpPr>
        <p:grpSpPr>
          <a:xfrm>
            <a:off x="2658960" y="2133720"/>
            <a:ext cx="2332440" cy="1557000"/>
            <a:chOff x="2658960" y="2133720"/>
            <a:chExt cx="2332440" cy="1557000"/>
          </a:xfrm>
        </p:grpSpPr>
        <p:sp>
          <p:nvSpPr>
            <p:cNvPr id="258" name="Text Box 17"/>
            <p:cNvSpPr/>
            <p:nvPr/>
          </p:nvSpPr>
          <p:spPr>
            <a:xfrm>
              <a:off x="2658960" y="2133720"/>
              <a:ext cx="233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腹部的羽毛           衬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8"/>
            <p:cNvSpPr/>
            <p:nvPr/>
          </p:nvSpPr>
          <p:spPr>
            <a:xfrm>
              <a:off x="2658960" y="2133720"/>
              <a:ext cx="233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头上的羽毛           头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2726280" y="2666880"/>
              <a:ext cx="22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背上的羽毛          外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1143000" y="2286000"/>
            <a:ext cx="0" cy="1752480"/>
            <a:chOff x="1143000" y="2286000"/>
            <a:chExt cx="0" cy="1752480"/>
          </a:xfrm>
        </p:grpSpPr>
        <p:sp>
          <p:nvSpPr>
            <p:cNvPr id="262" name="Line 21"/>
            <p:cNvSpPr/>
            <p:nvPr/>
          </p:nvSpPr>
          <p:spPr>
            <a:xfrm>
              <a:off x="1143000" y="2286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2"/>
            <p:cNvSpPr/>
            <p:nvPr/>
          </p:nvSpPr>
          <p:spPr>
            <a:xfrm>
              <a:off x="1143000" y="3429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3"/>
          <p:cNvSpPr/>
          <p:nvPr/>
        </p:nvSpPr>
        <p:spPr>
          <a:xfrm>
            <a:off x="4386240" y="5105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抓住事物的特点按顺序进行观察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4"/>
          <p:cNvSpPr/>
          <p:nvPr/>
        </p:nvSpPr>
        <p:spPr>
          <a:xfrm>
            <a:off x="533520" y="1646280"/>
            <a:ext cx="2209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爪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80880" y="396252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眼睛、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  <p:sndAc>
      <p:stSnd>
        <p:snd r:embed="rId4" name="DING.WAV"/>
      </p:stSnd>
    </p:sndAc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2139347-A-embed"/>
          <p:cNvPicPr/>
          <p:nvPr/>
        </p:nvPicPr>
        <p:blipFill>
          <a:blip r:embed="rId1">
            <a:lum bright="-6000"/>
          </a:blip>
          <a:srcRect l="0" t="0" r="-178" b="13144"/>
          <a:stretch/>
        </p:blipFill>
        <p:spPr>
          <a:xfrm>
            <a:off x="179280" y="620640"/>
            <a:ext cx="8856720" cy="59770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-228600" y="10587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11280" y="285264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思考：为什么作者用“头巾” “外衣”“衬衫”来打比方？体现了作者怎样的一种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403280" y="13478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联系上文，理解“鲜艳”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3964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外形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114560" y="5013360"/>
            <a:ext cx="655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（对翠鸟的喜爱之情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1042920" y="21398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（形容颜色又鲜明又美丽。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26" descr="2139347-A-embed"/>
          <p:cNvPicPr/>
          <p:nvPr/>
        </p:nvPicPr>
        <p:blipFill>
          <a:blip r:embed="rId1"/>
          <a:srcRect l="0" t="0" r="-178" b="13144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27"/>
          <p:cNvSpPr/>
          <p:nvPr/>
        </p:nvSpPr>
        <p:spPr>
          <a:xfrm>
            <a:off x="179280" y="765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外形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28"/>
          <p:cNvSpPr/>
          <p:nvPr/>
        </p:nvSpPr>
        <p:spPr>
          <a:xfrm>
            <a:off x="971640" y="1587600"/>
            <a:ext cx="691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4.“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小巧玲珑”是什么意思？哪些地方能看出它小巧玲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29"/>
          <p:cNvSpPr/>
          <p:nvPr/>
        </p:nvSpPr>
        <p:spPr>
          <a:xfrm>
            <a:off x="3579480" y="3116160"/>
            <a:ext cx="251532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小巧玲珑：形容又小又灵巧精致。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          </a:t>
            </a: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眼：透亮灵活。　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          </a:t>
            </a: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嘴：又尖又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1440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我们的认真观察，我们知道了这只鸟的外形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85800" y="1447920"/>
            <a:ext cx="197964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爪子：头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上：腹部：眼睛：嘴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828800" y="2438280"/>
            <a:ext cx="18288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橄榄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828800" y="3733920"/>
            <a:ext cx="19051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浅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828800" y="4419720"/>
            <a:ext cx="18288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褐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75248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透亮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752480" y="5715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尖又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鸟3"/>
          <p:cNvPicPr/>
          <p:nvPr/>
        </p:nvPicPr>
        <p:blipFill>
          <a:blip r:embed="rId1"/>
          <a:stretch/>
        </p:blipFill>
        <p:spPr>
          <a:xfrm>
            <a:off x="3962520" y="1143000"/>
            <a:ext cx="5105160" cy="47242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"/>
          <p:cNvSpPr/>
          <p:nvPr/>
        </p:nvSpPr>
        <p:spPr>
          <a:xfrm>
            <a:off x="1828800" y="1676520"/>
            <a:ext cx="198108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　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1828800" y="3048120"/>
            <a:ext cx="18288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24000" y="140760"/>
            <a:ext cx="9540720" cy="67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一、填空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、头上的羽毛像（ 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                      ）。</a:t>
            </a:r>
            <a:r>
              <a:rPr b="1" lang="zh-CN" sz="4000" spc="-1" strike="noStrike" u="sng">
                <a:solidFill>
                  <a:srgbClr val="00ffff"/>
                </a:solidFill>
                <a:uFillTx/>
                <a:latin typeface="Tahoma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、背上的羽毛像（                        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、腹部的羽毛像（                        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上面这三句话是（            ）句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、翠鸟小巧玲珑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一双（                  ）的 眼睛下面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ahoma"/>
              </a:rPr>
              <a:t>长着一张（             ）的嘴。 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380360" y="5164200"/>
            <a:ext cx="1763640" cy="1693800"/>
            <a:chOff x="7380360" y="5164200"/>
            <a:chExt cx="1763640" cy="1693800"/>
          </a:xfrm>
        </p:grpSpPr>
        <p:pic>
          <p:nvPicPr>
            <p:cNvPr id="290" name="Picture 3" descr=""/>
            <p:cNvPicPr/>
            <p:nvPr/>
          </p:nvPicPr>
          <p:blipFill>
            <a:blip r:embed="rId2"/>
            <a:stretch/>
          </p:blipFill>
          <p:spPr>
            <a:xfrm>
              <a:off x="7380360" y="5164200"/>
              <a:ext cx="176364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 txBox="1"/>
            <p:nvPr/>
          </p:nvSpPr>
          <p:spPr>
            <a:xfrm>
              <a:off x="7380360" y="5164200"/>
              <a:ext cx="1763640" cy="169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2" name="Text Box 4"/>
          <p:cNvSpPr/>
          <p:nvPr/>
        </p:nvSpPr>
        <p:spPr>
          <a:xfrm>
            <a:off x="5076720" y="9064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橄榄色的头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079960" y="1554120"/>
            <a:ext cx="35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浅褐色的外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156280" y="2351160"/>
            <a:ext cx="35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赤褐色的衬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5856120" y="303696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2195640" y="45068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透亮灵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2484360" y="52452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又长又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95280" y="647280"/>
            <a:ext cx="8352000" cy="587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d981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阅读片段，回答问题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它的颜色非常鲜艳。头上的羽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像橄榄色的头巾，绣满翠绿色的花纹。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上的羽毛像浅绿色的外衣。腹部的羽毛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赤褐色的衬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7d98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）这段话共有（              ）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7d98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）这段话是按照（                 ）的顺序来写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7d981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）这段话是围绕哪一句来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d981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065"/>
          <p:cNvPicPr/>
          <p:nvPr/>
        </p:nvPicPr>
        <p:blipFill>
          <a:blip r:embed="rId1"/>
          <a:stretch/>
        </p:blipFill>
        <p:spPr>
          <a:xfrm>
            <a:off x="7093080" y="189000"/>
            <a:ext cx="2039760" cy="1211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6443640" y="5516640"/>
            <a:ext cx="1943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476360" y="5877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332000" y="5373720"/>
            <a:ext cx="345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4067280" y="3573360"/>
            <a:ext cx="143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3995640" y="3213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905184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187280" y="544500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它的颜色非常鲜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4590360" y="37400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 上 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pic_63998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239760" y="630360"/>
            <a:ext cx="8785080" cy="58942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539640" y="155736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翠鸟鸣声清脆，爱贴着水面疾飞。才见它飞起，一眨眼，它又轻轻地停在苇秆上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50920" y="549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活动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341960" y="907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第一句：动作敏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68360" y="320976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句话表现了翠鸟行动迅速而敏捷的特点。翠鸟在“疾飞”中，眨眼间“轻轻地停在”细软的苇秆上。在“疾飞”与“轻停”的联系中，“敏捷”便显露出来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这里一是讲翠鸟飞得低而快，二是讲停得急而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pic_63998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755640" y="3716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“一动不动” “注视” “等待”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这些词语表现了翠鸟捉鱼时另一个特点是等待小鱼时非常专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6836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活动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016440" y="13730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第二句：专心机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1280" y="220500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它一动不动地注视着泛着微波的水面，等待游到水面上来的小鱼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pic_63999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79280" y="612720"/>
            <a:ext cx="8785440" cy="59119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39528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捉鱼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9640" y="49417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Comic Sans MS"/>
                <a:ea typeface="华文新魏"/>
              </a:rPr>
              <a:t>这说明翠鸟的目光锐利极了，课文中的“锐利”指翠鸟的感觉非常灵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684360" y="3284640"/>
            <a:ext cx="770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课文先说小鱼非常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“机灵”，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再说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“还是难以逃脱”。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这样写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11280" y="1413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尽管小鱼是那样机灵，只悄悄地把头露出水面来吹了个小泡泡，可还是难以逃脱翠鸟锐利的眼睛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09ai"/>
          <p:cNvPicPr/>
          <p:nvPr/>
        </p:nvPicPr>
        <p:blipFill>
          <a:blip r:embed="rId1">
            <a:lum bright="48000"/>
          </a:blip>
          <a:srcRect l="2758" t="5906" r="2362" b="10063"/>
          <a:stretch/>
        </p:blipFill>
        <p:spPr>
          <a:xfrm>
            <a:off x="179280" y="620640"/>
            <a:ext cx="8713800" cy="5985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84360" y="1628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翠鸟，又叫翡翠。它全身翠蓝色，腹面棕色，平时以直挺姿势，栖息在水旁，很长时间一动不动，等待鱼虾游过。每当看到鱼虾，立刻以迅速凶猛的姿势，直扑水中，用嘴捕取。翠鸟的巢常筑在田野堤岸的砂土中，掘成隧道，深为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60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厘米左右。翠鸟的翠羽由于折光缘故，闪闪发光。中国的翠鸟有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种：斑头翠鸟、蓝耳翠鸟和普通翠鸟。最后一种常见，分布也广。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203640" y="62064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华文新魏"/>
              </a:rPr>
              <a:t>翠 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pic_63999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603360"/>
            <a:ext cx="9144000" cy="6281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339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翠鸟（       ）苇秆，（                 ）过去，（         ）那条小鱼，（         ）水面往远处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这句话活灵活现地再现了翠鸟捉鱼的经过。括号里的词语是翠鸟捉鱼时一连串的动作，都是在一瞬间进行的，甚至连机灵的小鱼都没有反应过来。说明翠鸟捉鱼的动作熟练、连贯、毫不犹豫，而且从未落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007440" y="137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蹬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012000" y="134136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像箭一样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268360" y="191304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叼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6734160" y="19130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贴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2982240" y="2489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飞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250920" y="549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捉鱼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7" descr="44"/>
          <p:cNvPicPr/>
          <p:nvPr/>
        </p:nvPicPr>
        <p:blipFill>
          <a:blip r:embed="rId1"/>
          <a:stretch/>
        </p:blipFill>
        <p:spPr>
          <a:xfrm>
            <a:off x="-468360" y="1844640"/>
            <a:ext cx="4969080" cy="6121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52"/>
          <p:cNvPicPr/>
          <p:nvPr/>
        </p:nvPicPr>
        <p:blipFill>
          <a:blip r:embed="rId2"/>
          <a:stretch/>
        </p:blipFill>
        <p:spPr>
          <a:xfrm>
            <a:off x="0" y="0"/>
            <a:ext cx="4356000" cy="3933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5" descr="27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3933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22"/>
          <p:cNvPicPr/>
          <p:nvPr/>
        </p:nvPicPr>
        <p:blipFill>
          <a:blip r:embed="rId4"/>
          <a:stretch/>
        </p:blipFill>
        <p:spPr>
          <a:xfrm>
            <a:off x="4356000" y="3860640"/>
            <a:ext cx="4788000" cy="34560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8"/>
          <p:cNvSpPr/>
          <p:nvPr/>
        </p:nvSpPr>
        <p:spPr>
          <a:xfrm>
            <a:off x="-468360" y="1484280"/>
            <a:ext cx="4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0" y="7389720"/>
            <a:ext cx="471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1908000" y="6033960"/>
            <a:ext cx="22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疾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1403280" y="278136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像箭一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7740720" y="292428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蹬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6227640" y="6453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叼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pic_63999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1123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翠鸟为什么能停在苇秆上“一动不动地注视着泛着微波的水面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翠鸟为什么目光“锐利”，能发现机灵的小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翠鸟为什么能在疾飞中叼起水中的小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翠鸟为什么能贴着水面低飞？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96720" y="6174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说说翠鸟捉鱼的本领与它的外形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068560" y="1484280"/>
            <a:ext cx="4785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                  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（因为它有一双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紧紧抓住苇秆”的小爪子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875760" y="3068640"/>
            <a:ext cx="2567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（因为它有一双“透亮灵活”的眼睛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649320" y="400536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（因为它有一张“又尖又长”的嘴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3088800" y="4986360"/>
            <a:ext cx="240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（那是因为它“小巧玲珑”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1788840" y="5516640"/>
            <a:ext cx="56851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翠鸟捉鱼的本领是由它的外形决定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并且是由各部分的特点整体发挥作用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1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358719-DSCF0735_2-embed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7993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 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在欣赏了翠鸟美丽的外形和捉鱼的精彩表演之后，你会产生什么想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 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但这种想法可能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 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于是，我们只能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…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4 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假如你有机会接近甚至捉到了翠鸟，你该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08000" y="579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保护翠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5640" y="2276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真想捉一只翠鸟来饲养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”强调“真想”，感受那种非常喜爱、迫不及待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826920" y="4508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从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远远地看着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希望它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多停一会儿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”中感受对翠鸟的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5292720" y="342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不可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20041012104256169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324000" y="1844640"/>
            <a:ext cx="84596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　①一眨眼，翠鸟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轻轻地停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在苇秆上了。</a:t>
            </a:r>
            <a:br>
              <a:rPr sz="3200"/>
            </a:b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②一会儿，翠鸟又站在苇秆上了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　①翠鸟鸣声清脆，爱贴着水面飞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　②翠鸟鸣声清脆，爱贴着水面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疾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飞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①翠鸟蹬开苇秆，很快的飞过去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　②翠鸟蹬开苇秆，像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箭一样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飞过去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①它一动不动地看着泛着微波的水面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　②它一动不动地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注视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着泛着微波的水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8600" y="33447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108000" y="4348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巩固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755640" y="155736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539640" y="2205000"/>
            <a:ext cx="216000" cy="7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539640" y="3429000"/>
            <a:ext cx="144720" cy="720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468360" y="465300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468360" y="587844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684360" y="9428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比较下面的句子，看看哪句话用得好，好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17440" y="333360"/>
            <a:ext cx="86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真想捉一只翠鸟来饲养。老渔翁看了看我们说：“孩子们，你们知道翠鸟的家在哪里？沿着小溪上去，在那陡峭的石壁上。它从那么远的地方飞到这里来，是要和你们做朋友的呀！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我们的脸有些发红，打消了这个念头。在翠鸟飞来的时候，我们远远地看着它那美丽的羽毛，希望它在苇秆上多停一会儿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217440" y="333360"/>
            <a:ext cx="86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真想捉一只翠鸟来饲养。老渔翁看了看我们说：“孩子们，你们知道翠鸟的家在哪里？沿着小溪上去，在那陡峭的石壁上。它从那么远的地方飞到这里来，是要和你们做朋友的呀！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们的脸有些发红，打消了这个念头。在翠鸟飞来的时候，我们远远地看着它那美丽的羽毛，希望它在苇秆上多停一会儿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3" descr="2M8JF64H0Z_203_500_320"/>
          <p:cNvPicPr/>
          <p:nvPr/>
        </p:nvPicPr>
        <p:blipFill>
          <a:blip r:embed="rId1"/>
          <a:stretch/>
        </p:blipFill>
        <p:spPr>
          <a:xfrm>
            <a:off x="-181080" y="3141720"/>
            <a:ext cx="2952720" cy="3716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3085837491"/>
          <p:cNvPicPr/>
          <p:nvPr/>
        </p:nvPicPr>
        <p:blipFill>
          <a:blip r:embed="rId2"/>
          <a:stretch/>
        </p:blipFill>
        <p:spPr>
          <a:xfrm>
            <a:off x="0" y="0"/>
            <a:ext cx="2771640" cy="3213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2_6_02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3184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1024x768_002"/>
          <p:cNvPicPr/>
          <p:nvPr/>
        </p:nvPicPr>
        <p:blipFill>
          <a:blip r:embed="rId4"/>
          <a:stretch/>
        </p:blipFill>
        <p:spPr>
          <a:xfrm>
            <a:off x="5867280" y="3141720"/>
            <a:ext cx="3276720" cy="3716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20070703_b7cb15d9c8fd044cf559lcaFH7hnKlHy"/>
          <p:cNvPicPr/>
          <p:nvPr/>
        </p:nvPicPr>
        <p:blipFill>
          <a:blip r:embed="rId5"/>
          <a:stretch/>
        </p:blipFill>
        <p:spPr>
          <a:xfrm>
            <a:off x="2771640" y="3141720"/>
            <a:ext cx="3095640" cy="371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4" descr="L83IK5405Q_203_180_160"/>
          <p:cNvPicPr/>
          <p:nvPr/>
        </p:nvPicPr>
        <p:blipFill>
          <a:blip r:embed="rId6"/>
          <a:stretch/>
        </p:blipFill>
        <p:spPr>
          <a:xfrm>
            <a:off x="2771640" y="0"/>
            <a:ext cx="3095640" cy="31417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6"/>
          <p:cNvSpPr/>
          <p:nvPr/>
        </p:nvSpPr>
        <p:spPr>
          <a:xfrm>
            <a:off x="0" y="3213000"/>
            <a:ext cx="68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鸟是人类的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63817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9"/>
          <p:cNvSpPr/>
          <p:nvPr/>
        </p:nvSpPr>
        <p:spPr>
          <a:xfrm>
            <a:off x="0" y="0"/>
            <a:ext cx="9396360" cy="731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9dae06042b45417b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3762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12022"/>
          <p:cNvPicPr/>
          <p:nvPr/>
        </p:nvPicPr>
        <p:blipFill>
          <a:blip r:embed="rId2"/>
          <a:stretch/>
        </p:blipFill>
        <p:spPr>
          <a:xfrm>
            <a:off x="5508720" y="3716280"/>
            <a:ext cx="3635280" cy="3141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58"/>
          <p:cNvPicPr/>
          <p:nvPr/>
        </p:nvPicPr>
        <p:blipFill>
          <a:blip r:embed="rId3"/>
          <a:stretch/>
        </p:blipFill>
        <p:spPr>
          <a:xfrm>
            <a:off x="0" y="0"/>
            <a:ext cx="5508720" cy="37162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"/>
          <p:cNvSpPr/>
          <p:nvPr/>
        </p:nvSpPr>
        <p:spPr>
          <a:xfrm>
            <a:off x="250920" y="4076640"/>
            <a:ext cx="1873080" cy="703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250920" y="537372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你还熟悉哪种鸟类？请动手写一写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7" dur="343794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5D6-CD67-46FB-AF82-5B737C3459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360" y="27000"/>
            <a:ext cx="100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选词填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贴    飞    叼     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翠鸟（     ）开苇秆，像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样（    ）过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 ）起那条小鱼，（    ）着水面往远处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走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3833640" y="17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2195640" y="2565360"/>
            <a:ext cx="6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7937280" y="3357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320560" y="3284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560920" y="2565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867280" y="5300640"/>
            <a:ext cx="201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9" descr="38"/>
          <p:cNvPicPr/>
          <p:nvPr/>
        </p:nvPicPr>
        <p:blipFill>
          <a:blip r:embed="rId1"/>
          <a:stretch/>
        </p:blipFill>
        <p:spPr>
          <a:xfrm>
            <a:off x="6732720" y="4797360"/>
            <a:ext cx="2160360" cy="17668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900000" y="537372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pic_227455[1]"/>
          <p:cNvPicPr/>
          <p:nvPr/>
        </p:nvPicPr>
        <p:blipFill>
          <a:blip r:embed="rId1"/>
          <a:stretch/>
        </p:blipFill>
        <p:spPr>
          <a:xfrm>
            <a:off x="1763640" y="0"/>
            <a:ext cx="6337440" cy="256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2771640" y="333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合 作 交 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11280" y="3141720"/>
            <a:ext cx="216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一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二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三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四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五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843280" y="31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的颜色鲜艳、小巧玲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843280" y="3716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鸣声清脆，爱贴着水面疾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2843280" y="4384800"/>
            <a:ext cx="48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捕鱼时动作迅速、敏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843280" y="5013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的家在陡峭的石壁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843280" y="5661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们”把翠鸟当成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4" descr="005ae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3852720" y="-2475000"/>
            <a:ext cx="12996720" cy="9333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627280" y="2185920"/>
            <a:ext cx="64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亲爱的小朋友，知道我为什么在很远的陡峭的石壁上居住吗？请到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万个为什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动物篇中寻找答案吧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xyx2"/>
          <p:cNvPicPr/>
          <p:nvPr/>
        </p:nvPicPr>
        <p:blipFill>
          <a:blip r:embed="rId2"/>
          <a:stretch/>
        </p:blipFill>
        <p:spPr>
          <a:xfrm>
            <a:off x="3924360" y="333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053192330167946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79280" y="614520"/>
            <a:ext cx="8785440" cy="5983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4248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停               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秆               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               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076720" y="1916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ě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547640" y="1916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í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846520" y="1916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停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300720" y="1916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芦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248436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619280" y="292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gǎ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4720" y="292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苇秆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148360" y="2924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i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630072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绣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692360" y="4005360"/>
            <a:ext cx="18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2844720" y="4002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腹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5219640" y="40086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300720" y="4005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褐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619280" y="501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tuō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843280" y="501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逃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53192330167946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79280" y="614520"/>
            <a:ext cx="8785440" cy="5983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4248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锐               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箭               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漾               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翁               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076720" y="1916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dē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836720" y="191628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ru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989440" y="19130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锐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445080" y="1916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蹬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76220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989440" y="292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火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5076720" y="2924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diā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644364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叼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547640" y="4005360"/>
            <a:ext cx="21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2987640" y="4002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荡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5292720" y="40086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6443640" y="4005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饲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1547640" y="5013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ē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987640" y="501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渔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5219640" y="5013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dǎ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443640" y="501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逮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005319233016794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79280" y="614520"/>
            <a:ext cx="8785440" cy="59832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3"/>
          <p:cNvGrpSpPr/>
          <p:nvPr/>
        </p:nvGrpSpPr>
        <p:grpSpPr>
          <a:xfrm>
            <a:off x="2628720" y="4149720"/>
            <a:ext cx="1224000" cy="1224000"/>
            <a:chOff x="2628720" y="4149720"/>
            <a:chExt cx="1224000" cy="1224000"/>
          </a:xfrm>
        </p:grpSpPr>
        <p:sp>
          <p:nvSpPr>
            <p:cNvPr id="176" name="Rectangle 4"/>
            <p:cNvSpPr/>
            <p:nvPr/>
          </p:nvSpPr>
          <p:spPr>
            <a:xfrm>
              <a:off x="2629080" y="4149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 flipH="1">
              <a:off x="2628720" y="4761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>
              <a:off x="324108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7"/>
          <p:cNvGrpSpPr/>
          <p:nvPr/>
        </p:nvGrpSpPr>
        <p:grpSpPr>
          <a:xfrm>
            <a:off x="3852720" y="4149720"/>
            <a:ext cx="1224000" cy="1224000"/>
            <a:chOff x="3852720" y="4149720"/>
            <a:chExt cx="1224000" cy="1224000"/>
          </a:xfrm>
        </p:grpSpPr>
        <p:sp>
          <p:nvSpPr>
            <p:cNvPr id="180" name="Rectangle 8"/>
            <p:cNvSpPr/>
            <p:nvPr/>
          </p:nvSpPr>
          <p:spPr>
            <a:xfrm>
              <a:off x="3852720" y="4149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>
              <a:off x="3852720" y="4761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46508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1403280" y="4149720"/>
            <a:ext cx="1224000" cy="1224000"/>
            <a:chOff x="1403280" y="4149720"/>
            <a:chExt cx="1224000" cy="1224000"/>
          </a:xfrm>
        </p:grpSpPr>
        <p:sp>
          <p:nvSpPr>
            <p:cNvPr id="184" name="Rectangle 12"/>
            <p:cNvSpPr/>
            <p:nvPr/>
          </p:nvSpPr>
          <p:spPr>
            <a:xfrm>
              <a:off x="1403280" y="4149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H="1">
              <a:off x="1403280" y="4761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201564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5"/>
          <p:cNvGrpSpPr/>
          <p:nvPr/>
        </p:nvGrpSpPr>
        <p:grpSpPr>
          <a:xfrm>
            <a:off x="2628720" y="2421000"/>
            <a:ext cx="1224000" cy="1224000"/>
            <a:chOff x="2628720" y="2421000"/>
            <a:chExt cx="1224000" cy="1224000"/>
          </a:xfrm>
        </p:grpSpPr>
        <p:sp>
          <p:nvSpPr>
            <p:cNvPr id="188" name="Rectangle 16"/>
            <p:cNvSpPr/>
            <p:nvPr/>
          </p:nvSpPr>
          <p:spPr>
            <a:xfrm>
              <a:off x="2629080" y="242100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 flipH="1">
              <a:off x="2628720" y="303300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324108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1403280" y="2421000"/>
            <a:ext cx="1224000" cy="1224000"/>
            <a:chOff x="1403280" y="2421000"/>
            <a:chExt cx="1224000" cy="1224000"/>
          </a:xfrm>
        </p:grpSpPr>
        <p:sp>
          <p:nvSpPr>
            <p:cNvPr id="192" name="Rectangle 20"/>
            <p:cNvSpPr/>
            <p:nvPr/>
          </p:nvSpPr>
          <p:spPr>
            <a:xfrm>
              <a:off x="1403280" y="2421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H="1">
              <a:off x="1403280" y="3033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>
              <a:off x="201564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3"/>
          <p:cNvGrpSpPr/>
          <p:nvPr/>
        </p:nvGrpSpPr>
        <p:grpSpPr>
          <a:xfrm>
            <a:off x="5076720" y="2421000"/>
            <a:ext cx="1224000" cy="1224000"/>
            <a:chOff x="5076720" y="2421000"/>
            <a:chExt cx="1224000" cy="1224000"/>
          </a:xfrm>
        </p:grpSpPr>
        <p:sp>
          <p:nvSpPr>
            <p:cNvPr id="196" name="Rectangle 24"/>
            <p:cNvSpPr/>
            <p:nvPr/>
          </p:nvSpPr>
          <p:spPr>
            <a:xfrm>
              <a:off x="5076720" y="2421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 flipH="1">
              <a:off x="5076720" y="3033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>
              <a:off x="568908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7"/>
          <p:cNvGrpSpPr/>
          <p:nvPr/>
        </p:nvGrpSpPr>
        <p:grpSpPr>
          <a:xfrm>
            <a:off x="3852720" y="2421000"/>
            <a:ext cx="1224000" cy="1224000"/>
            <a:chOff x="3852720" y="2421000"/>
            <a:chExt cx="1224000" cy="1224000"/>
          </a:xfrm>
        </p:grpSpPr>
        <p:sp>
          <p:nvSpPr>
            <p:cNvPr id="200" name="Rectangle 28"/>
            <p:cNvSpPr/>
            <p:nvPr/>
          </p:nvSpPr>
          <p:spPr>
            <a:xfrm>
              <a:off x="3852720" y="2421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9"/>
            <p:cNvSpPr/>
            <p:nvPr/>
          </p:nvSpPr>
          <p:spPr>
            <a:xfrm flipH="1">
              <a:off x="3852720" y="3033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>
              <a:off x="446508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1"/>
          <p:cNvGrpSpPr/>
          <p:nvPr/>
        </p:nvGrpSpPr>
        <p:grpSpPr>
          <a:xfrm>
            <a:off x="5072040" y="4149720"/>
            <a:ext cx="1224000" cy="1224000"/>
            <a:chOff x="5072040" y="4149720"/>
            <a:chExt cx="1224000" cy="1224000"/>
          </a:xfrm>
        </p:grpSpPr>
        <p:sp>
          <p:nvSpPr>
            <p:cNvPr id="204" name="Rectangle 32"/>
            <p:cNvSpPr/>
            <p:nvPr/>
          </p:nvSpPr>
          <p:spPr>
            <a:xfrm>
              <a:off x="5072040" y="4149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 flipH="1">
              <a:off x="5072040" y="4761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4"/>
            <p:cNvSpPr/>
            <p:nvPr/>
          </p:nvSpPr>
          <p:spPr>
            <a:xfrm>
              <a:off x="568440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5"/>
          <p:cNvGrpSpPr/>
          <p:nvPr/>
        </p:nvGrpSpPr>
        <p:grpSpPr>
          <a:xfrm>
            <a:off x="6296040" y="4149720"/>
            <a:ext cx="1224000" cy="1224000"/>
            <a:chOff x="6296040" y="4149720"/>
            <a:chExt cx="1224000" cy="1224000"/>
          </a:xfrm>
        </p:grpSpPr>
        <p:sp>
          <p:nvSpPr>
            <p:cNvPr id="208" name="Rectangle 36"/>
            <p:cNvSpPr/>
            <p:nvPr/>
          </p:nvSpPr>
          <p:spPr>
            <a:xfrm>
              <a:off x="6296040" y="4149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7"/>
            <p:cNvSpPr/>
            <p:nvPr/>
          </p:nvSpPr>
          <p:spPr>
            <a:xfrm flipH="1">
              <a:off x="6296040" y="4761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8"/>
            <p:cNvSpPr/>
            <p:nvPr/>
          </p:nvSpPr>
          <p:spPr>
            <a:xfrm>
              <a:off x="690840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39"/>
          <p:cNvSpPr/>
          <p:nvPr/>
        </p:nvSpPr>
        <p:spPr>
          <a:xfrm>
            <a:off x="1403280" y="414972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箭叼处陡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0"/>
          <p:cNvGrpSpPr/>
          <p:nvPr/>
        </p:nvGrpSpPr>
        <p:grpSpPr>
          <a:xfrm>
            <a:off x="6300720" y="2421000"/>
            <a:ext cx="1224000" cy="1224000"/>
            <a:chOff x="6300720" y="2421000"/>
            <a:chExt cx="1224000" cy="1224000"/>
          </a:xfrm>
        </p:grpSpPr>
        <p:sp>
          <p:nvSpPr>
            <p:cNvPr id="213" name="Rectangle 41"/>
            <p:cNvSpPr/>
            <p:nvPr/>
          </p:nvSpPr>
          <p:spPr>
            <a:xfrm>
              <a:off x="6300720" y="2421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 flipH="1">
              <a:off x="6300720" y="3033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3"/>
            <p:cNvSpPr/>
            <p:nvPr/>
          </p:nvSpPr>
          <p:spPr>
            <a:xfrm>
              <a:off x="691308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44"/>
          <p:cNvSpPr/>
          <p:nvPr/>
        </p:nvSpPr>
        <p:spPr>
          <a:xfrm>
            <a:off x="1403280" y="24210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停玲珑等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20053192330167946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6920" y="133956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翠鸟        苇秆         腹部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衬衫        透亮      又尖又长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清脆        疾飞      一眨眼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泡泡        逃脱         饲养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渔翁     石壁       打消       念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2139347-A-embed"/>
          <p:cNvPicPr/>
          <p:nvPr/>
        </p:nvPicPr>
        <p:blipFill>
          <a:blip r:embed="rId1"/>
          <a:srcRect l="0" t="0" r="-178" b="13144"/>
          <a:stretch/>
        </p:blipFill>
        <p:spPr>
          <a:xfrm>
            <a:off x="179280" y="566640"/>
            <a:ext cx="8785440" cy="6291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684360" y="1557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1 .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课文是从哪几个方面描写了翠鸟的外形呢？作者又是怎样把翠鸟的颜色写具体的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332000" y="371628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头上：橄榄色头巾，翠绿色花纹。</a:t>
            </a:r>
            <a:br>
              <a:rPr sz="3600"/>
            </a:b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背上：浅绿色的外衣。</a:t>
            </a:r>
            <a:br>
              <a:rPr sz="3600"/>
            </a:br>
            <a:r>
              <a:rPr b="0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腹部：赤褐色的衬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50920" y="6508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外形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ject 2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4651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-76320" y="3429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         ）的爪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791320" y="1447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    ）的羽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7200" y="380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      ）的眼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2286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          ）的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62120" y="3397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8380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透亮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33520" y="2376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又尖又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0"/>
          <p:cNvGrpSpPr/>
          <p:nvPr/>
        </p:nvGrpSpPr>
        <p:grpSpPr>
          <a:xfrm>
            <a:off x="4343040" y="228600"/>
            <a:ext cx="3429360" cy="685800"/>
            <a:chOff x="4343040" y="228600"/>
            <a:chExt cx="3429360" cy="685800"/>
          </a:xfrm>
        </p:grpSpPr>
        <p:sp>
          <p:nvSpPr>
            <p:cNvPr id="232" name="Text Box 11"/>
            <p:cNvSpPr/>
            <p:nvPr/>
          </p:nvSpPr>
          <p:spPr>
            <a:xfrm>
              <a:off x="6172200" y="2286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橄榄色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 flipH="1">
              <a:off x="4343040" y="609480"/>
              <a:ext cx="16002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5333760" y="1447920"/>
            <a:ext cx="2438640" cy="609480"/>
            <a:chOff x="5333760" y="1447920"/>
            <a:chExt cx="2438640" cy="609480"/>
          </a:xfrm>
        </p:grpSpPr>
        <p:sp>
          <p:nvSpPr>
            <p:cNvPr id="235" name="Text Box 14"/>
            <p:cNvSpPr/>
            <p:nvPr/>
          </p:nvSpPr>
          <p:spPr>
            <a:xfrm>
              <a:off x="6172200" y="1447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浅绿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 flipH="1">
              <a:off x="5333760" y="1752840"/>
              <a:ext cx="6858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6"/>
          <p:cNvGrpSpPr/>
          <p:nvPr/>
        </p:nvGrpSpPr>
        <p:grpSpPr>
          <a:xfrm>
            <a:off x="4419360" y="2757600"/>
            <a:ext cx="3810240" cy="520560"/>
            <a:chOff x="4419360" y="2757600"/>
            <a:chExt cx="3810240" cy="520560"/>
          </a:xfrm>
        </p:grpSpPr>
        <p:sp>
          <p:nvSpPr>
            <p:cNvPr id="238" name="Text Box 17"/>
            <p:cNvSpPr/>
            <p:nvPr/>
          </p:nvSpPr>
          <p:spPr>
            <a:xfrm>
              <a:off x="6400800" y="27576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赤褐色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 flipH="1">
              <a:off x="4419360" y="3048120"/>
              <a:ext cx="1981080" cy="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4:30:1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1:05Z</dcterms:modified>
  <cp:revision>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