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B97-50B1-4F8C-B589-23FD3AC0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9C6-B62A-4DFA-9CB8-F005109A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0C9-E682-4A08-A251-D0434E9E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890-57E1-43F5-9F37-42BF7000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4F3-E1C0-4A39-A388-72CA067A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7DF-6BE9-4DBB-94A2-F2E70A89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24A-7305-43C3-93F4-F76BE6C6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ADC-0ED8-4D1B-9696-CB198B02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14A-6760-4151-AAFB-90A3D6E1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158-4529-4D8B-BFF4-3C60F79A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75C-9E23-4360-AFC3-46D1DD6A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745-706C-4362-9F3B-A2B7845B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2242-45CB-4157-8826-8554D18D2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2a971d47b0c398412d98030dffcc37a_m"/>
          <p:cNvPicPr/>
          <p:nvPr/>
        </p:nvPicPr>
        <p:blipFill>
          <a:blip r:embed="rId2"/>
          <a:stretch/>
        </p:blipFill>
        <p:spPr>
          <a:xfrm>
            <a:off x="1116000" y="1125360"/>
            <a:ext cx="6985080" cy="469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6922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90800" y="2133720"/>
            <a:ext cx="30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彩色的非洲课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042920" y="1484280"/>
            <a:ext cx="7632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让我们一起来看看，到底是什么孕育了怎样一个彩色的世界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“如果你刚踏上非洲这片神秘的土地，沐浴在这样明亮的阳光之下，看到的是蓝得如此单纯的浩瀚天穹，感受到的是这种炽热的原始。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想对非洲说什么？</a:t>
            </a:r>
            <a:br>
              <a:rPr sz="28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的，一踏上非洲的这片神秘的土地，扑面而来的就是一种原始、强悍、粗犷而热烈的气息。请你再次朗读，再次感受这种不同寻常的美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692360" y="76500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（一）初悟非洲风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200603091457235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189080" y="1773360"/>
            <a:ext cx="71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你从哪里看出这片蓝天之下的植物世界是彩色的呢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）充沛的阳光和雨水，使得除了沙漠之外的非洲大地，繁花似锦，绿海荡漾，到处是绿色，处处是花海。</a:t>
            </a: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　　（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）芒果树开的是星星点点的白花，仙人树开的是金灿灿的黄花，玉兰树高擎着白色或白里透青的玉杯，火炬树绽放的花朵比绿叶还要多，一棵似一团火，一排是一片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340000" y="692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（二）深悟非洲风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116000" y="1268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彩色的植物世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）到了开花季节，一条条街道，都成了彩色的长河。人在街上走，就像置身于花海深处。</a:t>
            </a:r>
            <a:br>
              <a:rPr sz="3200"/>
            </a:b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　 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）还有一种叫做花树的树，更是妙不可言。远远望去，树上像是开满了五彩缤纷的花，非常壮观；走近一看，却是满树的彩叶，紫的、黄的、绿的、红的，像含情脉脉的少女，向人们频频点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op557"/>
          <p:cNvPicPr/>
          <p:nvPr/>
        </p:nvPicPr>
        <p:blipFill>
          <a:blip r:embed="rId2"/>
          <a:stretch/>
        </p:blipFill>
        <p:spPr>
          <a:xfrm>
            <a:off x="4859280" y="3573360"/>
            <a:ext cx="4284720" cy="328464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20" name="Picture 4" descr="op422"/>
            <p:cNvPicPr/>
            <p:nvPr/>
          </p:nvPicPr>
          <p:blipFill>
            <a:blip r:embed="rId3"/>
            <a:stretch/>
          </p:blipFill>
          <p:spPr>
            <a:xfrm>
              <a:off x="0" y="3595680"/>
              <a:ext cx="4871160" cy="32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5" descr="ha1"/>
            <p:cNvPicPr/>
            <p:nvPr/>
          </p:nvPicPr>
          <p:blipFill>
            <a:blip r:embed="rId4"/>
            <a:stretch/>
          </p:blipFill>
          <p:spPr>
            <a:xfrm>
              <a:off x="4871160" y="0"/>
              <a:ext cx="4272480" cy="35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6" descr="r_100-0049_IMG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4871160" cy="359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755640" y="1095480"/>
            <a:ext cx="7920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“非洲不仅植物世界是彩色的，动物世界也是彩色的。” 在非洲彩色的动物世界这一部分内容中，你印象最深刻的是什么，为什么？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600" spc="-1" strike="noStrike">
                <a:solidFill>
                  <a:srgbClr val="6600cc"/>
                </a:solidFill>
                <a:latin typeface="Arial"/>
                <a:ea typeface="楷体_GB2312"/>
              </a:rPr>
              <a:t>“其颜色不仅有赤橙黄绿青蓝紫，而且在不断地变幻着，交织着，渗透着，辉映着，令你目不暇接，不住地发出赞叹。这还是凝固的色彩呢，你若到盛产蝴蝶的刚果奥旺多省，置身于五彩缤纷的蝴蝶世界，细细聆听这彩色小天使飞翔的轻微音韵，简直如同步入仙境。”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　    人们曾说：非洲是上帝创造的伊甸园，这里是植物的乐园，也是动物的天堂。世界上最大的野生动物园，就在非洲！说说你所知道的非洲彩色的动物世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771640" y="40176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彩色的动物世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无标题[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200603091457235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无标题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755640" y="134136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非洲的自然景观是彩色的，非洲人的日常生活也无一不是彩色的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“不管男女老少都喜欢穿花衣服，妇女则更讲究颜色的搭配，喜欢颜色有较大的反差，那些蓝底白花、黄底红花、红绿相间的大花布，最为畅销。你在节日的市场上放眼望去，看到的是花花绿绿的衣服交汇成的彩色河流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炽热的赤道骄阳孕育了这一方皮肤油黑发亮的非洲人，他们以自己的热情奔放营造了七彩的生活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你还知道非洲哪些彩色的日常生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484360" y="692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彩色的日常生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1628640"/>
            <a:ext cx="7129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同学们，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世纪英国名作家汤玛斯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布朗曾经写道：“人类总是向外追寻那原本就隐藏在我们心灵深处的奥秘。其实，我们每个人都蕴藏着非洲的原始与神秘。”今天，就让我们走进这片神秘的土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6093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69840" y="1197000"/>
            <a:ext cx="770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非洲人彩色的日常生活造就了彩色的非洲艺术。　</a:t>
            </a: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如果你有幸参加他们的篝火晚会，那熊熊燃烧的火焰旁那穿着花衣裙欢跳的人群，不，那是流动的、五彩的旋律，你就会更深地领悟非洲彩色的美，非洲彩色的涌动与无限的活力。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人们常说，非洲舞蹈是非洲艺术的灵魂，非洲的舞蹈质朴、清纯、火热。请同学们朗读这句话，一起来感受非洲舞蹈的魅力。你能向同学们介绍一下非洲的工艺品吗？能介绍一下你所知道的非洲舞蹈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059280" y="549360"/>
            <a:ext cx="27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彩色的艺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47bbfd68f4d669fa60acad466f96d9e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826920" y="1413000"/>
            <a:ext cx="77058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这激情洋溢的舞蹈，来自舞者的心灵。它诉说着非洲的原始与神秘，诉说非洲的热烈与奔放。难怪作者发出了这样的感叹：</a:t>
            </a:r>
            <a:br>
              <a:rPr sz="3200"/>
            </a:b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非洲真是一个色彩斑斓的世界啊！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啊，非洲，好一个多姿多彩的世界！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是啊！说非洲是彩色的在于它的色彩斑斓，更在于它的多姿多彩！让我们再一次赞叹这彩色的非洲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26920" y="6922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（三）总结风情感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79B-9D7E-49DA-80B8-356BAA118D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U508P115T9D141809F167DT200602081015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1258920" y="177336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非洲是一方热土，他古朴、自然、美丽；他吸引了世界人的目光，他更呼唤人们对和平的心态对待这片淳朴的土地；非洲人正渴望你伸出友谊之手，共同保护这片奇异的土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71640" y="1052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总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"/>
          <p:cNvSpPr/>
          <p:nvPr/>
        </p:nvSpPr>
        <p:spPr>
          <a:xfrm>
            <a:off x="2124000" y="83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pic_2515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55640" y="148392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．认识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个生字。读读记记“斑斓、炽热、湛蓝、充沛、硕大、火炬、巨蟒、渗透、聆听、木薯、强悍、粗犷、篝火、繁花似锦、含情脉脉、目不暇接”等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．有感情地朗读课文，了解非洲独特的自然景观与风土人情，体会作者对非洲的赞美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．领悟文章的表达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3203640" y="693720"/>
            <a:ext cx="216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4680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斓                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沛                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炬                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渗             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619280" y="3933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jù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547640" y="17683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916360" y="176364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斑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547640" y="2852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pèi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987640" y="28494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充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987640" y="3933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火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2916360" y="981000"/>
            <a:ext cx="28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1403280" y="49417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hè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987640" y="4941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渗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076720" y="3860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ǎ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5219640" y="17049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h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6732720" y="17002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炽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148360" y="2789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huò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6732720" y="278604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硕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6732720" y="3870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蟒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4680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旺                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薯                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悍                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篝             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476360" y="3933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403280" y="17683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916360" y="176364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兴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547640" y="2852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hǔ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987640" y="28494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红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987640" y="3933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强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476360" y="4941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gōu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987640" y="4941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篝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5076720" y="3860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guǎ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5219640" y="17049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lí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659640" y="17002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聆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5148360" y="2789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6659640" y="27860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瓜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6730920" y="3860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粗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1187280" y="1411200"/>
            <a:ext cx="280836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沙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篝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妙不可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含情脉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195640" y="13255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楷体_GB2312"/>
              </a:rPr>
              <a:t>天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050920" y="190188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楷体_GB2312"/>
              </a:rPr>
              <a:t>擎，向上托、举。高擎，高高举着，托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124000" y="24782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楷体_GB2312"/>
              </a:rPr>
              <a:t>又称作色拉。西餐中的一种凉拌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125800" y="299736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楷体_GB2312"/>
              </a:rPr>
              <a:t>豪放、豪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195640" y="357336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楷体_GB2312"/>
              </a:rPr>
              <a:t>指用笼子罩着的火，现借指在空旷处或野外架木柴、树枝燃烧的火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844720" y="4653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楷体_GB2312"/>
              </a:rPr>
              <a:t>美妙得无法用语言形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916360" y="5229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楷体_GB2312"/>
              </a:rPr>
              <a:t>眼神传达或内心怀着情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2843280" y="69228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方正舒体"/>
              </a:rPr>
              <a:t>词语理解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971640" y="1052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、为什么说非洲是彩色的？浏览课文，找出文中三个直接说明非洲是彩色的感叹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9640" y="3068640"/>
            <a:ext cx="813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　　“非洲真是一个色彩斑斓的世界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　　“蓝天、骄阳、绿树、红土、鲜花，以及皮肤油黑发亮的非洲人，构成了七彩的非洲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　　“啊，非洲，好一个多姿多彩的世界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图片3"/>
          <p:cNvPicPr/>
          <p:nvPr/>
        </p:nvPicPr>
        <p:blipFill>
          <a:blip r:embed="rId2"/>
          <a:stretch/>
        </p:blipFill>
        <p:spPr>
          <a:xfrm>
            <a:off x="2916360" y="620640"/>
            <a:ext cx="2011320" cy="503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图10"/>
          <p:cNvPicPr/>
          <p:nvPr/>
        </p:nvPicPr>
        <p:blipFill>
          <a:blip r:embed="rId2"/>
          <a:stretch/>
        </p:blipFill>
        <p:spPr>
          <a:xfrm>
            <a:off x="2987640" y="692280"/>
            <a:ext cx="2087640" cy="556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611280" y="1413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　  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、“非洲真是一个色彩斑斓的世界啊！”课文从哪几个方面来介绍非洲是一个“色彩斑斓”的世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900000" y="3357720"/>
            <a:ext cx="763272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）非洲的蓝天、骄阳是彩色的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）非洲的植物世界是彩色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）非洲的动物世界也是彩色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）非洲的艺术是彩色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5:28:2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11:29:51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