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0B7-9812-41E3-87F5-56D434C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459-A7F2-4341-98DD-6F40C89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537-E788-43C3-BDB6-8836648D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DC5-013A-4314-841E-E083EFCF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ED4-0914-4F6C-B818-E2695DB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589-7BFA-48EF-BEE8-B04CC09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6A3-24FE-4EE9-9E91-59169BA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94C-653C-472A-92B1-C4C53A6C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BDB-10C1-44DE-A3A1-80A4F63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042-723B-487A-9CFB-C32A7B3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F39-D1DD-4409-AA4D-8452148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26A-42B3-4CBC-9C66-6FFA326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155-0FDE-4DD6-9355-30D638D684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024545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388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春望</a:t>
            </a:r>
            <a:r>
              <a:rPr b="0" lang="en-US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PPT</a:t>
            </a:r>
            <a:r>
              <a:rPr b="0" lang="zh-CN" sz="3600" spc="-1" strike="noStrike">
                <a:solidFill>
                  <a:srgbClr val="ff9900"/>
                </a:solidFill>
                <a:latin typeface="华文行楷"/>
                <a:ea typeface="华文行楷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51280" y="1412640"/>
            <a:ext cx="1657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杜  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201200" y="2492280"/>
            <a:ext cx="515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国破山河在，城春草木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感时花溅泪，恨别鸟惊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烽火连三月，家书抵万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白头搔更短，浑欲不胜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85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字的正确读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557360"/>
            <a:ext cx="3024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溅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更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烽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不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48360" y="1773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306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48360" y="446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48360" y="57625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Zā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5518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411-9F72-40E4-B68D-6791107604F8}" type="slidenum">
              <a:t>3</a:t>
            </a:fld>
          </a:p>
        </p:txBody>
      </p:sp>
    </p:spTree>
  </p:cSld>
  <p:transition spd="slow">
    <p:wheel spokes="8"/>
    <p:sndAc>
      <p:stSnd>
        <p:snd r:embed="rId26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词语的不同含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773360"/>
            <a:ext cx="511308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国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破山河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属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国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过居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360" y="321300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方正姚体"/>
              </a:rPr>
              <a:t>国都，这里指长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771640" y="573408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方正姚体"/>
              </a:rPr>
              <a:t>国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18456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8600" y="71424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掌握下列词语的词类活用现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543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03280" y="21924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恨别鸟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方正舒体"/>
              </a:rPr>
              <a:t>惊</a:t>
            </a: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77800" y="4508640"/>
            <a:ext cx="83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.....</a:t>
            </a: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1:28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