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777-35D7-41A3-93E4-992B040F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E4D-0AAB-493B-A11F-5B9262A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8B7-28FC-4D4E-9D79-1D571A06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336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988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336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988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662-44AB-4029-87A1-2A2B535E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740B-59B3-4845-B064-992BBEA2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D000-34BE-4683-87A7-5A76CE9E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C355-286A-4D93-882C-15835FAD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93A0-E343-47E6-A182-7361F4BC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E55C-D7A3-4DBA-8E21-BE2ABD44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EBF-6AD2-4FBB-976B-114B92D1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098A-ABB2-4113-936A-3099A43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49E-FDEA-4359-AB5A-9751A8D5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358D-6535-4897-BEB6-DDE0C91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3ECB-3C9A-4D7A-88A9-00075692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2539-22C6-477C-BAE8-DE784E6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AA7-8C4A-4174-B4DA-780B3D02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336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09880" y="137124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336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09880" y="3854880"/>
            <a:ext cx="2453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6122-F666-4445-8FB3-AA3C837B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3E1E-2CD3-434E-B7CB-FE8FC641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AC5-814E-429D-AD74-57C38C62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0FE-1C2A-4603-B7F2-FEC7A2E3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B32-AB81-433C-83D3-D5D9D21E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368-CA29-4691-9CAE-5A85558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1760" y="385488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5C6-9A79-4FD1-8255-F1AE68E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1371240"/>
            <a:ext cx="37184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54880"/>
            <a:ext cx="76201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F1C-E88B-468C-8FB6-0179C371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D879-7607-41F6-AB02-BC448755A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3920" y="2361960"/>
            <a:ext cx="3429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A93-2980-4E36-8F22-345D5BAA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95680" y="236196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  <a:ea typeface="宋体"/>
              </a:rPr>
              <a:t>抽象派</a:t>
            </a:r>
            <a:r>
              <a:rPr b="1" lang="en-US" sz="4000" spc="-1" strike="noStrike">
                <a:solidFill>
                  <a:srgbClr val="808080"/>
                </a:solidFill>
                <a:latin typeface="Arial Black"/>
                <a:ea typeface="宋体"/>
              </a:rPr>
              <a:t>ppt</a:t>
            </a:r>
            <a:r>
              <a:rPr b="1" lang="zh-CN" sz="4000" spc="-1" strike="noStrike">
                <a:solidFill>
                  <a:srgbClr val="808080"/>
                </a:solidFill>
                <a:latin typeface="Arial Black"/>
                <a:ea typeface="宋体"/>
              </a:rPr>
              <a:t>模板</a:t>
            </a:r>
            <a:endParaRPr b="0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23920" y="5334120"/>
            <a:ext cx="3429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宋体"/>
              </a:rPr>
              <a:t>YOUR TOPIC GOES HERE</a:t>
            </a:r>
            <a:endParaRPr b="0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620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361960"/>
            <a:ext cx="4343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  <a:ea typeface="宋体"/>
              </a:rPr>
              <a:t>TRANSITIONAL PAGE</a:t>
            </a:r>
            <a:endParaRPr b="0" lang="en-US" sz="2400" spc="-1" strike="noStrike">
              <a:solidFill>
                <a:srgbClr val="80808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1448640" y="76212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03848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03848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05:25:1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7:23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