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ED7-DF58-48A9-B5A0-52987484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0260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129-FE89-462C-B845-49909F3E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EB4-B0B0-4065-9753-E7B29689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0DC-A946-4C0E-824F-D4848A71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05B6-382F-48F9-9FCB-E17E1160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0CB5-8E8B-4361-908E-07ACF774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C101-ACB2-4E12-AD5D-6AF89786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2E13-2F76-4B2B-A995-836CFC06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4994-D777-4E3B-99A4-F613338E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53337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F0A7-AF43-4A22-83A2-C0A8EDAE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B809-A0B3-4BE0-94CC-6C18A147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A78-36C6-4EF4-8AB0-08DFB47D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1012-2511-4CD7-AAA6-DEE75E72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B2CC-8D23-44E1-8594-E374B6C8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60260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C2E7-352D-4648-8B82-BCFB9FE8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96B2-AFB7-46AB-BB8C-F6D19547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04CC-1F28-4455-9A98-C54740D3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A4E-F8A5-40B0-87E9-80156CA8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265-1394-4616-9FD3-75114E87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D87-6109-4236-AA8B-B12F799E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53337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09A-5F22-454E-AD6B-0D395DFC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B20-FC88-4213-84A1-86EE1348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6AB-0A6F-4426-9435-1B6664C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266-B52C-4F5F-BF12-D14A03C7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05b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f305b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33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3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f3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3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f3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8A41-9DE4-44B2-9BF4-6F89F42CB870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352C-E674-446C-9FFC-25643A684E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05b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f305b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f305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05b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f305b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f305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305b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f305b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抽象</a:t>
            </a:r>
            <a:r>
              <a:rPr b="0" lang="zh-CN" sz="4800" spc="-1" strike="noStrike">
                <a:solidFill>
                  <a:srgbClr val="ffffff"/>
                </a:solidFill>
                <a:latin typeface="Impact"/>
                <a:ea typeface="宋体"/>
              </a:rPr>
              <a:t>派</a:t>
            </a: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艺术</a:t>
            </a: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05b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f305b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f3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05b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f3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创意设计ppt模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chuangy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05b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f305b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f3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05b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f3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6:04:4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5T07:30:50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