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1E9-C592-409F-A2C4-67AD3AB2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8D7-0F20-47D0-A076-CA1BECF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47A-ADB7-4842-BF79-8700CFB19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AB85-3B26-4077-BA64-225D3325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EE8D-1B39-4E45-A973-7545A3CE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84B1-26C6-48D1-8B24-FDDDA2F8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9FF-8537-4FEC-AF4A-039F1368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6B60-65A4-4A53-BC00-0FFD84C28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D265-56EE-49D8-9FB1-AA54C6601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CD38-DB6A-45E6-B21E-77C1B3D0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53B-AF33-4C8A-B276-9B865467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B20A-1513-4A13-9FF8-BC42BA11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441E-4F03-4635-B85D-36543AD28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梨河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耿岸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0360" y="2133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51120" y="981000"/>
            <a:ext cx="3966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电磁续电器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练一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如图所示虚线框内部是电磁继电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其中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0" i="1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C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D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  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它的工作过程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闭合开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,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具有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被吸引下降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被接通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电动机工作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在整个过程中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继电器利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的通断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来控制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356000" y="1341360"/>
            <a:ext cx="4788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Arial"/>
              </a:rPr>
              <a:t>试试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98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图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8.3—6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是一种温度自动报警器的原理图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制作水银温度计时插入一段金属丝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当温度达到金属丝下端所指的温度时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电铃就响起来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发出报警信号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660033"/>
                </a:solidFill>
                <a:latin typeface="Arial"/>
              </a:rPr>
              <a:t>说明它的工作原理</a:t>
            </a: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56240" y="1484280"/>
            <a:ext cx="4487760" cy="5373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6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0612-27C1-45F0-A10B-9189A5FE9F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>
            <a:alphaModFix amt="19000"/>
          </a:blip>
          <a:stretch/>
        </p:blipFill>
        <p:spPr>
          <a:xfrm>
            <a:off x="4535640" y="0"/>
            <a:ext cx="4608360" cy="6642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试试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图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8.3—5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是一种水位自动报警器的原理图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水位没有到达金属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时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绿灯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;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水位到达金属块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时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红灯亮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说明它的工作原理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注意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纯净的水是不导电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但是一般的水都能导电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900000" y="2276640"/>
            <a:ext cx="7128000" cy="28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660033"/>
                </a:solidFill>
                <a:effectLst>
                  <a:outerShdw dist="153753" dir="2700000" blurRad="0" rotWithShape="0">
                    <a:srgbClr val="875b0d">
                      <a:alpha val="66000"/>
                    </a:srgbClr>
                  </a:outerShdw>
                </a:effectLst>
                <a:latin typeface="宋体"/>
              </a:rPr>
              <a:t>谢谢指导</a:t>
            </a:r>
            <a:endParaRPr b="0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660033"/>
              </a:solidFill>
              <a:effectLst>
                <a:outerShdw dist="153753" dir="2700000" blurRad="0" rotWithShape="0">
                  <a:srgbClr val="875b0d">
                    <a:alpha val="66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050920" y="3645000"/>
            <a:ext cx="165744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1565280" cy="1477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916360" y="1052640"/>
            <a:ext cx="1655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663588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2276640"/>
            <a:ext cx="626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电磁铁是由通电螺线管和它里面的铁心构成的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电磁铁特点是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通电时有磁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断电时无磁性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4360" y="450864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9640" y="1197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什么是电磁铁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?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它有那些性质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45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电磁铁有哪些应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26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复习引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450864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电磁起重机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\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电动机＼发电机＼电磁继电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566100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61040" y="1268280"/>
            <a:ext cx="478296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磁继电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继电器是利用低电压、弱电流电路的通断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来间接控制高电压、强电流电路的装置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. </a:t>
            </a: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它是利用电磁铁来控制工作电路的一种开关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184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820000" y="2565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820000" y="3429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电磁继电器的构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6121440" cy="55897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172360" y="17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44000" y="256536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8360" y="33577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341360"/>
            <a:ext cx="2484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Arial"/>
              </a:rPr>
              <a:t>它由电磁铁、衔铁、簧片、触点组成。其工作电路由低压控制电路和高压工作电路两部分构成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48592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当较小的电流经过接线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流入线圈时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电磁铁把衔铁吸下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使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两个接线柱所连的触点接通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较大的电流就可以通过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带动机器工作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工人师傅的按钮只控制电磁铁电流的通断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而高电压强电流电路的通断则由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两个触点间的电路控制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这样人们就可以安全方便地操纵大型机械了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6597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675640" y="1844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820000" y="256536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675640" y="342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60" y="616572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33"/>
                </a:solidFill>
                <a:latin typeface="Arial"/>
              </a:rPr>
              <a:t>阅读电磁继电器说明书，并回答课本上的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你觉得说明书上最重要的是哪几条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说明书上写着的线圈额定电压直流６Ｖ被控制电压２２０Ｖ电流１Ａ讲的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</a:rPr>
              <a:t>你从说明书上得到了那些有用的知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427640" y="0"/>
            <a:ext cx="471636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观察电磁继电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做如下尝试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对照电磁继电器的构造图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认识继电器上的几个接线端的位置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用手轻触衔铁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观察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B.C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之间是通过哪个触点接通的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实际的继电器还有两个触点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当电磁铁不通电时它们断开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找到这两个触点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748720" y="198900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75640" y="2637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748720" y="3573360"/>
            <a:ext cx="3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>
            <a:lum bright="-6000"/>
            <a:alphaModFix amt="51000"/>
          </a:blip>
          <a:stretch/>
        </p:blipFill>
        <p:spPr>
          <a:xfrm>
            <a:off x="428472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Arial"/>
              </a:rPr>
              <a:t>扬声器的原理及构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46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扬声器是把电信号转换成声信号的一种装置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它主要由固定的永久磁铁、线圈和锥形纸盆构成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扬声器是怎样发声的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8920" y="1341360"/>
            <a:ext cx="403884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当线圈中通过如图所示的电流时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线圈受到磁铁的吸引向左运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当线圈中通过相反方向的电流时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线圈受到磁铁的排斥向右运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由于通过线圈的电流是交变电流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它的方向不断变化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线圈就不断地来回振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带动纸盆也来回振动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于是扬声器就发出了声音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003640" y="2060640"/>
            <a:ext cx="23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59280" y="1413000"/>
            <a:ext cx="396072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9T00:18:0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3:41Z</dcterms:modified>
  <cp:revision>3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