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775-648C-4D8F-BE07-23CB14E9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3FC7-9E2F-47B2-9087-62BDA8A6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67FE-DE1F-4F7E-B59C-17527731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46F0-8112-467D-8663-6F6F35A9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6705-7992-4690-9E78-F8FE889C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1EBD-D6B2-4662-AF71-63ADC418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B71A-677E-4467-B053-63F793B3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E6CF-DFF2-4404-8654-5CCA3A35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17FC-3412-4F7E-A1C9-3A0A24F3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2DFC-48E7-4A47-A1C9-848F4A00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72B6-DADA-4C4F-9A33-16299DBF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AC2E-5BFA-4552-9864-0E17830A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FF2E-7BBC-4276-88B5-7BE52A89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191F-418C-4475-9129-275D0C12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3E2F-426A-482D-8951-01A7EC5D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B4B1-B60A-44BB-ADD3-5D69FB9D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E8E2-05E5-42C8-B536-E2087F83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14B9-445C-46AC-901F-83E9B410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8FFC-30DF-42D1-AF94-73838F20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09F5-41FE-4160-BD53-89865438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905-8C1B-4DF7-8009-F98133CA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2D46-529B-43DA-8B21-3B22CC74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FF61-1575-400C-ABD7-5A04FB95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F214-5A29-4F8C-AA6A-EE57E338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2f2e"/>
              </a:gs>
              <a:gs pos="50000">
                <a:srgbClr val="00cc99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4DE7-D9E9-4256-AAC8-9F50C89CCED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2f2e"/>
              </a:gs>
              <a:gs pos="50000">
                <a:srgbClr val="00cc99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39D0-E8EE-496D-8D29-60A0C93D9780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4920" y="266688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黑体"/>
              </a:rPr>
              <a:t>XX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黑体"/>
              </a:rPr>
              <a:t>国游戏市场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黑体"/>
              </a:rPr>
              <a:t>分析与展望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——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XXX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股份有限公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XX</a:t>
            </a:r>
            <a:endParaRPr b="0" lang="en-US" sz="2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78520" y="6381720"/>
            <a:ext cx="28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楷体_GB2312"/>
                <a:ea typeface="楷体_GB2312"/>
              </a:rPr>
              <a:t>XX</a:t>
            </a:r>
            <a:r>
              <a:rPr b="1" lang="en-US" sz="4000" spc="-1" strike="noStrike">
                <a:solidFill>
                  <a:srgbClr val="66ffcc"/>
                </a:solidFill>
                <a:latin typeface="楷体_GB2312"/>
                <a:ea typeface="楷体_GB2312"/>
              </a:rPr>
              <a:t>国未来经济的发展和信息业的发展</a:t>
            </a:r>
            <a:br>
              <a:rPr sz="4000"/>
            </a:b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XX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国巨大的经济增长势头和潜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装机台数的增长——上网人数增长—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单机游戏用户——网络游戏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社会观念的改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cc"/>
                </a:solidFill>
                <a:latin typeface="楷体_GB2312"/>
                <a:ea typeface="楷体_GB2312"/>
              </a:rPr>
              <a:t>庞大的潜在用户群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五千万电脑游戏用户以及大量的游戏机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社会文化和意识形态的影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盗版向正版的转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楷体_GB2312"/>
                <a:ea typeface="楷体_GB2312"/>
              </a:rPr>
              <a:t>WTO</a:t>
            </a:r>
            <a:r>
              <a:rPr b="1" lang="en-US" sz="4400" spc="-1" strike="noStrike">
                <a:solidFill>
                  <a:srgbClr val="66ffcc"/>
                </a:solidFill>
                <a:latin typeface="楷体_GB2312"/>
                <a:ea typeface="楷体_GB2312"/>
              </a:rPr>
              <a:t>对</a:t>
            </a:r>
            <a:r>
              <a:rPr b="1" lang="en-US" sz="4400" spc="-1" strike="noStrike">
                <a:solidFill>
                  <a:srgbClr val="66ffcc"/>
                </a:solidFill>
                <a:latin typeface="楷体_GB2312"/>
                <a:ea typeface="楷体_GB2312"/>
              </a:rPr>
              <a:t>XX</a:t>
            </a:r>
            <a:r>
              <a:rPr b="1" lang="en-US" sz="4400" spc="-1" strike="noStrike">
                <a:solidFill>
                  <a:srgbClr val="66ffcc"/>
                </a:solidFill>
                <a:latin typeface="楷体_GB2312"/>
                <a:ea typeface="楷体_GB2312"/>
              </a:rPr>
              <a:t>国的影响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国际规则的压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政府形象与法律的实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渠道的广泛化与正规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cccc"/>
                </a:solidFill>
                <a:latin typeface="楷体_GB2312"/>
                <a:ea typeface="楷体_GB2312"/>
              </a:rPr>
              <a:t>（三）与合作</a:t>
            </a:r>
            <a:endParaRPr b="0" lang="en-US" sz="6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共同研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进入市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进入国际市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0"/>
            <a:ext cx="3581280" cy="838080"/>
          </a:xfrm>
          <a:prstGeom prst="cloudCallout">
            <a:avLst>
              <a:gd name="adj1" fmla="val -43750"/>
              <a:gd name="adj2" fmla="val 70074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SH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cc"/>
                </a:solidFill>
                <a:latin typeface="楷体_GB2312"/>
                <a:ea typeface="楷体_GB2312"/>
              </a:rPr>
              <a:t>长期的打算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游戏的发展不是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-3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的事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品牌建设的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力资源的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媒体的成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cc"/>
                </a:solidFill>
                <a:latin typeface="楷体_GB2312"/>
                <a:ea typeface="楷体_GB2312"/>
              </a:rPr>
              <a:t>稳定可靠的合作伙伴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规模与商业诚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当地政府关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彼此的品牌提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资源的共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cc"/>
                </a:solidFill>
                <a:latin typeface="楷体_GB2312"/>
                <a:ea typeface="楷体_GB2312"/>
              </a:rPr>
              <a:t>彼此的沟通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nternet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代带来的变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共同的理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cc"/>
                </a:solidFill>
                <a:latin typeface="楷体_GB2312"/>
                <a:ea typeface="楷体_GB2312"/>
              </a:rPr>
              <a:t>资本的结合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用资本的语言说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按资本的规则做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15364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o be or not to be, this is a question 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95440" y="3388320"/>
            <a:ext cx="2379600" cy="126144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25160" y="3245040"/>
            <a:ext cx="117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谢谢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大家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（一）游戏市场的现状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——想象空间与市场空间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998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年以来游戏市场迅猛增大，目前单机游戏市场份额已经达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.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亿人民币，网络游戏市场份额已经达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9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万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发行游戏的数量，制作与代理公司的数量增加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cc"/>
                </a:solidFill>
                <a:latin typeface="Times New Roman"/>
              </a:rPr>
              <a:t>游戏业的增长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624996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cc"/>
                </a:solidFill>
                <a:latin typeface="Times New Roman"/>
              </a:rPr>
              <a:t>游戏业的增长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3880" y="2209680"/>
          <a:ext cx="6249960" cy="43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09680"/>
                    <a:ext cx="6249960" cy="43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01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年各类单机游戏市场比例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1638360"/>
          <a:ext cx="8400960" cy="48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38360"/>
                    <a:ext cx="8400960" cy="48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游戏市场的几方面的特点——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单机游戏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3123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中文化界面和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XX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国文化的题材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短期市场操作与长期品牌运作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渠道复杂，管理困难，信用度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市场周期短，与盗版直接赛跑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cc"/>
                </a:solidFill>
                <a:uFillTx/>
                <a:latin typeface="Times New Roman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游戏市场的几方面的特点——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网络游戏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3123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卡和点数卡价格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网络带宽情况不佳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带宽租用和服务器租用成本高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运营管理决定盈利与否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二）游戏的未来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电子游戏将成为未来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XX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国人的主要休闲方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XX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国未来经济的发展和信息业的发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庞大的潜在用户群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WTO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XX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国的影响。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4716360" y="0"/>
            <a:ext cx="4724640" cy="1447920"/>
          </a:xfrm>
          <a:custGeom>
            <a:avLst/>
            <a:gdLst>
              <a:gd name="textAreaLeft" fmla="*/ 1109520 w 4724640"/>
              <a:gd name="textAreaRight" fmla="*/ 3615120 w 4724640"/>
              <a:gd name="textAreaTop" fmla="*/ 339840 h 1447920"/>
              <a:gd name="textAreaBottom" fmla="*/ 11080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9" y="12346"/>
                </a:lnTo>
                <a:lnTo>
                  <a:pt x="786" y="14846"/>
                </a:lnTo>
                <a:lnTo>
                  <a:pt x="4007" y="15212"/>
                </a:lnTo>
                <a:lnTo>
                  <a:pt x="3163" y="18437"/>
                </a:lnTo>
                <a:lnTo>
                  <a:pt x="6271" y="17515"/>
                </a:lnTo>
                <a:lnTo>
                  <a:pt x="6580" y="20741"/>
                </a:lnTo>
                <a:lnTo>
                  <a:pt x="9116" y="18723"/>
                </a:lnTo>
                <a:lnTo>
                  <a:pt x="10800" y="21600"/>
                </a:lnTo>
                <a:lnTo>
                  <a:pt x="12346" y="18751"/>
                </a:lnTo>
                <a:lnTo>
                  <a:pt x="14846" y="20814"/>
                </a:lnTo>
                <a:lnTo>
                  <a:pt x="15212" y="17593"/>
                </a:lnTo>
                <a:lnTo>
                  <a:pt x="18437" y="18437"/>
                </a:lnTo>
                <a:lnTo>
                  <a:pt x="17515" y="15329"/>
                </a:lnTo>
                <a:lnTo>
                  <a:pt x="20741" y="15020"/>
                </a:lnTo>
                <a:lnTo>
                  <a:pt x="18723" y="12484"/>
                </a:lnTo>
                <a:lnTo>
                  <a:pt x="21600" y="10800"/>
                </a:lnTo>
                <a:lnTo>
                  <a:pt x="18751" y="9254"/>
                </a:lnTo>
                <a:lnTo>
                  <a:pt x="20814" y="6754"/>
                </a:lnTo>
                <a:lnTo>
                  <a:pt x="17593" y="6388"/>
                </a:lnTo>
                <a:lnTo>
                  <a:pt x="18437" y="3163"/>
                </a:lnTo>
                <a:lnTo>
                  <a:pt x="15329" y="4085"/>
                </a:lnTo>
                <a:lnTo>
                  <a:pt x="15020" y="859"/>
                </a:lnTo>
                <a:lnTo>
                  <a:pt x="12484" y="2877"/>
                </a:lnTo>
                <a:lnTo>
                  <a:pt x="10800" y="0"/>
                </a:lnTo>
                <a:lnTo>
                  <a:pt x="9254" y="2849"/>
                </a:lnTo>
                <a:lnTo>
                  <a:pt x="6754" y="786"/>
                </a:lnTo>
                <a:lnTo>
                  <a:pt x="6388" y="4007"/>
                </a:lnTo>
                <a:lnTo>
                  <a:pt x="3163" y="3163"/>
                </a:lnTo>
                <a:lnTo>
                  <a:pt x="4085" y="6271"/>
                </a:lnTo>
                <a:lnTo>
                  <a:pt x="859" y="6580"/>
                </a:lnTo>
                <a:lnTo>
                  <a:pt x="2877" y="9116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Futu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楷体_GB2312"/>
                <a:ea typeface="楷体_GB2312"/>
              </a:rPr>
              <a:t>电子游戏将成为未来</a:t>
            </a:r>
            <a:r>
              <a:rPr b="1" lang="en-US" sz="4000" spc="-1" strike="noStrike">
                <a:solidFill>
                  <a:srgbClr val="66ffcc"/>
                </a:solidFill>
                <a:latin typeface="楷体_GB2312"/>
                <a:ea typeface="楷体_GB2312"/>
              </a:rPr>
              <a:t>XX</a:t>
            </a:r>
            <a:r>
              <a:rPr b="1" lang="en-US" sz="4000" spc="-1" strike="noStrike">
                <a:solidFill>
                  <a:srgbClr val="66ffcc"/>
                </a:solidFill>
                <a:latin typeface="楷体_GB2312"/>
                <a:ea typeface="楷体_GB2312"/>
              </a:rPr>
              <a:t>国人的主要休闲方式</a:t>
            </a:r>
            <a:br>
              <a:rPr sz="4000"/>
            </a:b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亚洲地区人口多，居住面积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东方人外静内动的性格特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资源消耗小，投入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4:28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2:48:2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