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29BB-0041-46AC-A608-1A709E25B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6847-250D-48A6-B2DE-29A968BA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1F73-1D0D-4FCA-BD0C-91C89B01D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5A36-F5F8-4B37-974F-9706A3F78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0FC9-E224-4E10-9499-B6393C3A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503A-D45F-4773-B52C-71FA082D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6079-B6AF-4879-AA71-3CDC607D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3661-2338-4704-AD09-A0EAE990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F305-7EB5-4CB7-A411-4405EECF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2287-A178-4AA0-A6C0-FA07A870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DD1B-06C5-4D6F-80EF-2F959452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E3D7-3080-48E9-A7C8-1F221F80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F8C1-7063-436E-8858-D308B929460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5680"/>
            <a:ext cx="2429280" cy="2249640"/>
            <a:chOff x="7170480" y="-85680"/>
            <a:chExt cx="2429280" cy="22496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5680"/>
              <a:ext cx="2429280" cy="2249640"/>
              <a:chOff x="7170480" y="-85680"/>
              <a:chExt cx="2429280" cy="22496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5680"/>
                <a:ext cx="2429280" cy="2249640"/>
                <a:chOff x="7170480" y="-85680"/>
                <a:chExt cx="2429280" cy="22496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77880" y="112680"/>
                  <a:ext cx="24372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08560" y="523440"/>
                  <a:ext cx="42804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06160" y="285840"/>
                  <a:ext cx="8042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760" y="-27360"/>
                  <a:ext cx="1206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3840" y="1422360"/>
                  <a:ext cx="26892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4360" y="1278000"/>
                  <a:ext cx="28800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07760" y="328680"/>
                  <a:ext cx="28836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0160" y="219960"/>
                  <a:ext cx="284760" cy="2185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-441720"/>
            <a:ext cx="78483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5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6948360" y="6453360"/>
            <a:ext cx="20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"/>
          <p:cNvSpPr/>
          <p:nvPr/>
        </p:nvSpPr>
        <p:spPr>
          <a:xfrm>
            <a:off x="1187280" y="3070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mic Sans MS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Comic Sans MS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"/>
          <p:cNvSpPr/>
          <p:nvPr/>
        </p:nvSpPr>
        <p:spPr>
          <a:xfrm>
            <a:off x="1260360" y="1844640"/>
            <a:ext cx="417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倒数的认识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971640" y="2492280"/>
                <a:ext cx="167616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复习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513240" y="2492280"/>
                <a:ext cx="211752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372360" y="2492280"/>
                <a:ext cx="154296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Text Box 8"/>
          <p:cNvSpPr/>
          <p:nvPr/>
        </p:nvSpPr>
        <p:spPr>
          <a:xfrm>
            <a:off x="2556000" y="2749680"/>
            <a:ext cx="8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5435640" y="2708280"/>
            <a:ext cx="8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7812000" y="2708280"/>
            <a:ext cx="8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723960" y="1989000"/>
            <a:ext cx="76960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703dff"/>
                </a:solidFill>
                <a:latin typeface="宋体"/>
              </a:rPr>
              <a:t>乘积是</a:t>
            </a:r>
            <a:r>
              <a:rPr b="1" lang="en-US" sz="6600" spc="-1" strike="noStrike">
                <a:solidFill>
                  <a:srgbClr val="703dff"/>
                </a:solidFill>
                <a:latin typeface="宋体"/>
              </a:rPr>
              <a:t>1</a:t>
            </a:r>
            <a:r>
              <a:rPr b="1" lang="zh-CN" sz="6600" spc="-1" strike="noStrike">
                <a:solidFill>
                  <a:srgbClr val="703dff"/>
                </a:solidFill>
                <a:latin typeface="宋体"/>
              </a:rPr>
              <a:t>的两个数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703dff"/>
                </a:solidFill>
                <a:latin typeface="宋体"/>
              </a:rPr>
              <a:t>互为倒数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065600" y="198900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宋体"/>
              </a:rPr>
              <a:t>乘积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3219120" y="198900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1065600" y="319896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宋体"/>
              </a:rPr>
              <a:t>互为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omic Sans MS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omic Sans MS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omic Sans MS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omic Sans MS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8EA8-EA43-4AD8-8FCF-DA0F305C06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12"/>
          <p:cNvSpPr/>
          <p:nvPr/>
        </p:nvSpPr>
        <p:spPr>
          <a:xfrm>
            <a:off x="250920" y="620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模板下载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moban/     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行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模板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节日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模板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jieri/           PPT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素材下载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背景图片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beijing/      PPT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图表下载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优秀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下载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xiazai/        PPT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教程： 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ord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教程： 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word/              Excel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教程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资料下载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ziliao/                PPT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课件下载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范文下载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fanwen/             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试卷下载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教案下载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16000" y="85680"/>
            <a:ext cx="4321080" cy="1575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345960"/>
            <a:ext cx="93528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例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11280" y="1735200"/>
            <a:ext cx="2519280" cy="11318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068720" y="1735200"/>
            <a:ext cx="2232000" cy="11174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5364000" y="1692360"/>
            <a:ext cx="411480" cy="1060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539640" y="2959200"/>
            <a:ext cx="2519640" cy="1131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4068720" y="2959200"/>
            <a:ext cx="2232000" cy="1117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5380200" y="2930400"/>
            <a:ext cx="377640" cy="10605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2"/>
          <p:cNvSpPr/>
          <p:nvPr/>
        </p:nvSpPr>
        <p:spPr>
          <a:xfrm>
            <a:off x="2050920" y="41148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dff"/>
                </a:solidFill>
                <a:latin typeface="宋体"/>
              </a:rPr>
              <a:t>求一个数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(0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除外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)</a:t>
            </a:r>
            <a:r>
              <a:rPr b="1" lang="zh-CN" sz="4000" spc="-1" strike="noStrike">
                <a:solidFill>
                  <a:srgbClr val="703dff"/>
                </a:solidFill>
                <a:latin typeface="宋体"/>
              </a:rPr>
              <a:t>的倒数，只要把这个数的分子、分母调换位置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"/>
          <p:cNvSpPr/>
          <p:nvPr/>
        </p:nvSpPr>
        <p:spPr>
          <a:xfrm>
            <a:off x="6877080" y="64548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Object 5" descr=""/>
          <p:cNvPicPr/>
          <p:nvPr/>
        </p:nvPicPr>
        <p:blipFill>
          <a:blip r:embed="rId1"/>
          <a:stretch/>
        </p:blipFill>
        <p:spPr>
          <a:xfrm>
            <a:off x="316080" y="698400"/>
            <a:ext cx="7448400" cy="5869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06640" y="626112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b200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6T06:48:0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4T11:25:22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