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B82B-B045-413E-8ABC-E9AB809BC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256D-A12B-4753-ACC4-FCB3F8EEC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AE61-B602-4137-A08C-F2A4EA112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9B64-1AEB-4357-88E2-66C4546C5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72733-FAF6-41C0-AB3D-18F29E9E5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10B29-23E8-4A31-9C78-660D96153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3380C-982C-4A04-B83A-B14C221A1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A7FC8-EA82-49AE-B270-AD881C484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C37D5-FC22-498D-83EF-90994A3A8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45983-76E8-4E7A-AFBF-F94101C3C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A36DE-5794-496E-962D-EF4B9F66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7ED8-399A-4FDD-87C9-054656726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5183B-BE09-489A-A298-875515C8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84343-408D-47B9-B4EE-E0F853973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33BB4-BA3A-4329-8015-7D5A609AF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D26EC-AFAB-4AEA-881E-344F51B88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F7E8C-67EE-4E72-A9DD-C4481F0D6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A56A-2A28-4AAB-A157-0CE91C0AB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4AF3-ECE2-4130-ACFE-37AC619D3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3969-DE5C-40D7-97BB-3B4F9A9E4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E1F8-47DB-4F57-8296-9FAF7C2CA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4BF8-A6AD-4688-83BE-6BF8C9F2D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BA52-53BB-472D-92C6-4B396E84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3702-807B-4D9C-8C43-B613252A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3B5BC-2F0E-4FC6-A2C6-E67DA46B890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480"/>
              <a:chOff x="290520" y="2546280"/>
              <a:chExt cx="711360" cy="47448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480"/>
              <a:chOff x="414360" y="2968560"/>
              <a:chExt cx="737640" cy="47448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360" y="2968560"/>
                <a:ext cx="36864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5944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079FF-1993-4A79-A09C-15FB473FA1F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moban/kejian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576520" y="1087560"/>
            <a:ext cx="18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981080"/>
            <a:ext cx="353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ahoma"/>
                <a:ea typeface="隶书"/>
              </a:rPr>
              <a:t>教学设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58680" y="4114800"/>
            <a:ext cx="188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高青县花沟中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李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63680" y="762120"/>
            <a:ext cx="30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06280" y="617544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743560" y="819000"/>
            <a:ext cx="285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  <a:ea typeface="宋体"/>
              </a:rPr>
              <a:t>二次函数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宋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  <a:ea typeface="宋体"/>
              </a:rPr>
              <a:t>课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325760" y="91440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三，归纳小结，问题解决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621160" y="182880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四，变式探究，问题迁移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76600" y="297180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隶书"/>
              </a:rPr>
              <a:t>给学生留下思考题，继续探究，开拓思路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2057400" y="1752480"/>
            <a:ext cx="632448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宋体"/>
              </a:rPr>
              <a:t>谢谢指导！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918440" y="60948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ahoma"/>
              </a:rPr>
              <a:t>课程目标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2286000"/>
            <a:ext cx="777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ahoma"/>
              </a:rPr>
              <a:t>熟练的利用二次函数的概念和性质解决实际生活，生产中的最值问题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92000" y="5859360"/>
            <a:ext cx="6112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使用规范说明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ahoma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ahoma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1746-4F36-46E5-B357-88B4D81F1AE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337120" y="685800"/>
            <a:ext cx="347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ahoma"/>
              </a:rPr>
              <a:t>教学方法和手段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21337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，探究性学习教学法：具体是在教师的指导下，以发现、发明的心理动机去探索、寻求解决问题的办法，以类似科学研究的方法去获取知识，应用知识解决实际问题。从而在掌握知识内容的同时，让学生体验、理解、应用科学方法，培养创新精神和实践能力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，多媒体辅助教学：通过多媒体课件的动态演示，可以极大提高学生的学习兴趣，增加课堂容量，从而更好的完成课堂目标，提高课堂效率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359800" y="69516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ahoma"/>
              </a:rPr>
              <a:t>学法指导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04760" y="1752480"/>
            <a:ext cx="23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ahoma"/>
                <a:ea typeface="隶书"/>
              </a:rPr>
              <a:t>主动发现问题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33920" y="2514600"/>
            <a:ext cx="304560" cy="762120"/>
          </a:xfrm>
          <a:prstGeom prst="downArrow">
            <a:avLst>
              <a:gd name="adj1" fmla="val 50000"/>
              <a:gd name="adj2" fmla="val 62559"/>
            </a:avLst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3276720"/>
            <a:ext cx="7165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ahoma"/>
                <a:ea typeface="隶书"/>
              </a:rPr>
              <a:t>（自主探索，共同研究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1" lang="zh-CN" sz="4800" spc="-1" strike="noStrike">
                <a:solidFill>
                  <a:srgbClr val="0000ff"/>
                </a:solidFill>
                <a:latin typeface="Tahoma"/>
                <a:ea typeface="隶书"/>
              </a:rPr>
              <a:t>分析问题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05280" y="5486400"/>
            <a:ext cx="27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ahoma"/>
                <a:ea typeface="隶书"/>
              </a:rPr>
              <a:t>创造性解决问题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09880" y="480060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6280" y="617544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273760" y="762120"/>
            <a:ext cx="30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ahoma"/>
                <a:ea typeface="隶书"/>
              </a:rPr>
              <a:t>教学活动过程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9400" y="1903320"/>
            <a:ext cx="89946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一，创设情景，发现问题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引例   用长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60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米篱笆围成一个矩形园子，请同学们写出自己的设计方案，并计算矩形的面积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39625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隶书"/>
              </a:rPr>
              <a:t>（学生可能设计出多种，教师可以利用多媒体列举出几种，并利用课件演示所有可能的情况，让学生观察发现面积最大的一种设计方案，出示解题过程，并总结归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隶书"/>
              </a:rPr>
              <a:t>利用二次函数的性质求实际最值问题的一般步骤。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484000" y="611280"/>
            <a:ext cx="456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ahoma"/>
              </a:rPr>
              <a:t>二，分析讨论，研究问题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7680" y="2065320"/>
            <a:ext cx="862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训练题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1   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如图，用长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60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米的篱笆，一面靠墙围成矩形园子，该如何设计，使矩形面积最大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6172200" y="3352680"/>
            <a:ext cx="2971800" cy="1219320"/>
            <a:chOff x="6172200" y="3352680"/>
            <a:chExt cx="2971800" cy="1219320"/>
          </a:xfrm>
        </p:grpSpPr>
        <p:sp>
          <p:nvSpPr>
            <p:cNvPr id="125" name=""/>
            <p:cNvSpPr/>
            <p:nvPr/>
          </p:nvSpPr>
          <p:spPr>
            <a:xfrm>
              <a:off x="6172200" y="3352680"/>
              <a:ext cx="297180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858000" y="3352680"/>
              <a:ext cx="0" cy="12193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534520" y="3352680"/>
              <a:ext cx="0" cy="12193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858000" y="4495680"/>
              <a:ext cx="16765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1549440" y="3809880"/>
            <a:ext cx="3838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隶书"/>
              </a:rPr>
              <a:t>（让学生发现本题与引例的区别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隶书"/>
              </a:rPr>
              <a:t>联系，自己来解决问题，并说明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隶书"/>
              </a:rPr>
              <a:t>两种解题方法。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04920" y="213372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用长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6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米的铝合金条制成如图形状的矩形窗框，问宽和高各是多少米时，窗户的透光面积最大？最大面积是多少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08280" y="685800"/>
            <a:ext cx="1971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ahoma"/>
                <a:ea typeface="隶书"/>
              </a:rPr>
              <a:t>训练题</a:t>
            </a:r>
            <a:r>
              <a:rPr b="1" lang="en-US" sz="5400" spc="-1" strike="noStrike">
                <a:solidFill>
                  <a:srgbClr val="ff0000"/>
                </a:solidFill>
                <a:latin typeface="Tahoma"/>
                <a:ea typeface="隶书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7238880" y="3809880"/>
            <a:ext cx="1371600" cy="2209680"/>
            <a:chOff x="7238880" y="3809880"/>
            <a:chExt cx="1371600" cy="2209680"/>
          </a:xfrm>
        </p:grpSpPr>
        <p:sp>
          <p:nvSpPr>
            <p:cNvPr id="133" name=""/>
            <p:cNvSpPr/>
            <p:nvPr/>
          </p:nvSpPr>
          <p:spPr>
            <a:xfrm>
              <a:off x="7238880" y="3809880"/>
              <a:ext cx="1371600" cy="2209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238880" y="441936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3232440" y="4343400"/>
            <a:ext cx="53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隶书"/>
              </a:rPr>
              <a:t>（通过问题变形，进一步培养学生解决实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隶书"/>
              </a:rPr>
              <a:t>问题的能力。利用多媒体演示。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06280" y="617544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660680" y="934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21040" y="490680"/>
            <a:ext cx="1971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ahoma"/>
                <a:ea typeface="隶书"/>
              </a:rPr>
              <a:t>训练题</a:t>
            </a:r>
            <a:r>
              <a:rPr b="1" lang="en-US" sz="5400" spc="-1" strike="noStrike">
                <a:solidFill>
                  <a:srgbClr val="ff0000"/>
                </a:solidFill>
                <a:latin typeface="Tahoma"/>
                <a:ea typeface="隶书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2362320"/>
            <a:ext cx="847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如图，矩形的对角线长是否随边长的变化而变化？有最大值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762120" y="3962520"/>
            <a:ext cx="2209680" cy="1447560"/>
            <a:chOff x="762120" y="3962520"/>
            <a:chExt cx="2209680" cy="1447560"/>
          </a:xfrm>
        </p:grpSpPr>
        <p:sp>
          <p:nvSpPr>
            <p:cNvPr id="141" name=""/>
            <p:cNvSpPr/>
            <p:nvPr/>
          </p:nvSpPr>
          <p:spPr>
            <a:xfrm>
              <a:off x="762120" y="3962520"/>
              <a:ext cx="2209680" cy="1447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2120" y="3962520"/>
              <a:ext cx="2209680" cy="1447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76720" y="3886200"/>
            <a:ext cx="586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隶书"/>
              </a:rPr>
              <a:t>（先利用多媒体进行演示变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隶书"/>
              </a:rPr>
              <a:t>情况，在让学生自己来解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隶书"/>
              </a:rPr>
              <a:t>问题。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1T02:12:28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3T08:08:46Z</dcterms:modified>
  <cp:revision>1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