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7B7-7E2D-4F2C-8EE3-72DB6371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329-967C-488F-8A14-A7042B66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ADB-97BC-48DC-BEDD-6C7CFAC1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F5B-15ED-45DA-BBEF-8F76DE20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E14E-6D8D-4D9F-93D5-F7E44FC9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3C88-4C53-4154-AB31-50058E71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4177-11F5-4CF5-AE56-8C5DA2A2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3F1E-E858-4B9C-9A7B-73CB7C86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D8EF-23C4-4307-9015-EE8772B5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419C-C31A-4A56-8CC2-2FB3D5D1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3391-85D5-4A6E-BD2A-A43402A4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81D-4177-4904-962D-C0F09643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6384-8E45-4BBD-85E0-2ADB368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3CB4-6B90-42F5-AE06-8EC1D136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7D5D-63DE-4A31-A5CF-EC7E2452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142D-EE27-4550-9186-D2E652F6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98DD-4CE3-4D2E-915B-08269AAE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3E6E-9BA8-4E31-8C56-16B67E5D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EF29-8DA3-4D2F-B978-3BA1BDA4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9B8C-C5C0-4515-A943-BBF740D3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9959-3400-4E5A-A7C8-E9647794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843A-CDC1-4C29-8BE6-C457F083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1C3-D427-4085-B4D2-FDA171CF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9323-32E3-477F-9B00-E51DD956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44BF-380C-407E-A025-628026ED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6ED92-7E76-4492-B605-36E9FC44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D715-7895-4FB2-B85C-4AB5E765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2C10-DE63-4485-A0C7-51B8968E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E0BDB-EE96-423D-A298-B6D5FD8A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BA60-B4B6-4373-A1A2-37CB4483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1ED69-959E-4118-B120-34EDFDCD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E8B51-B108-4583-AB4F-1234B3EA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69A2-4063-484C-ACF9-5BF9F572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DF5-935A-472E-9BB8-1D7F3D0F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44284-4F45-4897-BE65-CF4A7E45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F69F-7603-4168-AF42-DFD3D4E6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7CED-9CBC-41B2-B052-99A00862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55319-A95A-4B10-A6CD-DC048501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D483-D6ED-4B9E-8A51-6C7206AA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DE7D2-09C8-40FC-8118-ED7C7F24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03828-63F4-49B7-8A1F-1B4AB700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18CC-B6BF-43FF-B535-3191055A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CE61-7378-40F2-8A58-C51204A9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9B8F3-6084-4AFB-9F15-89703027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B08-1858-4A8F-AD78-C157DD88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4C58D-B63E-4214-ADB3-D1CC7ECB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52592-1833-4A4A-8220-B34657A7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58763-E9E5-46C8-B116-7BD8A62F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BFBC6-CDCA-41B5-9320-DEEDAA3C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CDB8-BB92-4FAD-BC20-4BDF4F4A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C6A6E-B892-4548-8B33-66B7E256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329DB-AE37-4A2F-8A9A-579097F4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00A8-34FD-4923-835B-E07BC6EB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3FCA7-2FFA-4A71-9300-17F5B124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F43CB-66D1-4A88-ACEC-3F1055E0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697-529C-483F-B4EA-6B42AD56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331AB-653E-4B68-935C-62824327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B8A13-6DFB-4720-B6A4-3A6DDED8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72497-5078-4A9A-8869-00E43075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5395D-721B-4F59-A182-C7E5C768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2DF5B-4C98-4CD5-A46F-7B2D3202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D6D0C-2300-4394-9C9F-1207F37F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0D59F-EFD0-4E93-A178-B118AD9C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A1312-05B8-4CA0-BD05-8433F724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0315-74D4-4C7E-8836-7B3D9394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B70D8-CD9D-4873-A0EB-C865C581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961-30C8-4BBA-A543-540513F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8CFB4-D65F-4A14-A20A-DE9B4168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262C9-08A1-4A9F-AE29-31469572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E17FD-254C-40A0-BAB9-FB939FAB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C9665-6E4E-476A-8840-61D175D9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6318E-C93E-4DBE-A3D3-4527A47E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8BA73-03F0-4747-9FC4-AF3CEE32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2A5F2-5E97-4EFB-BC18-A7FA439A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F00D8-0D9D-4589-8E6B-AE7A94FB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C2E09-AFCD-49A2-8827-7726CB4E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B2781-38F1-4B16-88DA-C084EF8A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E0A-A0CA-4C67-AF7C-69F54B88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11987-B0F1-4674-80B1-2CE1549C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5883A-3505-4602-B91F-A5A9218C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13463-1E1E-4F13-BA8D-8A3CB597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5D86-B89E-4CFC-9BEF-C82CE055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941B-D1EC-4285-85E2-B67D20A6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C8617-BD00-4370-8E40-56020003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E338C-9D9F-4382-8E95-0EC65E16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FFC1E-3615-4185-8581-CAE1C3DC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ABBBE-DCED-419B-A92F-D78745EE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40368-4EA1-4F94-903E-0D0F526B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C5F-9D67-43E7-8227-67750697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2C390-C307-4E63-A4F0-8B02A7EC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2F132-A930-4911-9B47-563A9745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1B1A7-A000-4502-9485-CC564DE5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C99C4-5057-4494-B59E-0F314FC0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66486-7284-43B5-8331-633BA52B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C5D0A-6B29-4F27-A33A-37C6FD13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B829A-B2B7-4636-A0B9-83817416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379B-B042-414E-8A3C-EE1C52DB27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C94F-CB55-4707-87AB-B4AAE7ED8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9FC4-FDBB-4B1D-B00A-B69B96ADD4A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5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6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07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08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110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grpSp>
            <p:nvGrpSpPr>
              <p:cNvPr id="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4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7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9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20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124" name="Group 40"/>
          <p:cNvGrpSpPr/>
          <p:nvPr/>
        </p:nvGrpSpPr>
        <p:grpSpPr>
          <a:xfrm>
            <a:off x="7170120" y="-85680"/>
            <a:ext cx="2430000" cy="2250360"/>
            <a:chOff x="7170120" y="-85680"/>
            <a:chExt cx="2430000" cy="2250360"/>
          </a:xfrm>
        </p:grpSpPr>
        <p:grpSp>
          <p:nvGrpSpPr>
            <p:cNvPr id="125" name="Group 41"/>
            <p:cNvGrpSpPr/>
            <p:nvPr/>
          </p:nvGrpSpPr>
          <p:grpSpPr>
            <a:xfrm>
              <a:off x="7170120" y="-85680"/>
              <a:ext cx="2430000" cy="2250360"/>
              <a:chOff x="7170120" y="-85680"/>
              <a:chExt cx="2430000" cy="2250360"/>
            </a:xfrm>
          </p:grpSpPr>
          <p:sp>
            <p:nvSpPr>
              <p:cNvPr id="126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grpSp>
            <p:nvGrpSpPr>
              <p:cNvPr id="127" name="Group 43"/>
              <p:cNvGrpSpPr/>
              <p:nvPr/>
            </p:nvGrpSpPr>
            <p:grpSpPr>
              <a:xfrm>
                <a:off x="7170120" y="-85680"/>
                <a:ext cx="2430000" cy="2250360"/>
                <a:chOff x="7170120" y="-85680"/>
                <a:chExt cx="2430000" cy="225036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 rot="18427200">
                  <a:off x="7876440" y="113040"/>
                  <a:ext cx="2437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29" name="Freeform 45"/>
                <p:cNvSpPr/>
                <p:nvPr/>
              </p:nvSpPr>
              <p:spPr>
                <a:xfrm rot="18427200">
                  <a:off x="8006400" y="522360"/>
                  <a:ext cx="4287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0" name="Freeform 46"/>
                <p:cNvSpPr/>
                <p:nvPr/>
              </p:nvSpPr>
              <p:spPr>
                <a:xfrm rot="18427200">
                  <a:off x="7704360" y="285120"/>
                  <a:ext cx="8049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1" name="Freeform 47"/>
                <p:cNvSpPr/>
                <p:nvPr/>
              </p:nvSpPr>
              <p:spPr>
                <a:xfrm rot="18427200">
                  <a:off x="7781040" y="-27000"/>
                  <a:ext cx="12078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2" name="Freeform 48"/>
                <p:cNvSpPr/>
                <p:nvPr/>
              </p:nvSpPr>
              <p:spPr>
                <a:xfrm rot="18427200">
                  <a:off x="8402400" y="1422360"/>
                  <a:ext cx="26928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3" name="Freeform 49"/>
                <p:cNvSpPr/>
                <p:nvPr/>
              </p:nvSpPr>
              <p:spPr>
                <a:xfrm rot="18427200">
                  <a:off x="8332200" y="127728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4" name="Freeform 50"/>
                <p:cNvSpPr/>
                <p:nvPr/>
              </p:nvSpPr>
              <p:spPr>
                <a:xfrm rot="18427200">
                  <a:off x="7906320" y="327960"/>
                  <a:ext cx="28836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5" name="Freeform 51"/>
                <p:cNvSpPr/>
                <p:nvPr/>
              </p:nvSpPr>
              <p:spPr>
                <a:xfrm rot="18427200">
                  <a:off x="7848360" y="21888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36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DE05-37D6-4687-8227-23525D4FC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BC4D-090E-462C-BB78-A1C6D2498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57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grpSp>
          <p:nvGrpSpPr>
            <p:cNvPr id="258" name="Group 4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259" name="Freeform 5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0" name="Freeform 6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1" name="Freeform 7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</p:grpSp>
        <p:sp>
          <p:nvSpPr>
            <p:cNvPr id="262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grpSp>
          <p:nvGrpSpPr>
            <p:cNvPr id="263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64" name="Freeform 10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6" name="Freeform 12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7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8" name="Freeform 14"/>
              <p:cNvSpPr/>
              <p:nvPr/>
            </p:nvSpPr>
            <p:spPr>
              <a:xfrm flipH="1" rot="789600">
                <a:off x="80820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grpSp>
            <p:nvGrpSpPr>
              <p:cNvPr id="269" name="Group 15"/>
              <p:cNvGrpSpPr/>
              <p:nvPr/>
            </p:nvGrpSpPr>
            <p:grpSpPr>
              <a:xfrm>
                <a:off x="852120" y="4055400"/>
                <a:ext cx="1833840" cy="1663560"/>
                <a:chOff x="852120" y="4055400"/>
                <a:chExt cx="1833840" cy="1663560"/>
              </a:xfrm>
            </p:grpSpPr>
            <p:sp>
              <p:nvSpPr>
                <p:cNvPr id="270" name="Freeform 16"/>
                <p:cNvSpPr/>
                <p:nvPr/>
              </p:nvSpPr>
              <p:spPr>
                <a:xfrm flipH="1" rot="7102800">
                  <a:off x="1262160" y="3944880"/>
                  <a:ext cx="474120" cy="12157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271" name="Freeform 17"/>
                <p:cNvSpPr/>
                <p:nvPr/>
              </p:nvSpPr>
              <p:spPr>
                <a:xfrm flipH="1" rot="7102800">
                  <a:off x="2328480" y="4973040"/>
                  <a:ext cx="108720" cy="4986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272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73" name="Group 19"/>
            <p:cNvGrpSpPr/>
            <p:nvPr/>
          </p:nvGrpSpPr>
          <p:grpSpPr>
            <a:xfrm>
              <a:off x="468000" y="6174000"/>
              <a:ext cx="790200" cy="634680"/>
              <a:chOff x="468000" y="6174000"/>
              <a:chExt cx="790200" cy="634680"/>
            </a:xfrm>
          </p:grpSpPr>
          <p:sp>
            <p:nvSpPr>
              <p:cNvPr id="274" name="Freeform 20"/>
              <p:cNvSpPr/>
              <p:nvPr/>
            </p:nvSpPr>
            <p:spPr>
              <a:xfrm rot="6248400">
                <a:off x="1012680" y="617436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75" name="Freeform 21"/>
              <p:cNvSpPr/>
              <p:nvPr/>
            </p:nvSpPr>
            <p:spPr>
              <a:xfrm rot="6248400">
                <a:off x="76068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76" name="Freeform 22"/>
              <p:cNvSpPr/>
              <p:nvPr/>
            </p:nvSpPr>
            <p:spPr>
              <a:xfrm rot="6248400">
                <a:off x="38664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</p:grpSp>
        <p:grpSp>
          <p:nvGrpSpPr>
            <p:cNvPr id="277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78" name="Freeform 24"/>
              <p:cNvSpPr/>
              <p:nvPr/>
            </p:nvSpPr>
            <p:spPr>
              <a:xfrm rot="5002800">
                <a:off x="838800" y="1747080"/>
                <a:ext cx="20736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79" name="Freeform 25"/>
              <p:cNvSpPr/>
              <p:nvPr/>
            </p:nvSpPr>
            <p:spPr>
              <a:xfrm rot="5002800">
                <a:off x="69264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 rot="5002800">
                <a:off x="216360" y="2205720"/>
                <a:ext cx="36936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</p:grpSp>
        <p:grpSp>
          <p:nvGrpSpPr>
            <p:cNvPr id="281" name="Group 27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282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83" name="Freeform 29"/>
              <p:cNvSpPr/>
              <p:nvPr/>
            </p:nvSpPr>
            <p:spPr>
              <a:xfrm>
                <a:off x="1543680" y="103320"/>
                <a:ext cx="29700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84" name="Freeform 30"/>
              <p:cNvSpPr/>
              <p:nvPr/>
            </p:nvSpPr>
            <p:spPr>
              <a:xfrm>
                <a:off x="148392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</p:grpSp>
        <p:sp>
          <p:nvSpPr>
            <p:cNvPr id="285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86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87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88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89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0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1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2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4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5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6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7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8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AD87-093C-486B-A378-A69E1FAD8F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4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48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8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0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50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1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51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2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2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4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4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5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5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7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7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grpSp>
          <p:nvGrpSpPr>
            <p:cNvPr id="57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7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C7E2-FC3A-4C1B-A944-EC720E2B0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628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629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631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632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第一</a:t>
            </a: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模板网</a:t>
            </a: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72F5-7832-4C9E-A246-B4F92FD74D2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ssyxx.org/xwzx/xszp/xszp.htm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4000" y="177120"/>
            <a:ext cx="7086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0000cc"/>
              </a:solidFill>
              <a:latin typeface="Arial"/>
              <a:ea typeface="华文新魏"/>
            </a:endParaRPr>
          </a:p>
        </p:txBody>
      </p:sp>
      <p:pic>
        <p:nvPicPr>
          <p:cNvPr id="675" name="Picture 5" descr="sk0163"/>
          <p:cNvPicPr/>
          <p:nvPr/>
        </p:nvPicPr>
        <p:blipFill>
          <a:blip r:embed="rId1"/>
          <a:stretch/>
        </p:blipFill>
        <p:spPr>
          <a:xfrm>
            <a:off x="5003640" y="2979720"/>
            <a:ext cx="2303640" cy="32418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4"/>
          <p:cNvPicPr/>
          <p:nvPr/>
        </p:nvPicPr>
        <p:blipFill>
          <a:blip r:embed="rId2"/>
          <a:stretch/>
        </p:blipFill>
        <p:spPr>
          <a:xfrm>
            <a:off x="900000" y="3500280"/>
            <a:ext cx="3168720" cy="253548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7858080" y="3141720"/>
            <a:ext cx="459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3367800" y="1270080"/>
            <a:ext cx="21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Tahoma"/>
              </a:rPr>
              <a:t>《傅雷家书两则》</a:t>
            </a:r>
            <a:r>
              <a:rPr b="0" lang="en-US" sz="3600" spc="-1" strike="noStrike">
                <a:solidFill>
                  <a:srgbClr val="292929"/>
                </a:solidFill>
                <a:latin typeface="Tahoma"/>
              </a:rPr>
              <a:t>PPT</a:t>
            </a:r>
            <a:r>
              <a:rPr b="0" lang="zh-CN" sz="3600" spc="-1" strike="noStrike">
                <a:solidFill>
                  <a:srgbClr val="292929"/>
                </a:solidFill>
                <a:latin typeface="Tahoma"/>
              </a:rPr>
              <a:t>课件</a:t>
            </a:r>
            <a:endParaRPr b="0" lang="en-US" sz="36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200487103616552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488952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WordArt 2"/>
          <p:cNvSpPr txBox="1"/>
          <p:nvPr/>
        </p:nvSpPr>
        <p:spPr>
          <a:xfrm>
            <a:off x="112680" y="23760"/>
            <a:ext cx="18669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黑体"/>
              </a:rPr>
              <a:t>课后研讨一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61128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华文中宋"/>
              </a:rPr>
              <a:t>这两封家书，分别写于儿子消沉苦闷和欣喜成功的时候，从两个方面表达了傅雷对人生的深刻体悟、对儿子的殷殷期望；以两种不同的风格展现出傅雷对儿子的舐犊深情，以及对音乐艺术的真切感受。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pic>
        <p:nvPicPr>
          <p:cNvPr id="713" name="Picture 4" descr="align=center"/>
          <p:cNvPicPr/>
          <p:nvPr/>
        </p:nvPicPr>
        <p:blipFill>
          <a:blip r:embed="rId1"/>
          <a:stretch/>
        </p:blipFill>
        <p:spPr>
          <a:xfrm>
            <a:off x="6618240" y="2708280"/>
            <a:ext cx="2417760" cy="36003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611280" y="2421000"/>
            <a:ext cx="5688000" cy="825480"/>
          </a:xfrm>
          <a:prstGeom prst="rect">
            <a:avLst/>
          </a:prstGeom>
          <a:noFill/>
          <a:ln w="9360">
            <a:solidFill>
              <a:srgbClr val="9966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第一封家书写于儿子精神消沉时，劝慰他如何面对感情的创伤，学会泰然处之；第二封信写在儿子取得了巨大成功、被鲜花与掌声簇拥的时候，激励他保持谦卑、不惧孤独，勇于攀登艺术的高峰。前者，如和风细雨，款款相慰；后者，则满怀欣喜，激情洋溢。前者偏重理性，后者充满感情。但融会贯穿于两封信中的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华文中宋"/>
              </a:rPr>
              <a:t>主旋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8000"/>
                </a:solidFill>
                <a:latin typeface="Tahoma"/>
                <a:ea typeface="华文中宋"/>
              </a:rPr>
              <a:t>都是要儿子做一个坚强的人，无论遭受了怎样的跌宕起伏、矛盾孤独，都要保持对艺术的不懈追求，对生活的赤子之心。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6912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中宋"/>
              </a:rPr>
              <a:t>什么是朋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3" descr="0520A2"/>
          <p:cNvPicPr/>
          <p:nvPr/>
        </p:nvPicPr>
        <p:blipFill>
          <a:blip r:embed="rId1"/>
          <a:stretch/>
        </p:blipFill>
        <p:spPr>
          <a:xfrm>
            <a:off x="6084720" y="189000"/>
            <a:ext cx="2665440" cy="3382920"/>
          </a:xfrm>
          <a:prstGeom prst="rect">
            <a:avLst/>
          </a:prstGeom>
          <a:ln w="0">
            <a:noFill/>
          </a:ln>
        </p:spPr>
      </p:pic>
      <p:sp>
        <p:nvSpPr>
          <p:cNvPr id="717" name="WordArt 4"/>
          <p:cNvSpPr txBox="1"/>
          <p:nvPr/>
        </p:nvSpPr>
        <p:spPr>
          <a:xfrm>
            <a:off x="112680" y="23760"/>
            <a:ext cx="258768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黑体"/>
              </a:rPr>
              <a:t>课后研讨二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684360" y="351936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华文中宋"/>
              </a:rPr>
              <a:t>在于情感上、精神上互相理解和慰藉。</a:t>
            </a:r>
            <a:endParaRPr b="0" lang="en-US" sz="40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684360" y="4959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华文中宋"/>
              </a:rPr>
              <a:t>在于志同道合，互为知音。</a:t>
            </a:r>
            <a:endParaRPr b="0" lang="en-US" sz="40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EECF3-8DD2-44AE-BE3C-A3435F453E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53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-9828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WordArt 3"/>
          <p:cNvSpPr txBox="1"/>
          <p:nvPr/>
        </p:nvSpPr>
        <p:spPr>
          <a:xfrm>
            <a:off x="250920" y="0"/>
            <a:ext cx="237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黑体"/>
              </a:rPr>
              <a:t>体验反思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250920" y="1486080"/>
            <a:ext cx="3600360" cy="1169280"/>
          </a:xfrm>
          <a:prstGeom prst="rect">
            <a:avLst/>
          </a:prstGeom>
          <a:solidFill>
            <a:srgbClr val="eded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Tahoma"/>
                <a:ea typeface="仿宋_GB2312"/>
              </a:rPr>
              <a:t>傅雷是伟大的，傅聪是幸运的。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Tahoma"/>
                <a:ea typeface="仿宋_GB2312"/>
              </a:rPr>
              <a:t>其实，天下绝大多数的父亲都一样，都有一颗慈爱的心，一份无私的爱，都期盼着自己的儿女能够健康顺利成长。现在静下心来，好好回想，你们感受到了父亲对你们的爱吗？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1106640" y="6405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99933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595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33"/>
                </a:solidFill>
                <a:uFillTx/>
                <a:latin typeface="Tahoma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292929"/>
                </a:solidFill>
                <a:latin typeface="Tahoma"/>
              </a:rPr>
              <a:t>http://www.eeppt.com/moban/kejian/</a:t>
            </a: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矩形 9"/>
          <p:cNvSpPr/>
          <p:nvPr/>
        </p:nvSpPr>
        <p:spPr>
          <a:xfrm>
            <a:off x="1332000" y="13874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</p:txBody>
      </p:sp>
      <p:pic>
        <p:nvPicPr>
          <p:cNvPr id="681" name="Picture 14" descr="60"/>
          <p:cNvPicPr/>
          <p:nvPr/>
        </p:nvPicPr>
        <p:blipFill>
          <a:blip r:embed="rId2"/>
          <a:stretch/>
        </p:blipFill>
        <p:spPr>
          <a:xfrm>
            <a:off x="684360" y="692280"/>
            <a:ext cx="2393640" cy="2952720"/>
          </a:xfrm>
          <a:prstGeom prst="rect">
            <a:avLst/>
          </a:prstGeom>
          <a:ln w="0">
            <a:noFill/>
          </a:ln>
        </p:spPr>
      </p:pic>
      <p:sp>
        <p:nvSpPr>
          <p:cNvPr id="682" name="WordArt 15"/>
          <p:cNvSpPr txBox="1"/>
          <p:nvPr/>
        </p:nvSpPr>
        <p:spPr>
          <a:xfrm>
            <a:off x="3492360" y="404640"/>
            <a:ext cx="21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傅雷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5796000" y="981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1908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～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1966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348000" y="162864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代翻译巨匠。幼年丧父，在寡母严教下，养成严谨、认真、一丝不苟的性格。早年留学法国，学习艺术理论，得以观摩世界级艺术大师的作品，大大地提高了他的艺术修养。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95280" y="364500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回国后曾任教上海美专，因不愿从流俗而闭门译书，几乎译遍法国重要作家如伏尔泰、巴尔扎克、罗曼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罗兰的重要作品。数百万言的译作成了中国译界备受推崇的范文，形成了“傅雷体华文语言”。他多艺兼通，在绘画、音乐、文学等方面，均显示出独特的高超的艺术鉴赏力。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57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被打成“右派”，但仍坚持自己的立场。“文革”中因不堪忍受污辱，与夫人朱梅馥双双含冤自尽，实现了文格与人格的统一。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4" descr="3"/>
          <p:cNvPicPr/>
          <p:nvPr/>
        </p:nvPicPr>
        <p:blipFill>
          <a:blip r:embed="rId2"/>
          <a:stretch/>
        </p:blipFill>
        <p:spPr>
          <a:xfrm>
            <a:off x="5651640" y="2565360"/>
            <a:ext cx="3030480" cy="367344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5"/>
          <p:cNvSpPr/>
          <p:nvPr/>
        </p:nvSpPr>
        <p:spPr>
          <a:xfrm>
            <a:off x="395280" y="692280"/>
            <a:ext cx="4753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本书是我国文学艺术翻译家傅雷及夫人写给傅聪、傅敏的家信摘编，写信时间为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954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至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966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月。 这是一部知识份子最佳修养读物，也是一部充满着父爱的苦心孤诣、呕心沥血的教子篇，贯穿全部家书的情意，是对儿子的舐犊之情，并要求儿子知道国家的荣辱，艺术的尊严，能够用严肃的态度对待一切，做一个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德艺俱备、人格卓越的艺术家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pic>
        <p:nvPicPr>
          <p:cNvPr id="688" name="WordArt 6" descr=""/>
          <p:cNvPicPr/>
          <p:nvPr/>
        </p:nvPicPr>
        <p:blipFill>
          <a:blip r:embed="rId3"/>
          <a:stretch/>
        </p:blipFill>
        <p:spPr>
          <a:xfrm>
            <a:off x="5022720" y="658800"/>
            <a:ext cx="40719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1258920" y="1915920"/>
            <a:ext cx="7632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庸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凭吊     谀词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扶掖     枘凿     垂手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廓然无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重蹈覆辙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涕泗横流      气吞牛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WordArt 5"/>
          <p:cNvSpPr txBox="1"/>
          <p:nvPr/>
        </p:nvSpPr>
        <p:spPr>
          <a:xfrm>
            <a:off x="324000" y="260280"/>
            <a:ext cx="287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预习检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157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第一封信  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1954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年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10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月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2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日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第一封家书的开头称呼是什么？为什么要这么称呼？</a:t>
            </a:r>
            <a:br>
              <a:rPr sz="3200"/>
            </a:br>
            <a:r>
              <a:rPr b="1" lang="zh-CN" sz="3200" spc="-1" strike="noStrike">
                <a:solidFill>
                  <a:srgbClr val="292929"/>
                </a:solidFill>
                <a:latin typeface="华文中宋"/>
                <a:ea typeface="华文中宋"/>
              </a:rPr>
              <a:t>（注意写回信时，要考虑到对方的心情、生活状态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3" name="Text Box 4"/>
          <p:cNvSpPr/>
          <p:nvPr/>
        </p:nvSpPr>
        <p:spPr>
          <a:xfrm>
            <a:off x="826920" y="43657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华文中宋"/>
                <a:ea typeface="华文中宋"/>
              </a:rPr>
              <a:t>称呼是“聪，亲爱的孩子”。因为傅聪当时正是精神消沉的时候，这样温情的称呼，会给傅聪带去父母的爱。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250920" y="2492280"/>
            <a:ext cx="6372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劝解分三层：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中宋"/>
              </a:rPr>
              <a:t>首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是宽慰，不必为父母担心。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中宋"/>
              </a:rPr>
              <a:t>其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肯定两点：一是父母永远都是孩子倾诉苦闷的对象；二是人的一生就是在情绪的起伏中度过。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中宋"/>
              </a:rPr>
              <a:t>最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以过来人的身份，给予傅聪如何面对情绪跌宕的建议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96" name="Picture 4" descr="122.jpg (21740 字节)"/>
          <p:cNvPicPr/>
          <p:nvPr/>
        </p:nvPicPr>
        <p:blipFill>
          <a:blip r:embed="rId1"/>
          <a:stretch/>
        </p:blipFill>
        <p:spPr>
          <a:xfrm>
            <a:off x="6804000" y="3429000"/>
            <a:ext cx="2211480" cy="30020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5"/>
          <p:cNvSpPr/>
          <p:nvPr/>
        </p:nvSpPr>
        <p:spPr>
          <a:xfrm>
            <a:off x="900000" y="476280"/>
            <a:ext cx="7272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在儿子面对挫折和心灵的苦闷时，作为父亲，傅雷是如何劝解的？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（注意文中运用的比喻和引用的故事）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4"/>
          <p:cNvSpPr/>
          <p:nvPr/>
        </p:nvSpPr>
        <p:spPr>
          <a:xfrm>
            <a:off x="755640" y="213372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这一封家书写于儿子精神消沉时，劝慰他如何面对感情的创伤，学会泰然处之。</a:t>
            </a:r>
            <a:endParaRPr b="0" lang="en-US" sz="4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99" name="WordArt 5"/>
          <p:cNvSpPr txBox="1"/>
          <p:nvPr/>
        </p:nvSpPr>
        <p:spPr>
          <a:xfrm>
            <a:off x="539640" y="907920"/>
            <a:ext cx="151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华文新魏"/>
              </a:rPr>
              <a:t>小结</a:t>
            </a:r>
            <a:endParaRPr b="1" lang="en-US" sz="1800" spc="-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华文新魏"/>
              <a:ea typeface="华文新魏"/>
            </a:endParaRPr>
          </a:p>
        </p:txBody>
      </p:sp>
    </p:spTree>
  </p:cSld>
  <p:transition spd="slow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第二封信 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1955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年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1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月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26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日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73080" y="2349000"/>
            <a:ext cx="7005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信的开头，傅雷把儿子的信比喻成了什么？表现了什么样的感情？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755640" y="40053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华文中宋"/>
              </a:rPr>
              <a:t>比喻成新年中的礼物。表现了傅雷夫妇对儿子的信的盼望和接到信后的喜悦。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424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黑体"/>
              </a:rPr>
              <a:t>理解坚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封信中都提到了“坚强”，你能找到信中对“坚强”内涵的直接解说吗？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05" name="Picture 4" descr="2"/>
          <p:cNvPicPr/>
          <p:nvPr/>
        </p:nvPicPr>
        <p:blipFill>
          <a:blip r:embed="rId1"/>
          <a:stretch/>
        </p:blipFill>
        <p:spPr>
          <a:xfrm>
            <a:off x="7596360" y="4508640"/>
            <a:ext cx="1520640" cy="234936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5"/>
          <p:cNvSpPr/>
          <p:nvPr/>
        </p:nvSpPr>
        <p:spPr>
          <a:xfrm>
            <a:off x="539640" y="2852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华文中宋"/>
                <a:ea typeface="华文中宋"/>
              </a:rPr>
              <a:t>总结：</a:t>
            </a:r>
            <a:r>
              <a:rPr b="1" lang="zh-CN" sz="3200" spc="-1" strike="noStrike">
                <a:solidFill>
                  <a:srgbClr val="292929"/>
                </a:solidFill>
                <a:latin typeface="华文中宋"/>
                <a:ea typeface="华文中宋"/>
              </a:rPr>
              <a:t>在傅雷看来，坚强，即是能够面对人生的挫折，情绪跌宕，更是能够正确面对掌声、赞美，用一种平和的心态，做到宠辱不惊，胜不骄，败不馁。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468360" y="5084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傅雷认为坚强的最高境界是什么？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468360" y="57340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华文中宋"/>
                <a:ea typeface="华文中宋"/>
              </a:rPr>
              <a:t>保持一颗纯洁的赤子之心。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2:48:39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15T07:46:00Z</dcterms:modified>
  <cp:revision>44</cp:revision>
  <dc:subject>第一PPT模板网-WWW.1PPT.COM</dc:subject>
  <dc:title>第一PPT模板网-WWW.1PPT.COM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