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EDD-EBA8-4AEC-93AA-0D24A736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DFF-0C93-4A3F-AC2D-5A6A7ABD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210-DB32-4DBC-A99F-DE0B96C7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F1C-77BF-4D68-9A56-EDCC2781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2EBE-467A-4EBF-8234-DBF7FC62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259B-B94B-4F3B-A0B1-1C05B7D9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B5AC-0E34-476B-99E4-068DB5F6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EC15-6E21-4E82-B87E-CECD6795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2703-DADE-419B-B032-5A9F1447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0720" y="14256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1FF9-28A1-4F2C-B0CF-F248079C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9642-87EE-4E12-B6CD-DFAEF7C6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A21-3A10-4AB5-A901-4A84EC9C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B424-67DA-4858-B54E-6E55DE9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381-CC84-4216-A1C5-DFF91FAE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D300-814C-465F-B5B0-39C9652E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F85D-4018-4224-B847-C4BF4224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B324-3930-42C6-9DCD-C0AA87DD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2E68-684E-4A20-AAF2-50277FCD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AA36-931C-4283-9CD7-6055A35B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67F3-3B66-4040-ADA5-8FDC792B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5763-700E-44E4-BC9F-69C07616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EA14-97FF-4882-879E-E76BA2C6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4BE-E13C-48D5-BCFA-42B761B4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0720" y="14256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99CC-01E4-40E9-8FB2-0C927DF4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68C10-9C72-4C64-AF7D-98B9086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EADB-A5CE-409E-904F-D53DC9B6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D236-03A8-4746-806E-D5003A75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29DC-6F3E-4EBB-BA5E-A52624A6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F29E-1E99-48B3-9BA2-E46B2DE8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BADD-CB18-4282-8745-49A42B1D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186-77C9-411D-B128-EAEFA33B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AAE-5E76-416C-9462-29A352D3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720" y="14256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B2E-4B2D-4471-9279-39190C15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441-61C0-458E-A857-86AC03CD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3F7-D4DC-4769-89F7-888F7CD6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E44-159F-4AF2-867D-3381E44F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封面2内页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D034-8999-47CC-A3AF-2E8588B2B40F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封底2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544C-6312-4CB1-ADAB-00B79E3CA64D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封底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51C3-7978-4B03-A06C-A0A87DB68611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880" y="1714320"/>
            <a:ext cx="500040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b0087"/>
                </a:solidFill>
                <a:latin typeface="华文细黑"/>
              </a:rPr>
              <a:t>感恩母亲节</a:t>
            </a:r>
            <a:r>
              <a:rPr b="0" lang="en-US" sz="2800" spc="-1" strike="noStrike">
                <a:solidFill>
                  <a:srgbClr val="eb0087"/>
                </a:solidFill>
                <a:latin typeface="华文细黑"/>
              </a:rPr>
              <a:t>PPT</a:t>
            </a:r>
            <a:r>
              <a:rPr b="0" lang="zh-CN" sz="2800" spc="-1" strike="noStrike">
                <a:solidFill>
                  <a:srgbClr val="eb0087"/>
                </a:solidFill>
                <a:latin typeface="华文细黑"/>
              </a:rPr>
              <a:t>模板下载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85880" y="2286000"/>
            <a:ext cx="3929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b0087"/>
                </a:solidFill>
                <a:latin typeface="华文细黑"/>
              </a:rPr>
              <a:t>幻灯片之家 </a:t>
            </a:r>
            <a:r>
              <a:rPr b="1" lang="zh-CN" sz="1400" spc="-1" strike="noStrike">
                <a:solidFill>
                  <a:srgbClr val="eb0087"/>
                </a:solidFill>
                <a:latin typeface="华文细黑"/>
              </a:rPr>
              <a:t>http://www.eeppt.com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模板使用说明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5640" y="108864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添加</a:t>
            </a:r>
            <a:r>
              <a:rPr b="0" lang="en-US" sz="1800" spc="-1" strike="noStrike">
                <a:solidFill>
                  <a:srgbClr val="262626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03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版本选择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视图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——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——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幻灯片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下调整；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07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版本选择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视图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——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幻灯片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字体格式的设置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本模板默认字体为“华文细黑”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如需修改字体请在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视图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--&gt;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--&gt;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幻灯片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下调整。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版权说明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此模板为免费模板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请勿用于任何形式的付费下载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标题 2"/>
          <p:cNvSpPr/>
          <p:nvPr/>
        </p:nvSpPr>
        <p:spPr>
          <a:xfrm>
            <a:off x="4214880" y="2006640"/>
            <a:ext cx="40003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eb0087"/>
                </a:solidFill>
                <a:latin typeface="华文细黑"/>
                <a:ea typeface="华文细黑"/>
              </a:rPr>
              <a:t>祝福所有的母亲节日快乐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3003480" y="2363760"/>
            <a:ext cx="594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0087"/>
                </a:solidFill>
                <a:latin typeface="Bickham Script Pro Semibold"/>
              </a:rPr>
              <a:t>Best wishes for mothers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29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0:52:25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