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BCD-6AE0-4FD7-A344-761B653A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E34-655B-4CB6-83D6-8806368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5C5-555B-4890-AD7A-764CDDC4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24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2356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24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2356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B65-772B-4055-B29E-E1EDA351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9270-7B4C-4B05-8C9E-587FF9F2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FDA8-DAC6-4C03-8454-13F2CB50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B686-845F-42B8-9F9D-543B74A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C29-82AA-42CD-B4E9-B4E524FF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F08-3A3F-481F-BC2F-06CD7A9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B3E-A6E4-4EBD-85BE-966F45E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3C3-4F1F-49D5-A555-A125BC3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C33-5100-4C57-8628-B8E7C50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668-DF98-4920-8259-878A5CF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D6E-AC13-4B3D-BEE3-D0DA371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1B0A-3408-4076-8DBB-4BC867E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AB43-B0B9-4CB8-AB48-60C4F89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924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23560" y="38858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9528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5924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23560" y="42440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8EE-F62C-495E-8CE5-40059582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528-2559-41E4-B31B-253CB4A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FFA-5BB7-4CB5-9B77-879799AE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509-9F5E-4F09-91B5-51EB61F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B8D-53AB-4519-81B9-545C115A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210-2269-4CBD-8D1A-5768A08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5240" y="42440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481-B8E7-4D77-866F-EF1644A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5240" y="38858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440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B76-6684-4CDE-97FF-9E5ADC32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22320"/>
            <a:ext cx="9156240" cy="6432480"/>
            <a:chOff x="-11160" y="-22320"/>
            <a:chExt cx="9156240" cy="6432480"/>
          </a:xfrm>
        </p:grpSpPr>
        <p:sp>
          <p:nvSpPr>
            <p:cNvPr id="1" name=""/>
            <p:cNvSpPr/>
            <p:nvPr/>
          </p:nvSpPr>
          <p:spPr>
            <a:xfrm>
              <a:off x="-11160" y="-22320"/>
              <a:ext cx="9142560" cy="641808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80" y="-7560"/>
              <a:ext cx="9142200" cy="64177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132e62">
                    <a:alpha val="46274"/>
                  </a:srgbClr>
                </a:gs>
                <a:gs pos="100000">
                  <a:srgbClr val="2b64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-25560" y="5256360"/>
            <a:ext cx="9169560" cy="1601640"/>
          </a:xfrm>
          <a:custGeom>
            <a:avLst/>
            <a:gdLst/>
            <a:ahLst/>
            <a:rect l="l" t="t" r="r" b="b"/>
            <a:pathLst>
              <a:path w="5776" h="1009">
                <a:moveTo>
                  <a:pt x="9" y="426"/>
                </a:moveTo>
                <a:cubicBezTo>
                  <a:pt x="80" y="445"/>
                  <a:pt x="759" y="661"/>
                  <a:pt x="1773" y="710"/>
                </a:cubicBezTo>
                <a:cubicBezTo>
                  <a:pt x="2788" y="758"/>
                  <a:pt x="4177" y="622"/>
                  <a:pt x="5776" y="0"/>
                </a:cubicBezTo>
                <a:lnTo>
                  <a:pt x="5771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3fb180"/>
              </a:gs>
              <a:gs pos="100000">
                <a:srgbClr val="2b64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1D2F-7F54-4595-B1CF-FAC46C8F2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4400" y="4292640"/>
            <a:ext cx="9164880" cy="2592360"/>
          </a:xfrm>
          <a:custGeom>
            <a:avLst/>
            <a:gdLst/>
            <a:ahLst/>
            <a:rect l="l" t="t" r="r" b="b"/>
            <a:pathLst>
              <a:path w="5773" h="1633">
                <a:moveTo>
                  <a:pt x="9" y="633"/>
                </a:moveTo>
                <a:cubicBezTo>
                  <a:pt x="74" y="660"/>
                  <a:pt x="695" y="1099"/>
                  <a:pt x="1710" y="1182"/>
                </a:cubicBezTo>
                <a:cubicBezTo>
                  <a:pt x="2725" y="1265"/>
                  <a:pt x="3871" y="1008"/>
                  <a:pt x="5773" y="0"/>
                </a:cubicBezTo>
                <a:lnTo>
                  <a:pt x="5773" y="1633"/>
                </a:lnTo>
                <a:lnTo>
                  <a:pt x="0" y="1630"/>
                </a:lnTo>
                <a:lnTo>
                  <a:pt x="9" y="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5840" y="0"/>
            <a:ext cx="9155160" cy="6124680"/>
            <a:chOff x="-15840" y="0"/>
            <a:chExt cx="9155160" cy="6124680"/>
          </a:xfrm>
        </p:grpSpPr>
        <p:sp>
          <p:nvSpPr>
            <p:cNvPr id="47" name=""/>
            <p:cNvSpPr/>
            <p:nvPr/>
          </p:nvSpPr>
          <p:spPr>
            <a:xfrm>
              <a:off x="-1440" y="0"/>
              <a:ext cx="914076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15840" y="0"/>
              <a:ext cx="914112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132e62">
                    <a:alpha val="44313"/>
                  </a:srgbClr>
                </a:gs>
                <a:gs pos="100000">
                  <a:srgbClr val="2b64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95F-EBE8-42A8-A63D-10C01BCFE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4" name="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132d60"/>
                </a:gs>
                <a:gs pos="100000">
                  <a:srgbClr val="2b64d5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2b64d5"/>
                </a:gs>
                <a:gs pos="100000">
                  <a:srgbClr val="132d60"/>
                </a:gs>
              </a:gsLst>
              <a:lin ang="9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国外精美</a:t>
            </a:r>
            <a:r>
              <a:rPr b="1" i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PPT</a:t>
            </a:r>
            <a:r>
              <a:rPr b="1" i="1" lang="en-US" sz="4400" spc="-1" strike="noStrike">
                <a:solidFill>
                  <a:srgbClr val="f0f7bd"/>
                </a:solidFill>
                <a:latin typeface="Arial"/>
              </a:rPr>
              <a:t>模版</a:t>
            </a:r>
            <a:r>
              <a:rPr b="1" i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下载</a:t>
            </a:r>
            <a:endParaRPr b="1" i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3560" y="212580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13372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8432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8432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778040" y="1817640"/>
            <a:ext cx="642960" cy="642960"/>
            <a:chOff x="1778040" y="1817640"/>
            <a:chExt cx="642960" cy="642960"/>
          </a:xfrm>
        </p:grpSpPr>
        <p:sp>
          <p:nvSpPr>
            <p:cNvPr id="304" name=""/>
            <p:cNvSpPr/>
            <p:nvPr/>
          </p:nvSpPr>
          <p:spPr>
            <a:xfrm>
              <a:off x="177804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84520" y="18223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2440" y="182628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98920" y="1832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32760" y="18475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91808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0952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57840" y="212580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13372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0860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502320" y="1817640"/>
            <a:ext cx="642960" cy="642960"/>
            <a:chOff x="6502320" y="1817640"/>
            <a:chExt cx="642960" cy="642960"/>
          </a:xfrm>
        </p:grpSpPr>
        <p:sp>
          <p:nvSpPr>
            <p:cNvPr id="316" name=""/>
            <p:cNvSpPr/>
            <p:nvPr/>
          </p:nvSpPr>
          <p:spPr>
            <a:xfrm>
              <a:off x="650232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8800" y="18223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16720" y="182628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3200" y="1832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57040" y="18475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64236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5520" y="212580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13372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46640" y="4197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46640" y="2155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817640"/>
            <a:ext cx="64260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46480" y="182232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54400" y="182556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60880" y="183204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95800" y="184788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0400" y="190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71840" y="25797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0f7bd"/>
                </a:solidFill>
                <a:latin typeface="Arial"/>
              </a:rPr>
              <a:t>使用规范说明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fb18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47C-9ED8-4908-B1C9-ED79501AD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Progress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Block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35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358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364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12600">
                <a:solidFill>
                  <a:srgbClr val="2b64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132e62"/>
                  </a:gs>
                  <a:gs pos="50000">
                    <a:srgbClr val="2b64d5"/>
                  </a:gs>
                  <a:gs pos="100000">
                    <a:srgbClr val="132e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Table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67652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3-D Pie Chart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b64d5"/>
              </a:gs>
              <a:gs pos="100000">
                <a:srgbClr val="0c1e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20601600">
            <a:off x="1438200" y="18907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rot="20602200">
            <a:off x="1416240" y="192204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1447920" y="19018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rot="20602200">
            <a:off x="1430280" y="19094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07200" y="29178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539200">
            <a:off x="1441800" y="1919880"/>
            <a:ext cx="625824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06920" y="339876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132e62"/>
              </a:gs>
              <a:gs pos="100000">
                <a:srgbClr val="2b64d5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82960" y="3794040"/>
            <a:ext cx="128304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Marketing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3800" y="232884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2b838"/>
              </a:gs>
              <a:gs pos="100000">
                <a:srgbClr val="2b64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1538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13520" y="29354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80920" y="4114800"/>
            <a:ext cx="1544760" cy="1544760"/>
            <a:chOff x="880920" y="4114800"/>
            <a:chExt cx="1544760" cy="1544760"/>
          </a:xfrm>
        </p:grpSpPr>
        <p:sp>
          <p:nvSpPr>
            <p:cNvPr id="404" name=""/>
            <p:cNvSpPr/>
            <p:nvPr/>
          </p:nvSpPr>
          <p:spPr>
            <a:xfrm>
              <a:off x="880920" y="411480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1440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79c77"/>
                </a:gs>
                <a:gs pos="100000">
                  <a:srgbClr val="f0f7bd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28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db288"/>
                </a:gs>
                <a:gs pos="100000">
                  <a:srgbClr val="f0f7b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91440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23048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9520" y="4114800"/>
            <a:ext cx="1544400" cy="1544760"/>
            <a:chOff x="2819520" y="4114800"/>
            <a:chExt cx="1544400" cy="1544760"/>
          </a:xfrm>
        </p:grpSpPr>
        <p:sp>
          <p:nvSpPr>
            <p:cNvPr id="410" name=""/>
            <p:cNvSpPr/>
            <p:nvPr/>
          </p:nvSpPr>
          <p:spPr>
            <a:xfrm>
              <a:off x="2819520" y="4114800"/>
              <a:ext cx="154440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52640" y="415116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277051"/>
                </a:gs>
                <a:gs pos="100000">
                  <a:srgbClr val="3fb18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09520" y="420516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d7f5c"/>
                </a:gs>
                <a:gs pos="100000">
                  <a:srgbClr val="3fb1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2852640" y="420516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872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800600" y="4114800"/>
            <a:ext cx="1544760" cy="1544760"/>
            <a:chOff x="4800600" y="4114800"/>
            <a:chExt cx="1544760" cy="1544760"/>
          </a:xfrm>
        </p:grpSpPr>
        <p:sp>
          <p:nvSpPr>
            <p:cNvPr id="416" name=""/>
            <p:cNvSpPr/>
            <p:nvPr/>
          </p:nvSpPr>
          <p:spPr>
            <a:xfrm>
              <a:off x="4800600" y="4114800"/>
              <a:ext cx="154476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3408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7423"/>
                </a:gs>
                <a:gs pos="100000">
                  <a:srgbClr val="b2b838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9096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08428"/>
                </a:gs>
                <a:gs pos="100000">
                  <a:srgbClr val="b2b8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483408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5016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81680" y="4114800"/>
            <a:ext cx="1544760" cy="1544760"/>
            <a:chOff x="6781680" y="4114800"/>
            <a:chExt cx="1544760" cy="1544760"/>
          </a:xfrm>
        </p:grpSpPr>
        <p:sp>
          <p:nvSpPr>
            <p:cNvPr id="422" name=""/>
            <p:cNvSpPr/>
            <p:nvPr/>
          </p:nvSpPr>
          <p:spPr>
            <a:xfrm>
              <a:off x="6781680" y="411480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5160" y="41511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5698f"/>
                </a:gs>
                <a:gs pos="100000">
                  <a:srgbClr val="3ba7e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72040" y="420516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a78a4"/>
                </a:gs>
                <a:gs pos="100000">
                  <a:srgbClr val="3ba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815160" y="420516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131240" y="473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0f7bd"/>
                    </a:gs>
                    <a:gs pos="100000">
                      <a:srgbClr val="3fb18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0f7bd"/>
                  </a:gs>
                  <a:gs pos="100000">
                    <a:srgbClr val="3fb180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ba7e3"/>
              </a:gs>
              <a:gs pos="100000">
                <a:srgbClr val="ebf5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056200">
            <a:off x="4571640" y="22093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056200">
            <a:off x="7391160" y="2514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056200">
            <a:off x="2971440" y="54097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056200">
            <a:off x="5714640" y="4800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056200">
            <a:off x="2057040" y="37335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fb180"/>
              </a:gs>
              <a:gs pos="100000">
                <a:srgbClr val="153c2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838"/>
              </a:gs>
              <a:gs pos="100000">
                <a:srgbClr val="3739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68b30"/>
              </a:gs>
              <a:gs pos="100000">
                <a:srgbClr val="513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ba7e3"/>
              </a:gs>
              <a:gs pos="100000">
                <a:srgbClr val="14394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8000" y="350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e7157">
                  <a:alpha val="12156"/>
                </a:srgbClr>
              </a:gs>
              <a:gs pos="100000">
                <a:srgbClr val="f0f7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f7bd"/>
              </a:gs>
              <a:gs pos="100000">
                <a:srgbClr val="f6fade"/>
              </a:gs>
            </a:gsLst>
            <a:lin ang="5400000"/>
          </a:gradFill>
          <a:ln w="38160">
            <a:solidFill>
              <a:srgbClr val="2b6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f7bd"/>
              </a:gs>
              <a:gs pos="100000">
                <a:srgbClr val="f6fade"/>
              </a:gs>
            </a:gsLst>
            <a:lin ang="5400000"/>
          </a:gradFill>
          <a:ln w="38160">
            <a:solidFill>
              <a:srgbClr val="2b6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0f7bd"/>
              </a:gs>
              <a:gs pos="100000">
                <a:srgbClr val="6e7157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32e62"/>
              </a:gs>
              <a:gs pos="50000">
                <a:srgbClr val="2b64d5"/>
              </a:gs>
              <a:gs pos="100000">
                <a:srgbClr val="132e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0f7bd"/>
              </a:gs>
              <a:gs pos="100000">
                <a:srgbClr val="f4f8d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4f8d4">
                  <a:alpha val="12156"/>
                </a:srgbClr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2812680" y="2869200"/>
            <a:ext cx="4906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5400000">
            <a:off x="5683320" y="281520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rot="10800000">
            <a:off x="4249800" y="431640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22720" y="1752480"/>
            <a:ext cx="2563560" cy="2563920"/>
            <a:chOff x="3222720" y="1752480"/>
            <a:chExt cx="2563560" cy="2563920"/>
          </a:xfrm>
        </p:grpSpPr>
        <p:sp>
          <p:nvSpPr>
            <p:cNvPr id="141" name=""/>
            <p:cNvSpPr/>
            <p:nvPr/>
          </p:nvSpPr>
          <p:spPr>
            <a:xfrm>
              <a:off x="3222720" y="17524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2b64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68520" y="1896840"/>
              <a:ext cx="226980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fb1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215f45"/>
                </a:gs>
                <a:gs pos="50000">
                  <a:srgbClr val="3fb180"/>
                </a:gs>
                <a:gs pos="100000">
                  <a:srgbClr val="215f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2e62"/>
              </a:gs>
              <a:gs pos="50000">
                <a:srgbClr val="2b64d5"/>
              </a:gs>
              <a:gs pos="100000">
                <a:srgbClr val="132e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60" y="1295280"/>
            <a:ext cx="6086520" cy="4496040"/>
          </a:xfrm>
          <a:prstGeom prst="rightArrow">
            <a:avLst>
              <a:gd name="adj1" fmla="val 79306"/>
              <a:gd name="adj2" fmla="val 33530"/>
            </a:avLst>
          </a:prstGeom>
          <a:gradFill rotWithShape="0">
            <a:gsLst>
              <a:gs pos="0">
                <a:srgbClr val="6c93e2"/>
              </a:gs>
              <a:gs pos="100000">
                <a:srgbClr val="003c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fb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fb1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fb1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45"/>
              </a:gs>
              <a:gs pos="50000">
                <a:srgbClr val="3fb180"/>
              </a:gs>
              <a:gs pos="100000">
                <a:srgbClr val="215f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b180">
                  <a:alpha val="0"/>
                </a:srgbClr>
              </a:gs>
              <a:gs pos="100000">
                <a:srgbClr val="2770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a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a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a7a"/>
              </a:gs>
              <a:gs pos="50000">
                <a:srgbClr val="3ba7e3"/>
              </a:gs>
              <a:gs pos="100000">
                <a:srgbClr val="1f5a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a7e3">
                  <a:alpha val="0"/>
                </a:srgbClr>
              </a:gs>
              <a:gs pos="100000">
                <a:srgbClr val="2569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08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8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631e"/>
              </a:gs>
              <a:gs pos="50000">
                <a:srgbClr val="b2b838"/>
              </a:gs>
              <a:gs pos="100000">
                <a:srgbClr val="5f63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b2b838">
                  <a:alpha val="0"/>
                </a:srgbClr>
              </a:gs>
              <a:gs pos="100000">
                <a:srgbClr val="7074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18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23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68b30"/>
              </a:gs>
              <a:gs pos="100000">
                <a:srgbClr val="3fb18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876400">
            <a:off x="2986200" y="47307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7800" y="35114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38320" y="35211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5960" y="35370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5812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35400" y="4138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826600">
            <a:off x="1157400" y="41209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81080" y="3130560"/>
            <a:ext cx="1371240" cy="1441080"/>
            <a:chOff x="1081080" y="3130560"/>
            <a:chExt cx="1371240" cy="1441080"/>
          </a:xfrm>
        </p:grpSpPr>
        <p:sp>
          <p:nvSpPr>
            <p:cNvPr id="244" name=""/>
            <p:cNvSpPr/>
            <p:nvPr/>
          </p:nvSpPr>
          <p:spPr>
            <a:xfrm>
              <a:off x="1081080" y="31305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99080" y="31388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12040" y="31521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83680" y="31888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1520" y="3636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33560" y="23652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09520" y="17589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22480" y="17636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33640" y="17748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18003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06800" y="2108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00400" y="18352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22440" y="13017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2160" y="13050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3111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5000" y="13302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93000" y="1525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64d5"/>
            </a:gs>
            <a:gs pos="100000">
              <a:srgbClr val="abc1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9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dcbed"/>
              </a:gs>
              <a:gs pos="100000">
                <a:srgbClr val="3ba7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f0f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1749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44840" y="1779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34052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0200" y="3435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948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63840" y="497844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78320" y="1728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4160" y="175896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34052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3480" y="34354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5005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49960" y="5035680"/>
            <a:ext cx="223920" cy="225360"/>
          </a:xfrm>
          <a:prstGeom prst="ellipse">
            <a:avLst/>
          </a:prstGeom>
          <a:gradFill rotWithShape="0">
            <a:gsLst>
              <a:gs pos="0">
                <a:srgbClr val="bde3d3"/>
              </a:gs>
              <a:gs pos="100000">
                <a:srgbClr val="3fb1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640080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fb180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0:1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