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FB136-C6BA-422C-8646-C5A53FA66C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4120" y="619812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9BCD9-BC92-46B0-A72B-C2CED2F8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6940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54E8-9807-4128-AD73-39B4C872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54516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75620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412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654516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75620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BEF6A-A923-4EF7-A81E-302C60823E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96E01-7D07-4003-BFA6-4778537F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EA5F0-EA66-480D-8B4D-E15F618A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236B8-3B8C-42F1-849D-0A8DB9D8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F6C6E-895F-4F85-BA87-9772540B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29802-C7E8-45DC-B435-0320A00A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320004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9091D-6485-4820-ADE3-0456B9E6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B6FE4-C26E-4261-812C-34F86409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589CC-6D14-4C2E-8397-801302A9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6940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AC356-D8C2-46FE-82A3-CE95D96A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7086D-1254-4A48-A686-B45BCE9E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4120" y="619812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1CD10-B6F6-461A-8102-8CAA4928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16940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CAF13-8EC9-45A1-8ACF-EC62CF0B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4516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6200" y="603900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33412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654516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756200" y="6198120"/>
            <a:ext cx="1153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409DA-3D5F-40F6-BCCF-B350B7BC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4E3F6-0B5E-4D5C-B0A4-FC344DAF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66C2A-8FE7-4EBE-A1EB-B76C7D50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833CA-73DF-4972-A4B6-7C38C4A3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320004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3A28-4FC2-4CB7-AD4B-DE5DA0E4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1DA4-F795-4239-99A2-00AEA810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69400" y="619812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9708E-0D6E-4E0B-B9F5-D7ECD57A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412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69400" y="6039000"/>
            <a:ext cx="1747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4120" y="6198120"/>
            <a:ext cx="35812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241D4-36EF-4580-A290-CC366350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96969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8915400" cy="1014480"/>
          </a:xfrm>
          <a:custGeom>
            <a:avLst/>
            <a:gdLst/>
            <a:ahLst/>
            <a:rect l="l" t="t" r="r" b="b"/>
            <a:pathLst>
              <a:path w="5616" h="576">
                <a:moveTo>
                  <a:pt x="0" y="576"/>
                </a:moveTo>
                <a:lnTo>
                  <a:pt x="5465" y="563"/>
                </a:lnTo>
                <a:lnTo>
                  <a:pt x="5616" y="0"/>
                </a:lnTo>
                <a:lnTo>
                  <a:pt x="0" y="0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8924760" cy="6858000"/>
          </a:xfrm>
          <a:custGeom>
            <a:avLst/>
            <a:gdLst/>
            <a:ahLst/>
            <a:rect l="l" t="t" r="r" b="b"/>
            <a:pathLst>
              <a:path w="5622" h="4320">
                <a:moveTo>
                  <a:pt x="0" y="0"/>
                </a:moveTo>
                <a:lnTo>
                  <a:pt x="5622" y="0"/>
                </a:lnTo>
                <a:lnTo>
                  <a:pt x="4457" y="4313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94b1ec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200"/>
            <a:ext cx="9144000" cy="609480"/>
          </a:xfrm>
          <a:prstGeom prst="rect">
            <a:avLst/>
          </a:prstGeom>
          <a:solidFill>
            <a:srgbClr val="173d89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181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570360"/>
            <a:ext cx="2133720" cy="1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962520" y="6552720"/>
            <a:ext cx="1218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0F15-88DF-4B15-A501-80E698E9926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664480" y="403200"/>
            <a:ext cx="47808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96" y="0"/>
                </a:moveTo>
                <a:lnTo>
                  <a:pt x="0" y="384"/>
                </a:lnTo>
                <a:lnTo>
                  <a:pt x="288" y="384"/>
                </a:lnTo>
                <a:lnTo>
                  <a:pt x="288" y="0"/>
                </a:lnTo>
                <a:lnTo>
                  <a:pt x="96" y="0"/>
                </a:lnTo>
                <a:close/>
              </a:path>
            </a:pathLst>
          </a:custGeom>
          <a:solidFill>
            <a:srgbClr val="5fb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7543800" y="6489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d89"/>
                </a:solidFill>
                <a:latin typeface="Verdana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677000" cy="6858000"/>
          </a:xfrm>
          <a:custGeom>
            <a:avLst/>
            <a:gdLst/>
            <a:ahLst/>
            <a:rect l="l" t="t" r="r" b="b"/>
            <a:pathLst>
              <a:path w="4272" h="4320">
                <a:moveTo>
                  <a:pt x="0" y="0"/>
                </a:moveTo>
                <a:lnTo>
                  <a:pt x="4272" y="0"/>
                </a:lnTo>
                <a:lnTo>
                  <a:pt x="2832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b1ec">
                  <a:alpha val="23137"/>
                </a:srgbClr>
              </a:gs>
              <a:gs pos="100000">
                <a:srgbClr val="e9ef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62120"/>
            <a:ext cx="9144000" cy="2385720"/>
          </a:xfrm>
          <a:prstGeom prst="rect">
            <a:avLst/>
          </a:prstGeom>
          <a:solidFill>
            <a:srgbClr val="5fb6f1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969696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14400"/>
            <a:ext cx="7326360" cy="2233440"/>
          </a:xfrm>
          <a:custGeom>
            <a:avLst/>
            <a:gdLst/>
            <a:ahLst/>
            <a:rect l="l" t="t" r="r" b="b"/>
            <a:pathLst>
              <a:path w="4615" h="1407">
                <a:moveTo>
                  <a:pt x="0" y="0"/>
                </a:moveTo>
                <a:lnTo>
                  <a:pt x="4615" y="0"/>
                </a:lnTo>
                <a:lnTo>
                  <a:pt x="4092" y="1386"/>
                </a:lnTo>
                <a:lnTo>
                  <a:pt x="0" y="140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124080"/>
            <a:ext cx="9144000" cy="762120"/>
          </a:xfrm>
          <a:prstGeom prst="rect">
            <a:avLst/>
          </a:prstGeom>
          <a:solidFill>
            <a:srgbClr val="173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456840" y="6555960"/>
            <a:ext cx="2133720" cy="1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38200" y="6578640"/>
            <a:ext cx="289548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8458200" y="6588000"/>
            <a:ext cx="4572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EEF5-C69A-4241-9435-682A9BFA56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76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d89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d89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173d8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国外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宋体"/>
              </a:rPr>
              <a:t>PP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模板下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4120" y="603900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Tahoma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Tahoma"/>
              </a:rPr>
              <a:t>http://www.eeppt.com</a:t>
            </a:r>
            <a:endParaRPr b="0" lang="en-US" sz="1400" spc="-1" strike="noStrike">
              <a:solidFill>
                <a:srgbClr val="173d8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5fb6f1"/>
              </a:gs>
              <a:gs pos="100000">
                <a:srgbClr val="f1f5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181e1"/>
              </a:gs>
              <a:gs pos="50000">
                <a:srgbClr val="b7adea"/>
              </a:gs>
              <a:gs pos="100000">
                <a:srgbClr val="9181e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914400" y="4311720"/>
            <a:ext cx="1579680" cy="2070000"/>
            <a:chOff x="914400" y="4311720"/>
            <a:chExt cx="1579680" cy="2070000"/>
          </a:xfrm>
        </p:grpSpPr>
        <p:grpSp>
          <p:nvGrpSpPr>
            <p:cNvPr id="289" name=""/>
            <p:cNvGrpSpPr/>
            <p:nvPr/>
          </p:nvGrpSpPr>
          <p:grpSpPr>
            <a:xfrm>
              <a:off x="914400" y="4311720"/>
              <a:ext cx="1486080" cy="1514520"/>
              <a:chOff x="914400" y="4311720"/>
              <a:chExt cx="1486080" cy="151452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914400" y="4311720"/>
                <a:ext cx="1486080" cy="1514520"/>
                <a:chOff x="914400" y="4311720"/>
                <a:chExt cx="1486080" cy="15145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914400" y="43117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d2af"/>
                    </a:gs>
                    <a:gs pos="100000">
                      <a:srgbClr val="30846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084320" y="43365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d2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1072440" y="50828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91440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1f5fd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819520" y="4311720"/>
            <a:ext cx="1617120" cy="2070000"/>
            <a:chOff x="2819520" y="4311720"/>
            <a:chExt cx="1617120" cy="2070000"/>
          </a:xfrm>
        </p:grpSpPr>
        <p:grpSp>
          <p:nvGrpSpPr>
            <p:cNvPr id="296" name=""/>
            <p:cNvGrpSpPr/>
            <p:nvPr/>
          </p:nvGrpSpPr>
          <p:grpSpPr>
            <a:xfrm>
              <a:off x="2819520" y="4311720"/>
              <a:ext cx="1523520" cy="1521000"/>
              <a:chOff x="2819520" y="4311720"/>
              <a:chExt cx="1523520" cy="1521000"/>
            </a:xfrm>
          </p:grpSpPr>
          <p:sp>
            <p:nvSpPr>
              <p:cNvPr id="297" name=""/>
              <p:cNvSpPr/>
              <p:nvPr/>
            </p:nvSpPr>
            <p:spPr>
              <a:xfrm>
                <a:off x="2819520" y="431172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5fb6f1"/>
                  </a:gs>
                  <a:gs pos="100000">
                    <a:srgbClr val="305d7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9340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fb6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2895480" y="50418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5732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1f5fd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302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303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9181e1"/>
                  </a:gs>
                  <a:gs pos="100000">
                    <a:srgbClr val="4a42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181e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495324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2948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1f5fd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308" name=""/>
            <p:cNvGrpSpPr/>
            <p:nvPr/>
          </p:nvGrpSpPr>
          <p:grpSpPr>
            <a:xfrm>
              <a:off x="6781680" y="4267080"/>
              <a:ext cx="1523880" cy="1531800"/>
              <a:chOff x="6781680" y="4267080"/>
              <a:chExt cx="1523880" cy="153180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6781680" y="4267080"/>
                <a:ext cx="1523880" cy="1531800"/>
                <a:chOff x="6781680" y="4267080"/>
                <a:chExt cx="1523880" cy="15318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781680" y="426708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4b1ec"/>
                    </a:gs>
                    <a:gs pos="100000">
                      <a:srgbClr val="232a3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955920" y="429228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4b1e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"/>
              <p:cNvSpPr/>
              <p:nvPr/>
            </p:nvSpPr>
            <p:spPr>
              <a:xfrm>
                <a:off x="692460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1f5fd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362320" y="320040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181e1"/>
                    </a:gs>
                    <a:gs pos="100000">
                      <a:srgbClr val="5fb6f1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181e1"/>
                  </a:gs>
                  <a:gs pos="100000">
                    <a:srgbClr val="5fb6f1"/>
                  </a:gs>
                </a:gsLst>
                <a:lin ang="108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ce1cb"/>
              </a:gs>
              <a:gs pos="100000">
                <a:srgbClr val="4cd2a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e6f9"/>
              </a:gs>
              <a:gs pos="100000">
                <a:srgbClr val="5fb6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02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03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2e5874"/>
                  </a:gs>
                  <a:gs pos="100000">
                    <a:srgbClr val="5fb6f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5fb6f1"/>
                  </a:gs>
                  <a:gs pos="100000">
                    <a:srgbClr val="b7ddf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9181e1"/>
                </a:gs>
                <a:gs pos="100000">
                  <a:srgbClr val="423b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d7d2f3"/>
                </a:gs>
                <a:gs pos="100000">
                  <a:srgbClr val="9181e1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9181e1">
                    <a:alpha val="48235"/>
                  </a:srgbClr>
                </a:gs>
                <a:gs pos="100000">
                  <a:srgbClr val="7265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9181e1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3408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13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14" name=""/>
              <p:cNvSpPr/>
              <p:nvPr/>
            </p:nvSpPr>
            <p:spPr>
              <a:xfrm flipH="1" rot="16200000">
                <a:off x="2927880" y="325800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2cf"/>
                  </a:gs>
                  <a:gs pos="100000">
                    <a:srgbClr val="173d8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5400000">
                <a:off x="5531040" y="320724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2cf"/>
                  </a:gs>
                  <a:gs pos="100000">
                    <a:srgbClr val="173d8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800000">
                <a:off x="4236840" y="4609800"/>
                <a:ext cx="44388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2cf"/>
                  </a:gs>
                  <a:gs pos="100000">
                    <a:srgbClr val="173d8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305880" y="2209680"/>
                <a:ext cx="23270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438360" y="2344680"/>
                <a:ext cx="206028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fb6f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336281"/>
                  </a:gs>
                  <a:gs pos="50000">
                    <a:srgbClr val="5fb6f1"/>
                  </a:gs>
                  <a:gs pos="100000">
                    <a:srgbClr val="3362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3b67"/>
                </a:gs>
                <a:gs pos="50000">
                  <a:srgbClr val="9181e1"/>
                </a:gs>
                <a:gs pos="100000">
                  <a:srgbClr val="423b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3b67"/>
                </a:gs>
                <a:gs pos="50000">
                  <a:srgbClr val="9181e1"/>
                </a:gs>
                <a:gs pos="100000">
                  <a:srgbClr val="423b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23b67"/>
                </a:gs>
                <a:gs pos="50000">
                  <a:srgbClr val="9181e1"/>
                </a:gs>
                <a:gs pos="100000">
                  <a:srgbClr val="423b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152" name="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6050"/>
                </a:gs>
                <a:gs pos="50000">
                  <a:srgbClr val="4cd2af"/>
                </a:gs>
                <a:gs pos="100000">
                  <a:srgbClr val="236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4cd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b536f"/>
                </a:gs>
                <a:gs pos="50000">
                  <a:srgbClr val="5fb6f1"/>
                </a:gs>
                <a:gs pos="100000">
                  <a:srgbClr val="2b53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fb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4516c"/>
                </a:gs>
                <a:gs pos="50000">
                  <a:srgbClr val="94b1ec"/>
                </a:gs>
                <a:gs pos="100000">
                  <a:srgbClr val="4451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a1c3f"/>
                </a:gs>
                <a:gs pos="50000">
                  <a:srgbClr val="173d89"/>
                </a:gs>
                <a:gs pos="100000">
                  <a:srgbClr val="0a1c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73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36977e"/>
                </a:gs>
                <a:gs pos="50000">
                  <a:srgbClr val="4cd2af"/>
                </a:gs>
                <a:gs pos="100000">
                  <a:srgbClr val="36977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4483ae"/>
                </a:gs>
                <a:gs pos="50000">
                  <a:srgbClr val="5fb6f1"/>
                </a:gs>
                <a:gs pos="100000">
                  <a:srgbClr val="448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4b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a7faa"/>
                </a:gs>
                <a:gs pos="50000">
                  <a:srgbClr val="94b1ec"/>
                </a:gs>
                <a:gs pos="100000">
                  <a:srgbClr val="6a7fa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02c63"/>
                </a:gs>
                <a:gs pos="50000">
                  <a:srgbClr val="173d89"/>
                </a:gs>
                <a:gs pos="100000">
                  <a:srgbClr val="102c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ada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875520" y="2018880"/>
            <a:ext cx="4125960" cy="3931560"/>
            <a:chOff x="875520" y="2018880"/>
            <a:chExt cx="4125960" cy="3931560"/>
          </a:xfrm>
        </p:grpSpPr>
        <p:sp>
          <p:nvSpPr>
            <p:cNvPr id="168" name=""/>
            <p:cNvSpPr/>
            <p:nvPr/>
          </p:nvSpPr>
          <p:spPr>
            <a:xfrm rot="5433000">
              <a:off x="351000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b536f"/>
                </a:gs>
                <a:gs pos="50000">
                  <a:srgbClr val="5fb6f1"/>
                </a:gs>
                <a:gs pos="100000">
                  <a:srgbClr val="2b536f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33000">
              <a:off x="2799000" y="2068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36050"/>
                </a:gs>
                <a:gs pos="50000">
                  <a:srgbClr val="4cd2af"/>
                </a:gs>
                <a:gs pos="100000">
                  <a:srgbClr val="236050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33000">
              <a:off x="2874960" y="44020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36050"/>
                </a:gs>
                <a:gs pos="50000">
                  <a:srgbClr val="4cd2af"/>
                </a:gs>
                <a:gs pos="100000">
                  <a:srgbClr val="236050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400000">
              <a:off x="2167200" y="325440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23b67"/>
                </a:gs>
                <a:gs pos="50000">
                  <a:srgbClr val="9181e1"/>
                </a:gs>
                <a:gs pos="100000">
                  <a:srgbClr val="423b67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33000">
              <a:off x="1484280" y="21304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b536f"/>
                </a:gs>
                <a:gs pos="50000">
                  <a:srgbClr val="5fb6f1"/>
                </a:gs>
                <a:gs pos="100000">
                  <a:srgbClr val="2b536f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33000">
              <a:off x="1536840" y="44593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b536f"/>
                </a:gs>
                <a:gs pos="50000">
                  <a:srgbClr val="5fb6f1"/>
                </a:gs>
                <a:gs pos="100000">
                  <a:srgbClr val="2b536f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33000">
              <a:off x="839880" y="3319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36050"/>
                </a:gs>
                <a:gs pos="50000">
                  <a:srgbClr val="4cd2af"/>
                </a:gs>
                <a:gs pos="100000">
                  <a:srgbClr val="236050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d89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fb6f1"/>
              </a:gs>
              <a:gs pos="100000">
                <a:srgbClr val="9181e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d89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188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5160" y="33800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28120" y="33933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99760" y="34300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86728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fb6f1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1447920"/>
            <a:ext cx="7848360" cy="4419000"/>
            <a:chOff x="685800" y="1447920"/>
            <a:chExt cx="7848360" cy="4419000"/>
          </a:xfrm>
        </p:grpSpPr>
        <p:sp>
          <p:nvSpPr>
            <p:cNvPr id="208" name=""/>
            <p:cNvSpPr/>
            <p:nvPr/>
          </p:nvSpPr>
          <p:spPr>
            <a:xfrm>
              <a:off x="2683800" y="2149200"/>
              <a:ext cx="3781440" cy="3717720"/>
            </a:xfrm>
            <a:prstGeom prst="ellipse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5fb6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611160" y="3078720"/>
              <a:ext cx="1926360" cy="2001600"/>
              <a:chOff x="3611160" y="3078720"/>
              <a:chExt cx="1926360" cy="2001600"/>
            </a:xfrm>
          </p:grpSpPr>
          <p:sp>
            <p:nvSpPr>
              <p:cNvPr id="210" name=""/>
              <p:cNvSpPr/>
              <p:nvPr/>
            </p:nvSpPr>
            <p:spPr>
              <a:xfrm>
                <a:off x="3611160" y="3078720"/>
                <a:ext cx="1926360" cy="20016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831120" y="3111840"/>
                <a:ext cx="1486080" cy="755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3913920" y="3865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4182120" y="1792080"/>
              <a:ext cx="641880" cy="617760"/>
              <a:chOff x="4182120" y="1792080"/>
              <a:chExt cx="641880" cy="61776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4182120" y="1792080"/>
                <a:ext cx="641880" cy="617760"/>
                <a:chOff x="4182120" y="1792080"/>
                <a:chExt cx="641880" cy="6177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182120" y="1792080"/>
                  <a:ext cx="641880" cy="61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d2af"/>
                    </a:gs>
                    <a:gs pos="100000">
                      <a:srgbClr val="2058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255200" y="1802160"/>
                  <a:ext cx="495360" cy="232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d2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4325040" y="18871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558240" y="4874400"/>
              <a:ext cx="344520" cy="312840"/>
              <a:chOff x="3558240" y="4874400"/>
              <a:chExt cx="344520" cy="312840"/>
            </a:xfrm>
          </p:grpSpPr>
          <p:sp>
            <p:nvSpPr>
              <p:cNvPr id="219" name=""/>
              <p:cNvSpPr/>
              <p:nvPr/>
            </p:nvSpPr>
            <p:spPr>
              <a:xfrm rot="18226800">
                <a:off x="3584520" y="5035320"/>
                <a:ext cx="122760" cy="129600"/>
              </a:xfrm>
              <a:prstGeom prst="ellipse">
                <a:avLst/>
              </a:prstGeom>
              <a:gradFill rotWithShape="0">
                <a:gsLst>
                  <a:gs pos="0">
                    <a:srgbClr val="94b1ec"/>
                  </a:gs>
                  <a:gs pos="100000">
                    <a:srgbClr val="6275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8226800">
                <a:off x="3753000" y="4896360"/>
                <a:ext cx="122760" cy="129600"/>
              </a:xfrm>
              <a:prstGeom prst="ellipse">
                <a:avLst/>
              </a:prstGeom>
              <a:gradFill rotWithShape="0">
                <a:gsLst>
                  <a:gs pos="0">
                    <a:srgbClr val="94b1ec"/>
                  </a:gs>
                  <a:gs pos="100000">
                    <a:srgbClr val="6275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968920" y="5147640"/>
              <a:ext cx="641880" cy="643320"/>
              <a:chOff x="2968920" y="5147640"/>
              <a:chExt cx="641880" cy="6433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968920" y="5147640"/>
                <a:ext cx="641880" cy="643320"/>
                <a:chOff x="2968920" y="5147640"/>
                <a:chExt cx="641880" cy="643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968920" y="514764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4b1ec"/>
                    </a:gs>
                    <a:gs pos="100000">
                      <a:srgbClr val="232a3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042000" y="5158080"/>
                  <a:ext cx="49536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4b1e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3107160" y="526788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6111360" y="3078720"/>
              <a:ext cx="639360" cy="650880"/>
              <a:chOff x="6111360" y="3078720"/>
              <a:chExt cx="639360" cy="65088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6111360" y="3078720"/>
                <a:ext cx="639360" cy="650880"/>
                <a:chOff x="6111360" y="3078720"/>
                <a:chExt cx="639360" cy="6508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6111360" y="3078720"/>
                  <a:ext cx="6393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b6f1"/>
                    </a:gs>
                    <a:gs pos="100000">
                      <a:srgbClr val="3b719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184440" y="3089520"/>
                  <a:ext cx="493200" cy="245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b6f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6236640" y="31680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537520" y="5151960"/>
              <a:ext cx="612360" cy="583920"/>
              <a:chOff x="5537520" y="5151960"/>
              <a:chExt cx="612360" cy="58392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5537520" y="5151960"/>
                <a:ext cx="612360" cy="583920"/>
                <a:chOff x="5537520" y="5151960"/>
                <a:chExt cx="612360" cy="583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537520" y="5151960"/>
                  <a:ext cx="612360" cy="58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4343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607360" y="5161320"/>
                  <a:ext cx="472320" cy="22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5672880" y="518328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469600" y="3078720"/>
              <a:ext cx="641880" cy="643320"/>
              <a:chOff x="2469600" y="3078720"/>
              <a:chExt cx="641880" cy="64332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2469600" y="3078720"/>
                <a:ext cx="641880" cy="643320"/>
                <a:chOff x="2469600" y="3078720"/>
                <a:chExt cx="641880" cy="643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469600" y="307872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81e1"/>
                    </a:gs>
                    <a:gs pos="100000">
                      <a:srgbClr val="413a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42680" y="3089160"/>
                  <a:ext cx="49536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181e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2606400" y="31500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 rot="18226800">
              <a:off x="5468040" y="5003640"/>
              <a:ext cx="122040" cy="1292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3636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226800">
              <a:off x="5325480" y="4860720"/>
              <a:ext cx="122040" cy="1292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3636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3159720" y="3481920"/>
              <a:ext cx="389520" cy="244080"/>
              <a:chOff x="3159720" y="3481920"/>
              <a:chExt cx="389520" cy="244080"/>
            </a:xfrm>
          </p:grpSpPr>
          <p:sp>
            <p:nvSpPr>
              <p:cNvPr id="244" name=""/>
              <p:cNvSpPr/>
              <p:nvPr/>
            </p:nvSpPr>
            <p:spPr>
              <a:xfrm rot="18226800">
                <a:off x="3186360" y="3503880"/>
                <a:ext cx="122760" cy="129960"/>
              </a:xfrm>
              <a:prstGeom prst="ellipse">
                <a:avLst/>
              </a:prstGeom>
              <a:gradFill rotWithShape="0">
                <a:gsLst>
                  <a:gs pos="0">
                    <a:srgbClr val="9181e1"/>
                  </a:gs>
                  <a:gs pos="100000">
                    <a:srgbClr val="534a8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8226800">
                <a:off x="3399480" y="3574080"/>
                <a:ext cx="122760" cy="129600"/>
              </a:xfrm>
              <a:prstGeom prst="ellipse">
                <a:avLst/>
              </a:prstGeom>
              <a:gradFill rotWithShape="0">
                <a:gsLst>
                  <a:gs pos="0">
                    <a:srgbClr val="9181e1"/>
                  </a:gs>
                  <a:gs pos="100000">
                    <a:srgbClr val="463e6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444200" y="2522880"/>
              <a:ext cx="175320" cy="437760"/>
              <a:chOff x="4444200" y="2522880"/>
              <a:chExt cx="175320" cy="437760"/>
            </a:xfrm>
          </p:grpSpPr>
          <p:sp>
            <p:nvSpPr>
              <p:cNvPr id="247" name=""/>
              <p:cNvSpPr/>
              <p:nvPr/>
            </p:nvSpPr>
            <p:spPr>
              <a:xfrm rot="18226800">
                <a:off x="4470480" y="2545200"/>
                <a:ext cx="122400" cy="129240"/>
              </a:xfrm>
              <a:prstGeom prst="ellipse">
                <a:avLst/>
              </a:prstGeom>
              <a:gradFill rotWithShape="0">
                <a:gsLst>
                  <a:gs pos="0">
                    <a:srgbClr val="4cd2af"/>
                  </a:gs>
                  <a:gs pos="100000">
                    <a:srgbClr val="225f4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8226800">
                <a:off x="4470480" y="280908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4cd2af"/>
                  </a:gs>
                  <a:gs pos="100000">
                    <a:srgbClr val="24655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rot="18226800">
              <a:off x="5842800" y="3529440"/>
              <a:ext cx="121680" cy="128880"/>
            </a:xfrm>
            <a:prstGeom prst="ellipse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29506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226800">
              <a:off x="5610960" y="3645720"/>
              <a:ext cx="121680" cy="128880"/>
            </a:xfrm>
            <a:prstGeom prst="ellipse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29506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5800" y="322164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11160" y="14479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50720" y="323532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42200" y="53665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79760" y="53665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990720" y="2133720"/>
            <a:ext cx="6858000" cy="3428640"/>
            <a:chOff x="990720" y="2133720"/>
            <a:chExt cx="6858000" cy="3428640"/>
          </a:xfrm>
        </p:grpSpPr>
        <p:sp>
          <p:nvSpPr>
            <p:cNvPr id="258" name=""/>
            <p:cNvSpPr/>
            <p:nvPr/>
          </p:nvSpPr>
          <p:spPr>
            <a:xfrm>
              <a:off x="528552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4cd2af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381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5fb6f1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907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9181e1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9181e1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5fb6f1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4cd2af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rot="20601600">
            <a:off x="146952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01200" y="679320"/>
            <a:ext cx="7379280" cy="5581080"/>
            <a:chOff x="601200" y="679320"/>
            <a:chExt cx="7379280" cy="5581080"/>
          </a:xfrm>
        </p:grpSpPr>
        <p:sp>
          <p:nvSpPr>
            <p:cNvPr id="266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1f5fd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601600">
              <a:off x="1385640" y="2176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5fb6f1"/>
                </a:gs>
                <a:gs pos="100000">
                  <a:srgbClr val="98cff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9181e1"/>
                </a:gs>
                <a:gs pos="100000">
                  <a:srgbClr val="64599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4483ae"/>
                </a:gs>
                <a:gs pos="100000">
                  <a:srgbClr val="5fb6f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20602200">
              <a:off x="1403280" y="2185920"/>
              <a:ext cx="5702040" cy="29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236050"/>
                </a:gs>
                <a:gs pos="100000">
                  <a:srgbClr val="4cd2a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4b1ec"/>
                </a:gs>
                <a:gs pos="100000">
                  <a:srgbClr val="cddaf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0539200">
              <a:off x="1019520" y="1583280"/>
              <a:ext cx="654264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4b1ec"/>
                </a:gs>
                <a:gs pos="100000">
                  <a:srgbClr val="44516c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4b1ec"/>
                </a:gs>
                <a:gs pos="100000">
                  <a:srgbClr val="cddaf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264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94160" y="417852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fb6f1">
                    <a:alpha val="19215"/>
                  </a:srgbClr>
                </a:gs>
                <a:gs pos="100000">
                  <a:srgbClr val="93cd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20601600">
              <a:off x="3032280" y="31575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5T03:16:52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