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B1DE-834F-4E14-BCD8-6A52DA1FA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5954-09A5-4CB5-8FDE-1D55E111E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30ED-F2EC-47EA-AB18-6B7890F9C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88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720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788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8720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2B82-C836-4327-BFBD-778E71201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2007A-FD8C-4EC4-BE61-69131F36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972E2-80FF-4193-A43B-F3487CFB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BBE7-3F99-4BC9-9CBC-8EBE0E85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AA371-028C-48A4-A9C2-D048A697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2CB3A-67B2-4E62-85C4-DB06A05E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362320" y="31240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B7CB8-2AD8-4D9A-818E-43F0C7F0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5929F-5DFF-4C11-B856-2A4C62C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3952-9CCA-41E1-A362-A0D9303BE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6D30F-160A-4511-886F-F6DE53A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D7BB-02DD-4C09-BE0F-3EF3507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D7721-BE4D-4300-9C01-5C9E24E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747EC-9799-4BED-9D3B-78DE6868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88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720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600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5788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8720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54BB-CB87-4884-94F9-4871190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339D-4F94-4C58-86B4-4DE768E2E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ACF6-C64D-43AB-ADDF-98C0CC32D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0D12-5C46-4180-AB9C-350B8F0EA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362320" y="31240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25B2-6342-46A0-88E4-189BF3E14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6CD7-7780-4F5C-97C4-3625C5BDA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F615-D2E9-48F8-A222-807FD05B6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BF4B-867E-43C1-BD69-946BE1DF7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9880" y="0"/>
            <a:ext cx="6512040" cy="80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094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019560" y="64162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505320" y="6432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DD27-9932-415F-B78D-D361DF007649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>
            <a:off x="7315200" y="76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40"/>
            <a:ext cx="2209680" cy="313236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03560" y="0"/>
            <a:ext cx="6940440" cy="331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05000" y="3124080"/>
            <a:ext cx="6939000" cy="64800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B659-A7C9-4CB3-8A56-5477D2A4F5F8}" type="slidenum"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7347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国外优秀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作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548640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1734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05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437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567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283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838080" y="1676520"/>
            <a:ext cx="7391160" cy="4343040"/>
            <a:chOff x="838080" y="1676520"/>
            <a:chExt cx="7391160" cy="4343040"/>
          </a:xfrm>
        </p:grpSpPr>
        <p:sp>
          <p:nvSpPr>
            <p:cNvPr id="324" name=""/>
            <p:cNvSpPr/>
            <p:nvPr/>
          </p:nvSpPr>
          <p:spPr>
            <a:xfrm>
              <a:off x="2719440" y="2365920"/>
              <a:ext cx="35611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77b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592800" y="3279240"/>
              <a:ext cx="1814040" cy="1967040"/>
              <a:chOff x="3592800" y="3279240"/>
              <a:chExt cx="1814040" cy="1967040"/>
            </a:xfrm>
          </p:grpSpPr>
          <p:sp>
            <p:nvSpPr>
              <p:cNvPr id="326" name=""/>
              <p:cNvSpPr/>
              <p:nvPr/>
            </p:nvSpPr>
            <p:spPr>
              <a:xfrm>
                <a:off x="3592800" y="3279240"/>
                <a:ext cx="181404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0160" y="3311640"/>
                <a:ext cx="139932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837960" y="405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130640" y="2014560"/>
              <a:ext cx="604440" cy="607320"/>
              <a:chOff x="4130640" y="2014560"/>
              <a:chExt cx="604440" cy="6073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4130640" y="2014560"/>
                <a:ext cx="604440" cy="607320"/>
                <a:chOff x="4130640" y="2014560"/>
                <a:chExt cx="604440" cy="6073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130640" y="2014560"/>
                  <a:ext cx="60444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c13f"/>
                    </a:gs>
                    <a:gs pos="100000">
                      <a:srgbClr val="28511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199760" y="2024640"/>
                  <a:ext cx="46620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1c1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4254840" y="2107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542040" y="5045400"/>
              <a:ext cx="327600" cy="304560"/>
              <a:chOff x="3542040" y="5045400"/>
              <a:chExt cx="327600" cy="304560"/>
            </a:xfrm>
          </p:grpSpPr>
          <p:sp>
            <p:nvSpPr>
              <p:cNvPr id="335" name=""/>
              <p:cNvSpPr/>
              <p:nvPr/>
            </p:nvSpPr>
            <p:spPr>
              <a:xfrm rot="18226800">
                <a:off x="3565800" y="5204520"/>
                <a:ext cx="120600" cy="1224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8226800">
                <a:off x="3724560" y="5068080"/>
                <a:ext cx="120600" cy="1224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988000" y="5312520"/>
              <a:ext cx="604440" cy="632160"/>
              <a:chOff x="2988000" y="5312520"/>
              <a:chExt cx="604440" cy="6321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988000" y="5312520"/>
                <a:ext cx="604440" cy="632160"/>
                <a:chOff x="2988000" y="5312520"/>
                <a:chExt cx="604440" cy="632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988000" y="5312520"/>
                  <a:ext cx="60444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057120" y="5322960"/>
                  <a:ext cx="46620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3111480" y="5430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7560" y="3279240"/>
              <a:ext cx="601920" cy="639360"/>
              <a:chOff x="5947560" y="3279240"/>
              <a:chExt cx="601920" cy="6393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947560" y="3279240"/>
                <a:ext cx="601920" cy="639360"/>
                <a:chOff x="5947560" y="3279240"/>
                <a:chExt cx="601920" cy="6393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947560" y="3279240"/>
                  <a:ext cx="601920" cy="63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c3c3f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16320" y="3289680"/>
                  <a:ext cx="46440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053400" y="33670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407200" y="5316840"/>
              <a:ext cx="576720" cy="573840"/>
              <a:chOff x="5407200" y="5316840"/>
              <a:chExt cx="576720" cy="573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407200" y="5316840"/>
                <a:ext cx="576720" cy="573840"/>
                <a:chOff x="5407200" y="5316840"/>
                <a:chExt cx="576720" cy="5738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407200" y="5316840"/>
                  <a:ext cx="576720" cy="57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473080" y="5326200"/>
                  <a:ext cx="444960" cy="216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5522760" y="5347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517840" y="3279240"/>
              <a:ext cx="604440" cy="632160"/>
              <a:chOff x="2517840" y="3279240"/>
              <a:chExt cx="604440" cy="6321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2517840" y="3279240"/>
                <a:ext cx="604440" cy="632160"/>
                <a:chOff x="2517840" y="3279240"/>
                <a:chExt cx="604440" cy="6321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517840" y="3279240"/>
                  <a:ext cx="60444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5526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586960" y="3289680"/>
                  <a:ext cx="46620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2637000" y="33494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18226800">
              <a:off x="5339160" y="5173560"/>
              <a:ext cx="119880" cy="121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8226800">
              <a:off x="5204880" y="5033160"/>
              <a:ext cx="119880" cy="121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166560" y="3677040"/>
              <a:ext cx="369360" cy="237240"/>
              <a:chOff x="3166560" y="3677040"/>
              <a:chExt cx="369360" cy="237240"/>
            </a:xfrm>
          </p:grpSpPr>
          <p:sp>
            <p:nvSpPr>
              <p:cNvPr id="360" name=""/>
              <p:cNvSpPr/>
              <p:nvPr/>
            </p:nvSpPr>
            <p:spPr>
              <a:xfrm rot="18226800">
                <a:off x="3190320" y="3699720"/>
                <a:ext cx="120600" cy="12240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4698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226800">
                <a:off x="3391200" y="3769200"/>
                <a:ext cx="120600" cy="1220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9586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376160" y="2734560"/>
              <a:ext cx="168120" cy="426960"/>
              <a:chOff x="4376160" y="2734560"/>
              <a:chExt cx="168120" cy="426960"/>
            </a:xfrm>
          </p:grpSpPr>
          <p:sp>
            <p:nvSpPr>
              <p:cNvPr id="363" name=""/>
              <p:cNvSpPr/>
              <p:nvPr/>
            </p:nvSpPr>
            <p:spPr>
              <a:xfrm rot="18226800">
                <a:off x="4399920" y="2757600"/>
                <a:ext cx="120240" cy="121680"/>
              </a:xfrm>
              <a:prstGeom prst="ellipse">
                <a:avLst/>
              </a:prstGeom>
              <a:gradFill rotWithShape="0">
                <a:gsLst>
                  <a:gs pos="0">
                    <a:srgbClr val="61c13f"/>
                  </a:gs>
                  <a:gs pos="100000">
                    <a:srgbClr val="2b571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226800">
                <a:off x="4399920" y="3016800"/>
                <a:ext cx="119880" cy="121680"/>
              </a:xfrm>
              <a:prstGeom prst="ellipse">
                <a:avLst/>
              </a:prstGeom>
              <a:gradFill rotWithShape="0">
                <a:gsLst>
                  <a:gs pos="0">
                    <a:srgbClr val="61c13f"/>
                  </a:gs>
                  <a:gs pos="100000">
                    <a:srgbClr val="2e5d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rot="18226800">
              <a:off x="5692320" y="3725280"/>
              <a:ext cx="119520" cy="12132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8226800">
              <a:off x="5473800" y="3839400"/>
              <a:ext cx="119520" cy="12132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341964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2800" y="167652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49840" y="3432960"/>
              <a:ext cx="16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73600" y="552780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2000" y="552780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0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23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24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7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6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1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2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5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3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8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9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62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71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6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7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0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9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02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506" name=""/>
            <p:cNvCxnSpPr>
              <a:stCxn id="502" idx="3"/>
              <a:endCxn id="503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503" idx="3"/>
              <a:endCxn id="504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511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0d278"/>
                </a:gs>
                <a:gs pos="100000">
                  <a:srgbClr val="61c13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fcbed"/>
                </a:gs>
                <a:gs pos="100000">
                  <a:srgbClr val="77b7e7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cbed"/>
                </a:gs>
                <a:gs pos="100000">
                  <a:srgbClr val="77b7e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d278"/>
                </a:gs>
                <a:gs pos="100000">
                  <a:srgbClr val="61c13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654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61c13f"/>
              </a:gs>
              <a:gs pos="100000">
                <a:srgbClr val="2c581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990720" y="23828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901080" y="755280"/>
            <a:ext cx="7379280" cy="5581080"/>
            <a:chOff x="901080" y="755280"/>
            <a:chExt cx="7379280" cy="5581080"/>
          </a:xfrm>
        </p:grpSpPr>
        <p:sp>
          <p:nvSpPr>
            <p:cNvPr id="537" name=""/>
            <p:cNvSpPr/>
            <p:nvPr/>
          </p:nvSpPr>
          <p:spPr>
            <a:xfrm>
              <a:off x="2438280" y="4541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712880" y="2428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769400" y="226656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685520" y="225216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20602200">
              <a:off x="1734840" y="22521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527fa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692720" y="22633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e6eb8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20602200">
              <a:off x="1703160" y="226188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c581d"/>
                </a:gs>
                <a:gs pos="100000">
                  <a:srgbClr val="61c13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63960" y="3698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539200">
              <a:off x="1319400" y="165924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75040" y="4038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84848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3230280" y="2980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2120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26320" y="2441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5512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5020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4052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94040" y="425448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a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332160" y="323352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77b7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50000">
                <a:srgbClr val="bcbcfe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914400" y="4254480"/>
            <a:ext cx="1579680" cy="2070000"/>
            <a:chOff x="914400" y="4254480"/>
            <a:chExt cx="1579680" cy="2070000"/>
          </a:xfrm>
        </p:grpSpPr>
        <p:grpSp>
          <p:nvGrpSpPr>
            <p:cNvPr id="561" name=""/>
            <p:cNvGrpSpPr/>
            <p:nvPr/>
          </p:nvGrpSpPr>
          <p:grpSpPr>
            <a:xfrm>
              <a:off x="914400" y="4254480"/>
              <a:ext cx="1486080" cy="1514520"/>
              <a:chOff x="914400" y="4254480"/>
              <a:chExt cx="1486080" cy="151452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914400" y="4254480"/>
                <a:ext cx="1486080" cy="1514520"/>
                <a:chOff x="914400" y="4254480"/>
                <a:chExt cx="1486080" cy="15145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914400" y="42544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c13f"/>
                    </a:gs>
                    <a:gs pos="100000">
                      <a:srgbClr val="3d7a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084320" y="4279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1c1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1072440" y="5025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91440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819520" y="4254480"/>
            <a:ext cx="1617120" cy="2070000"/>
            <a:chOff x="2819520" y="4254480"/>
            <a:chExt cx="1617120" cy="2070000"/>
          </a:xfrm>
        </p:grpSpPr>
        <p:grpSp>
          <p:nvGrpSpPr>
            <p:cNvPr id="568" name=""/>
            <p:cNvGrpSpPr/>
            <p:nvPr/>
          </p:nvGrpSpPr>
          <p:grpSpPr>
            <a:xfrm>
              <a:off x="2819520" y="4254480"/>
              <a:ext cx="1523520" cy="1521000"/>
              <a:chOff x="2819520" y="4254480"/>
              <a:chExt cx="1523520" cy="1521000"/>
            </a:xfrm>
          </p:grpSpPr>
          <p:sp>
            <p:nvSpPr>
              <p:cNvPr id="569" name=""/>
              <p:cNvSpPr/>
              <p:nvPr/>
            </p:nvSpPr>
            <p:spPr>
              <a:xfrm>
                <a:off x="2819520" y="425448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e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9340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2895480" y="498456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57320" y="588636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74" name="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75" name="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c5d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5116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495324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294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80" name=""/>
            <p:cNvGrpSpPr/>
            <p:nvPr/>
          </p:nvGrpSpPr>
          <p:grpSpPr>
            <a:xfrm>
              <a:off x="6781680" y="4210200"/>
              <a:ext cx="1523880" cy="1531440"/>
              <a:chOff x="6781680" y="4210200"/>
              <a:chExt cx="1523880" cy="153144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781680" y="4210200"/>
                <a:ext cx="1523880" cy="1531440"/>
                <a:chOff x="6781680" y="4210200"/>
                <a:chExt cx="1523880" cy="15314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78168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95592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924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2643120" y="316692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61c13f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61c13f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solidFill>
            <a:srgbClr val="77b7e7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03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10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7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24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31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ad684"/>
              </a:gs>
              <a:gs pos="100000">
                <a:srgbClr val="61c1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44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45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3654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ee4f5"/>
                </a:gs>
                <a:gs pos="100000">
                  <a:srgbClr val="77b7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48235"/>
                  </a:srgbClr>
                </a:gs>
                <a:gs pos="100000">
                  <a:srgbClr val="5d90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70120" y="1734120"/>
            <a:ext cx="7066800" cy="4420080"/>
            <a:chOff x="870120" y="1734120"/>
            <a:chExt cx="7066800" cy="4420080"/>
          </a:xfrm>
        </p:grpSpPr>
        <p:sp>
          <p:nvSpPr>
            <p:cNvPr id="155" name=""/>
            <p:cNvSpPr/>
            <p:nvPr/>
          </p:nvSpPr>
          <p:spPr>
            <a:xfrm rot="20241600">
              <a:off x="1477440" y="2774880"/>
              <a:ext cx="5877000" cy="23378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4397040" y="264456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6895440" y="286524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3000960" y="5364360"/>
              <a:ext cx="102888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5425920" y="4825440"/>
              <a:ext cx="1028880" cy="293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056200">
              <a:off x="2192400" y="396756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0320" y="2057400"/>
              <a:ext cx="1101960" cy="1062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4640" y="3327840"/>
              <a:ext cx="1100520" cy="106236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20640" y="4742640"/>
              <a:ext cx="1100880" cy="1062360"/>
            </a:xfrm>
            <a:prstGeom prst="ellipse">
              <a:avLst/>
            </a:prstGeom>
            <a:gradFill rotWithShape="0">
              <a:gsLst>
                <a:gs pos="0">
                  <a:srgbClr val="61c13f"/>
                </a:gs>
                <a:gs pos="100000">
                  <a:srgbClr val="2244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1320" y="4217400"/>
              <a:ext cx="1100880" cy="10623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69120" y="2247120"/>
              <a:ext cx="1040760" cy="10638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94320" y="3709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5880" y="2438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33360" y="2669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7600" y="4598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77320" y="5117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41960" y="3600360"/>
              <a:ext cx="22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44200" y="2438280"/>
              <a:ext cx="1568880" cy="12063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73" name=""/>
            <p:cNvCxnSpPr/>
            <p:nvPr/>
          </p:nvCxnSpPr>
          <p:spPr>
            <a:xfrm flipH="1">
              <a:off x="990000" y="2437920"/>
              <a:ext cx="1665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174" name=""/>
            <p:cNvSpPr/>
            <p:nvPr/>
          </p:nvSpPr>
          <p:spPr>
            <a:xfrm>
              <a:off x="870120" y="2057400"/>
              <a:ext cx="198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8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6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c581d"/>
                </a:gs>
                <a:gs pos="50000">
                  <a:srgbClr val="61c13f"/>
                </a:gs>
                <a:gs pos="100000">
                  <a:srgbClr val="2c58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1c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a1739"/>
                </a:gs>
                <a:gs pos="50000">
                  <a:srgbClr val="17347d"/>
                </a:gs>
                <a:gs pos="100000">
                  <a:srgbClr val="0a17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468b2d"/>
                </a:gs>
                <a:gs pos="50000">
                  <a:srgbClr val="61c13f"/>
                </a:gs>
                <a:gs pos="100000">
                  <a:srgbClr val="468b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e6eb8"/>
                </a:gs>
                <a:gs pos="50000">
                  <a:srgbClr val="9999ff"/>
                </a:gs>
                <a:gs pos="100000">
                  <a:srgbClr val="6e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0255a"/>
                </a:gs>
                <a:gs pos="50000">
                  <a:srgbClr val="17347d"/>
                </a:gs>
                <a:gs pos="100000">
                  <a:srgbClr val="102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77b7e7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1c13f"/>
              </a:gs>
              <a:gs pos="100000">
                <a:srgbClr val="90d27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b7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47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47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2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7b7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6546a"/>
              </a:gs>
              <a:gs pos="100000">
                <a:srgbClr val="77b7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27c"/>
              </a:gs>
              <a:gs pos="50000">
                <a:srgbClr val="77b7e7"/>
              </a:gs>
              <a:gs pos="100000">
                <a:srgbClr val="4062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7b7e7">
                  <a:alpha val="0"/>
                </a:srgbClr>
              </a:gs>
              <a:gs pos="100000">
                <a:srgbClr val="4b73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2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7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5T02:58:36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