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738-A516-495C-86AC-45DE8855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232-6243-4C24-970B-2791E084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CC9-0C15-437B-9C9B-7BABFAD6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832-4D83-49F0-8409-FCACCE78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2437-FD38-4B47-8639-2537573E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731-BAEB-4B19-AB50-72B99828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3B3-6CE0-4D4D-A30E-F33767C5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8AA-FFB7-4128-8E0C-19933730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80B-6018-4B66-BC2A-86A5E4C3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31C-E022-4BEF-AC9F-B3C56389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83B-2A59-40A7-B0E6-890D4988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C97-930E-4122-BCC9-70FC9CB5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E776-7785-45A2-B8C6-3FAD3EBF798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2DAD-F39B-4012-BB66-54A8B5FD936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7"/>
          <p:cNvSpPr/>
          <p:nvPr/>
        </p:nvSpPr>
        <p:spPr>
          <a:xfrm>
            <a:off x="2565360" y="3859200"/>
            <a:ext cx="982800" cy="1033560"/>
          </a:xfrm>
          <a:prstGeom prst="ellipse">
            <a:avLst/>
          </a:prstGeom>
          <a:solidFill>
            <a:srgbClr val="938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2998800" y="4237200"/>
            <a:ext cx="982800" cy="103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7"/>
          <p:cNvSpPr/>
          <p:nvPr/>
        </p:nvSpPr>
        <p:spPr>
          <a:xfrm>
            <a:off x="2901960" y="4340160"/>
            <a:ext cx="982800" cy="103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6784920" y="2143080"/>
            <a:ext cx="982800" cy="1031760"/>
          </a:xfrm>
          <a:prstGeom prst="ellipse">
            <a:avLst/>
          </a:prstGeom>
          <a:solidFill>
            <a:srgbClr val="cc46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6534000" y="1622520"/>
            <a:ext cx="1122480" cy="117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6703920" y="1616040"/>
            <a:ext cx="982800" cy="1030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6578640" y="1717560"/>
            <a:ext cx="982800" cy="1030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9"/>
          <p:cNvSpPr/>
          <p:nvPr/>
        </p:nvSpPr>
        <p:spPr>
          <a:xfrm>
            <a:off x="5083200" y="3166920"/>
            <a:ext cx="1595520" cy="1675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9"/>
          <p:cNvSpPr/>
          <p:nvPr/>
        </p:nvSpPr>
        <p:spPr>
          <a:xfrm>
            <a:off x="5734080" y="3568680"/>
            <a:ext cx="1596960" cy="167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0"/>
          <p:cNvSpPr/>
          <p:nvPr/>
        </p:nvSpPr>
        <p:spPr>
          <a:xfrm>
            <a:off x="882720" y="2122560"/>
            <a:ext cx="1595520" cy="1674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1432080" y="1608120"/>
            <a:ext cx="1755720" cy="184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1636560" y="1581120"/>
            <a:ext cx="1595520" cy="167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"/>
          <p:cNvSpPr/>
          <p:nvPr/>
        </p:nvSpPr>
        <p:spPr>
          <a:xfrm>
            <a:off x="1563840" y="1827360"/>
            <a:ext cx="1430280" cy="1500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1"/>
          <p:cNvSpPr/>
          <p:nvPr/>
        </p:nvSpPr>
        <p:spPr>
          <a:xfrm>
            <a:off x="2055240" y="20638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a5a5"/>
                </a:solidFill>
                <a:latin typeface="Broadway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3994200" y="1847880"/>
            <a:ext cx="1131840" cy="11890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4125960" y="1343160"/>
            <a:ext cx="1344600" cy="1411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4349880" y="1362240"/>
            <a:ext cx="1133280" cy="11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4314960" y="1525680"/>
            <a:ext cx="1020600" cy="1071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6"/>
          <p:cNvSpPr/>
          <p:nvPr/>
        </p:nvSpPr>
        <p:spPr>
          <a:xfrm>
            <a:off x="4495680" y="1663560"/>
            <a:ext cx="8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Broadway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7"/>
          <p:cNvSpPr/>
          <p:nvPr/>
        </p:nvSpPr>
        <p:spPr>
          <a:xfrm>
            <a:off x="6846840" y="18064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a5a5"/>
                </a:solidFill>
                <a:latin typeface="Broadway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8"/>
          <p:cNvSpPr/>
          <p:nvPr/>
        </p:nvSpPr>
        <p:spPr>
          <a:xfrm>
            <a:off x="3196080" y="4492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a5a5"/>
                </a:solidFill>
                <a:latin typeface="Broadway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9"/>
          <p:cNvSpPr/>
          <p:nvPr/>
        </p:nvSpPr>
        <p:spPr>
          <a:xfrm>
            <a:off x="6152400" y="40514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a5a5"/>
                </a:solidFill>
                <a:latin typeface="Broadway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45"/>
          <p:cNvSpPr/>
          <p:nvPr/>
        </p:nvSpPr>
        <p:spPr>
          <a:xfrm>
            <a:off x="7505640" y="4672080"/>
            <a:ext cx="523800" cy="523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101"/>
          <p:cNvGrpSpPr/>
          <p:nvPr/>
        </p:nvGrpSpPr>
        <p:grpSpPr>
          <a:xfrm>
            <a:off x="3392640" y="1917720"/>
            <a:ext cx="352440" cy="252360"/>
            <a:chOff x="3392640" y="1917720"/>
            <a:chExt cx="352440" cy="252360"/>
          </a:xfrm>
        </p:grpSpPr>
        <p:sp>
          <p:nvSpPr>
            <p:cNvPr id="67" name="Freeform 246"/>
            <p:cNvSpPr/>
            <p:nvPr/>
          </p:nvSpPr>
          <p:spPr>
            <a:xfrm>
              <a:off x="3392640" y="1929960"/>
              <a:ext cx="240480" cy="24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47"/>
            <p:cNvSpPr/>
            <p:nvPr/>
          </p:nvSpPr>
          <p:spPr>
            <a:xfrm>
              <a:off x="3609720" y="1917720"/>
              <a:ext cx="135360" cy="135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Freeform 248"/>
          <p:cNvSpPr/>
          <p:nvPr/>
        </p:nvSpPr>
        <p:spPr>
          <a:xfrm>
            <a:off x="6075360" y="1568520"/>
            <a:ext cx="423720" cy="39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105"/>
          <p:cNvGrpSpPr/>
          <p:nvPr/>
        </p:nvGrpSpPr>
        <p:grpSpPr>
          <a:xfrm>
            <a:off x="4176720" y="3303720"/>
            <a:ext cx="652320" cy="528480"/>
            <a:chOff x="4176720" y="3303720"/>
            <a:chExt cx="652320" cy="528480"/>
          </a:xfrm>
        </p:grpSpPr>
        <p:sp>
          <p:nvSpPr>
            <p:cNvPr id="71" name="Freeform 249"/>
            <p:cNvSpPr/>
            <p:nvPr/>
          </p:nvSpPr>
          <p:spPr>
            <a:xfrm>
              <a:off x="4176720" y="3303720"/>
              <a:ext cx="344520" cy="47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50"/>
            <p:cNvSpPr/>
            <p:nvPr/>
          </p:nvSpPr>
          <p:spPr>
            <a:xfrm>
              <a:off x="4484520" y="3357360"/>
              <a:ext cx="344520" cy="474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Freeform 251"/>
          <p:cNvSpPr/>
          <p:nvPr/>
        </p:nvSpPr>
        <p:spPr>
          <a:xfrm>
            <a:off x="1612800" y="4672080"/>
            <a:ext cx="540000" cy="70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310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1640" y="442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幻灯片目录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E69-2F6C-4EAE-B17E-A588D07E3D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24:09Z</dcterms:modified>
  <cp:revision>10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