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E8D-E02C-4CE1-A9D4-E4DB1C75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C57-B3FD-4F75-A760-2AF3992F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01C-3007-44D2-AB8A-67BB0F96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B7C-8860-427C-98AA-19F47881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63B-D678-4F68-86B6-FABC60D0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24C-B42D-441E-8CFA-7EF98F67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944-14EA-49D8-9B24-6B6EFD74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720-BD98-4E6E-B8BD-3F250944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51B3-49B4-43F6-A71C-7A052E56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EF1-BAF2-49E7-8269-FD5E238C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2C2-3548-4316-BD68-14430F8D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0EB-6378-4BF8-B9DD-BB6B831D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7a99"/>
            </a:gs>
            <a:gs pos="50000">
              <a:srgbClr val="ffccff"/>
            </a:gs>
            <a:gs pos="100000">
              <a:srgbClr val="997a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F5B8-DAD3-472E-AEBA-C6F078CDD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7a99"/>
            </a:gs>
            <a:gs pos="50000">
              <a:srgbClr val="ffccff"/>
            </a:gs>
            <a:gs pos="100000">
              <a:srgbClr val="997a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0"/>
          <p:cNvPicPr/>
          <p:nvPr/>
        </p:nvPicPr>
        <p:blipFill>
          <a:blip r:embed="rId1"/>
          <a:stretch/>
        </p:blipFill>
        <p:spPr>
          <a:xfrm>
            <a:off x="-1116000" y="0"/>
            <a:ext cx="10514160" cy="7134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17080" y="4265640"/>
            <a:ext cx="2592360" cy="2592360"/>
          </a:xfrm>
          <a:prstGeom prst="ellipse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1053600">
            <a:off x="2339640" y="2133360"/>
            <a:ext cx="3419280" cy="443700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345320" y="331200"/>
            <a:ext cx="245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汉仪丫丫体简"/>
              </a:rPr>
              <a:t>爱就是拉着你的手不放开 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汉仪丫丫体简"/>
              </a:rPr>
              <a:t>就这样低下头深深的吻着你 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汉仪丫丫体简"/>
              </a:rPr>
              <a:t>大声对你说我喜欢你，一辈子不放开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755640" y="3933720"/>
            <a:ext cx="46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604800" y="242100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婚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C -0.02257 -0.00579 -0.04288 -0.02269 -0.0651 -0.02917 C -0.07083 -0.03472 -0.075 -0.04144 -0.08177 -0.04445 C -0.08993 -0.0662 -0.07986 -0.04445 -0.0901 -0.05556 C -0.09167 -0.05718 -0.09201 -0.06042 -0.0934 -0.0625 C -0.09861 -0.06921 -0.10625 -0.07685 -0.11337 -0.07986 C -0.11649 -0.08403 -0.11858 -0.08912 -0.1217 -0.09329 C -0.12604 -0.09907 -0.13281 -0.09977 -0.13837 -0.10232 C -0.13889 -0.1044 -0.13889 -0.10741 -0.1401 -0.1088 C -0.14132 -0.11042 -0.14375 -0.10972 -0.14514 -0.11111 C -0.15694 -0.12222 -0.1434 -0.11505 -0.15504 -0.12014 C -0.16563 -0.13009 -0.16684 -0.13218 -0.17847 -0.13542 C -0.18837 -0.14931 -0.17708 -0.13565 -0.1934 -0.14653 C -0.19896 -0.15023 -0.20365 -0.15718 -0.20833 -0.16227 C -0.21337 -0.16782 -0.21997 -0.16991 -0.225 -0.17546 C -0.2342 -0.18588 -0.24497 -0.20046 -0.25677 -0.2044 C -0.26528 -0.2132 -0.27535 -0.21574 -0.28507 -0.22245 C -0.29549 -0.22917 -0.29757 -0.24097 -0.30833 -0.24445 C -0.31719 -0.25579 -0.30573 -0.24236 -0.31667 -0.25116 C -0.31806 -0.25232 -0.31892 -0.25417 -0.32014 -0.25556 C -0.32222 -0.2581 -0.32431 -0.26042 -0.32674 -0.26227 C -0.33212 -0.26644 -0.3434 -0.27338 -0.3434 -0.27338 C -0.35347 -0.29329 -0.37118 -0.30093 -0.38333 -0.31782 C -0.38681 -0.33056 -0.38229 -0.31852 -0.39167 -0.32917 C -0.39323 -0.33056 -0.39392 -0.33333 -0.39514 -0.33542 C -0.39618 -0.33704 -0.39722 -0.33866 -0.39844 -0.34005 C -0.40712 -0.34907 -0.40573 -0.34769 -0.41337 -0.35116 C -0.41788 -0.35718 -0.42118 -0.36482 -0.42674 -0.36898 C -0.43438 -0.37407 -0.44132 -0.38032 -0.44844 -0.38657 C -0.45556 -0.39282 -0.45313 -0.39838 -0.46181 -0.40232 C -0.46823 -0.41111 -0.46129 -0.40301 -0.4717 -0.4088 C -0.47587 -0.41111 -0.47934 -0.41505 -0.48333 -0.41782 C -0.48698 -0.43171 -0.48177 -0.41782 -0.49167 -0.42662 C -0.49618 -0.43079 -0.49948 -0.43704 -0.50347 -0.44213 C -0.50469 -0.44352 -0.51528 -0.45301 -0.5184 -0.45579 C -0.52222 -0.45903 -0.52726 -0.45695 -0.53177 -0.45764 C -0.54392 -0.46181 -0.55764 -0.44977 -0.56667 -0.46227 C -0.5901 -0.4544 -0.6092 -0.45903 -0.63507 -0.45995 C -0.63681 -0.46065 -0.63854 -0.46111 -0.6401 -0.46227 C -0.64358 -0.46505 -0.65 -0.47107 -0.65 -0.47107 C -0.65313 -0.48357 -0.64913 -0.47384 -0.65677 -0.47986 C -0.65816 -0.48102 -0.65885 -0.4831 -0.66007 -0.48449 C -0.66597 -0.49097 -0.66632 -0.48912 -0.675 -0.49097 C -0.67882 -0.49445 -0.68368 -0.49583 -0.68681 -0.50023 C -0.69549 -0.51157 -0.67813 -0.50347 -0.69514 -0.5088 C -0.69705 -0.5169 -0.69861 -0.525 -0.7 -0.53333 C -0.69948 -0.53935 -0.69879 -0.54537 -0.69844 -0.55116 C -0.69688 -0.57778 -0.6974 -0.59074 -0.69167 -0.6132 C -0.68767 -0.62894 -0.69184 -0.625 -0.68333 -0.62894 C -0.68073 -0.6382 -0.67813 -0.64745 -0.6717 -0.65347 C -0.66233 -0.66181 -0.64896 -0.66412 -0.63837 -0.6713 C -0.63385 -0.6706 -0.62135 -0.66991 -0.61667 -0.66435 C -0.61528 -0.66296 -0.61615 -0.65949 -0.6151 -0.65764 C -0.61233 -0.65301 -0.60816 -0.65093 -0.60504 -0.64653 C -0.61024 -0.61296 -0.60504 -0.65486 -0.60504 -0.62662 C -0.60504 -0.6169 -0.6059 -0.60718 -0.60677 -0.59769 C -0.60747 -0.59005 -0.6151 -0.57778 -0.6151 -0.57778 C -0.6191 -0.56181 -0.61545 -0.5669 -0.62344 -0.55995 C -0.62778 -0.54144 -0.63698 -0.54097 -0.65 -0.53796 C -0.66649 -0.53357 -0.66215 -0.53495 -0.67344 -0.53102 C -0.69184 -0.53171 -0.71024 -0.53125 -0.72847 -0.53333 C -0.73038 -0.53357 -0.7316 -0.53657 -0.73333 -0.53796 C -0.74549 -0.54491 -0.74045 -0.53889 -0.75 -0.54653 C -0.76424 -0.55787 -0.75486 -0.55394 -0.76667 -0.55787 C -0.77309 -0.5662 -0.7809 -0.57315 -0.78837 -0.57986 C -0.79097 -0.58241 -0.79288 -0.58588 -0.79514 -0.58912 C -0.79861 -0.59375 -0.80417 -0.59838 -0.80833 -0.60208 C -0.81076 -0.61157 -0.81476 -0.61736 -0.82014 -0.62431 C -0.82413 -0.64144 -0.81545 -0.69282 -0.81007 -0.71343 C -0.80955 -0.71875 -0.80955 -0.72384 -0.80833 -0.72894 C -0.80781 -0.73148 -0.80573 -0.73287 -0.80504 -0.73565 C -0.79913 -0.75695 -0.80799 -0.73796 -0.8 -0.75324 C -0.79879 -0.75857 -0.79826 -0.76389 -0.7967 -0.76875 C -0.78802 -0.7956 -0.79809 -0.75671 -0.79167 -0.78218 C -0.78663 -0.80278 -0.78351 -0.82014 -0.7717 -0.83542 C -0.77066 -0.84259 -0.77014 -0.85602 -0.76667 -0.86227 C -0.76111 -0.87222 -0.7559 -0.87546 -0.74844 -0.88218 C -0.74254 -0.88727 -0.74531 -0.88657 -0.7401 -0.88657 E">
                                      <p:cBhvr>
                                        <p:cTn id="6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7a99"/>
            </a:gs>
            <a:gs pos="50000">
              <a:srgbClr val="ffccff"/>
            </a:gs>
            <a:gs pos="100000">
              <a:srgbClr val="997a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0"/>
          <p:cNvPicPr/>
          <p:nvPr/>
        </p:nvPicPr>
        <p:blipFill>
          <a:blip r:embed="rId1"/>
          <a:stretch/>
        </p:blipFill>
        <p:spPr>
          <a:xfrm>
            <a:off x="-612720" y="0"/>
            <a:ext cx="11592000" cy="7243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20812200">
            <a:off x="4716360" y="549360"/>
            <a:ext cx="3338640" cy="433368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419640" y="-1251000"/>
            <a:ext cx="522000" cy="561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486400" y="-838080"/>
            <a:ext cx="450720" cy="41904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34920" y="-171360"/>
            <a:ext cx="7272360" cy="8064360"/>
            <a:chOff x="34920" y="-171360"/>
            <a:chExt cx="7272360" cy="8064360"/>
          </a:xfrm>
        </p:grpSpPr>
        <p:sp>
          <p:nvSpPr>
            <p:cNvPr id="56" name=""/>
            <p:cNvSpPr/>
            <p:nvPr/>
          </p:nvSpPr>
          <p:spPr>
            <a:xfrm>
              <a:off x="826920" y="549360"/>
              <a:ext cx="1441440" cy="1366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lnTo>
                    <a:pt x="10800" y="10800"/>
                  </a:lnTo>
                  <a:lnTo>
                    <a:pt x="10800" y="0"/>
                  </a:lnTo>
                  <a:lnTo>
                    <a:pt x="10800" y="10800"/>
                  </a:lnTo>
                  <a:lnTo>
                    <a:pt x="21600" y="10800"/>
                  </a:lnTo>
                  <a:lnTo>
                    <a:pt x="10800" y="10800"/>
                  </a:lnTo>
                  <a:lnTo>
                    <a:pt x="10800" y="21600"/>
                  </a:lnTo>
                  <a:lnTo>
                    <a:pt x="10800" y="108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4fafa"/>
                </a:gs>
                <a:gs pos="100000">
                  <a:srgbClr val="70737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920" y="-171360"/>
              <a:ext cx="6408720" cy="7201080"/>
            </a:xfrm>
            <a:custGeom>
              <a:avLst/>
              <a:gdLst/>
              <a:ahLst/>
              <a:rect l="l" t="t" r="r" b="b"/>
              <a:pathLst>
                <a:path w="4037" h="4536">
                  <a:moveTo>
                    <a:pt x="0" y="4536"/>
                  </a:moveTo>
                  <a:cubicBezTo>
                    <a:pt x="544" y="4335"/>
                    <a:pt x="1089" y="4135"/>
                    <a:pt x="1361" y="3765"/>
                  </a:cubicBezTo>
                  <a:cubicBezTo>
                    <a:pt x="1633" y="3395"/>
                    <a:pt x="1399" y="2646"/>
                    <a:pt x="1633" y="2313"/>
                  </a:cubicBezTo>
                  <a:cubicBezTo>
                    <a:pt x="1867" y="1980"/>
                    <a:pt x="2555" y="2026"/>
                    <a:pt x="2767" y="1769"/>
                  </a:cubicBezTo>
                  <a:cubicBezTo>
                    <a:pt x="2979" y="1512"/>
                    <a:pt x="2737" y="998"/>
                    <a:pt x="2903" y="771"/>
                  </a:cubicBezTo>
                  <a:cubicBezTo>
                    <a:pt x="3069" y="544"/>
                    <a:pt x="3576" y="536"/>
                    <a:pt x="3765" y="408"/>
                  </a:cubicBezTo>
                  <a:cubicBezTo>
                    <a:pt x="3954" y="280"/>
                    <a:pt x="3995" y="140"/>
                    <a:pt x="4037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0920" y="44640"/>
              <a:ext cx="6408720" cy="7200720"/>
            </a:xfrm>
            <a:custGeom>
              <a:avLst/>
              <a:gdLst/>
              <a:ahLst/>
              <a:rect l="l" t="t" r="r" b="b"/>
              <a:pathLst>
                <a:path w="4037" h="4536">
                  <a:moveTo>
                    <a:pt x="0" y="4536"/>
                  </a:moveTo>
                  <a:cubicBezTo>
                    <a:pt x="544" y="4335"/>
                    <a:pt x="1089" y="4135"/>
                    <a:pt x="1361" y="3765"/>
                  </a:cubicBezTo>
                  <a:cubicBezTo>
                    <a:pt x="1633" y="3395"/>
                    <a:pt x="1399" y="2646"/>
                    <a:pt x="1633" y="2313"/>
                  </a:cubicBezTo>
                  <a:cubicBezTo>
                    <a:pt x="1867" y="1980"/>
                    <a:pt x="2555" y="2026"/>
                    <a:pt x="2767" y="1769"/>
                  </a:cubicBezTo>
                  <a:cubicBezTo>
                    <a:pt x="2979" y="1512"/>
                    <a:pt x="2737" y="998"/>
                    <a:pt x="2903" y="771"/>
                  </a:cubicBezTo>
                  <a:cubicBezTo>
                    <a:pt x="3069" y="544"/>
                    <a:pt x="3576" y="536"/>
                    <a:pt x="3765" y="408"/>
                  </a:cubicBezTo>
                  <a:cubicBezTo>
                    <a:pt x="3954" y="280"/>
                    <a:pt x="3995" y="140"/>
                    <a:pt x="4037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6560" y="260280"/>
              <a:ext cx="6408720" cy="7201080"/>
            </a:xfrm>
            <a:custGeom>
              <a:avLst/>
              <a:gdLst/>
              <a:ahLst/>
              <a:rect l="l" t="t" r="r" b="b"/>
              <a:pathLst>
                <a:path w="4037" h="4536">
                  <a:moveTo>
                    <a:pt x="0" y="4536"/>
                  </a:moveTo>
                  <a:cubicBezTo>
                    <a:pt x="544" y="4335"/>
                    <a:pt x="1089" y="4135"/>
                    <a:pt x="1361" y="3765"/>
                  </a:cubicBezTo>
                  <a:cubicBezTo>
                    <a:pt x="1633" y="3395"/>
                    <a:pt x="1399" y="2646"/>
                    <a:pt x="1633" y="2313"/>
                  </a:cubicBezTo>
                  <a:cubicBezTo>
                    <a:pt x="1867" y="1980"/>
                    <a:pt x="2555" y="2026"/>
                    <a:pt x="2767" y="1769"/>
                  </a:cubicBezTo>
                  <a:cubicBezTo>
                    <a:pt x="2979" y="1512"/>
                    <a:pt x="2737" y="998"/>
                    <a:pt x="2903" y="771"/>
                  </a:cubicBezTo>
                  <a:cubicBezTo>
                    <a:pt x="3069" y="544"/>
                    <a:pt x="3576" y="536"/>
                    <a:pt x="3765" y="408"/>
                  </a:cubicBezTo>
                  <a:cubicBezTo>
                    <a:pt x="3954" y="280"/>
                    <a:pt x="3995" y="140"/>
                    <a:pt x="4037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2560" y="476280"/>
              <a:ext cx="6408720" cy="7201080"/>
            </a:xfrm>
            <a:custGeom>
              <a:avLst/>
              <a:gdLst/>
              <a:ahLst/>
              <a:rect l="l" t="t" r="r" b="b"/>
              <a:pathLst>
                <a:path w="4037" h="4536">
                  <a:moveTo>
                    <a:pt x="0" y="4536"/>
                  </a:moveTo>
                  <a:cubicBezTo>
                    <a:pt x="544" y="4335"/>
                    <a:pt x="1089" y="4135"/>
                    <a:pt x="1361" y="3765"/>
                  </a:cubicBezTo>
                  <a:cubicBezTo>
                    <a:pt x="1633" y="3395"/>
                    <a:pt x="1399" y="2646"/>
                    <a:pt x="1633" y="2313"/>
                  </a:cubicBezTo>
                  <a:cubicBezTo>
                    <a:pt x="1867" y="1980"/>
                    <a:pt x="2555" y="2026"/>
                    <a:pt x="2767" y="1769"/>
                  </a:cubicBezTo>
                  <a:cubicBezTo>
                    <a:pt x="2979" y="1512"/>
                    <a:pt x="2737" y="998"/>
                    <a:pt x="2903" y="771"/>
                  </a:cubicBezTo>
                  <a:cubicBezTo>
                    <a:pt x="3069" y="544"/>
                    <a:pt x="3576" y="536"/>
                    <a:pt x="3765" y="408"/>
                  </a:cubicBezTo>
                  <a:cubicBezTo>
                    <a:pt x="3954" y="280"/>
                    <a:pt x="3995" y="140"/>
                    <a:pt x="4037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98560" y="692280"/>
              <a:ext cx="6408720" cy="7200720"/>
            </a:xfrm>
            <a:custGeom>
              <a:avLst/>
              <a:gdLst/>
              <a:ahLst/>
              <a:rect l="l" t="t" r="r" b="b"/>
              <a:pathLst>
                <a:path w="4037" h="4536">
                  <a:moveTo>
                    <a:pt x="0" y="4536"/>
                  </a:moveTo>
                  <a:cubicBezTo>
                    <a:pt x="544" y="4335"/>
                    <a:pt x="1089" y="4135"/>
                    <a:pt x="1361" y="3765"/>
                  </a:cubicBezTo>
                  <a:cubicBezTo>
                    <a:pt x="1633" y="3395"/>
                    <a:pt x="1399" y="2646"/>
                    <a:pt x="1633" y="2313"/>
                  </a:cubicBezTo>
                  <a:cubicBezTo>
                    <a:pt x="1867" y="1980"/>
                    <a:pt x="2555" y="2026"/>
                    <a:pt x="2767" y="1769"/>
                  </a:cubicBezTo>
                  <a:cubicBezTo>
                    <a:pt x="2979" y="1512"/>
                    <a:pt x="2737" y="998"/>
                    <a:pt x="2903" y="771"/>
                  </a:cubicBezTo>
                  <a:cubicBezTo>
                    <a:pt x="3069" y="544"/>
                    <a:pt x="3576" y="536"/>
                    <a:pt x="3765" y="408"/>
                  </a:cubicBezTo>
                  <a:cubicBezTo>
                    <a:pt x="3954" y="280"/>
                    <a:pt x="3995" y="140"/>
                    <a:pt x="4037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55640" y="90972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65896E-006 C -0.00382 0.01526 0.00122 -0.00254 -0.0085 0.01827 C -0.01076 0.02312 -0.01128 0.02913 -0.01354 0.03399 C -0.01562 0.03861 -0.01823 0.04277 -0.02048 0.0474 C -0.0217 0.04971 -0.02257 0.05202 -0.02378 0.05434 C -0.02482 0.05665 -0.02725 0.06104 -0.02725 0.06104 C -0.02777 0.06405 -0.0276 0.06751 -0.02882 0.07006 C -0.03003 0.07237 -0.0335 0.07191 -0.03402 0.07468 C -0.03645 0.08925 -0.02934 0.0948 -0.02378 0.10382 C -0.01944 0.11098 -0.0217 0.11191 -0.01527 0.11746 C -0.00798 0.12393 0.00191 0.12786 0.01007 0.13318 C 0.02118 0.14058 0.03108 0.15145 0.04236 0.15815 C 0.05122 0.16347 0.06059 0.16578 0.06945 0.17156 C 0.079 0.18474 0.07605 0.19653 0.08299 0.20994 C 0.09115 0.24254 0.07848 0.27676 0.05921 0.29572 C 0.05903 0.29642 0.05643 0.30867 0.05591 0.30936 C 0.05452 0.31145 0.05226 0.31191 0.0507 0.31376 C 0.04879 0.31584 0.0474 0.31838 0.04566 0.32069 C 0.04514 0.32301 0.04514 0.32578 0.04393 0.3274 C 0.04046 0.33202 0.03212 0.33873 0.03212 0.33873 C 0.02813 0.34682 0.02466 0.35353 0.01858 0.35908 C 0.01736 0.36139 0.0165 0.3637 0.01511 0.36578 C 0.01302 0.36902 0.01025 0.37133 0.00834 0.37457 C 0.0073 0.37665 0.00747 0.37942 0.00677 0.3815 C 0.00556 0.38451 -0.00069 0.39561 -0.00173 0.39746 C -0.00052 0.42867 -0.00468 0.46335 0.01684 0.48324 C 0.01945 0.49688 0.02674 0.50081 0.03559 0.50798 C 0.03907 0.51075 0.04289 0.5133 0.04566 0.51699 C 0.05018 0.52301 0.05313 0.53225 0.05921 0.53503 C 0.0665 0.53827 0.07275 0.54405 0.07952 0.54867 C 0.08611 0.56116 0.09948 0.56093 0.11007 0.56439 C 0.12622 0.57549 0.13993 0.58798 0.15764 0.59376 C 0.16198 0.59792 0.16702 0.60069 0.17118 0.60509 C 0.17379 0.60763 0.17535 0.61156 0.17796 0.6141 C 0.18872 0.62474 0.20226 0.63121 0.21355 0.64116 C 0.21667 0.64671 0.22084 0.6511 0.22361 0.65688 C 0.22466 0.65896 0.22431 0.66173 0.22535 0.66382 C 0.22969 0.67283 0.2349 0.68324 0.24063 0.69087 C 0.24445 0.70127 0.24931 0.71052 0.25417 0.72023 C 0.25608 0.72416 0.25764 0.73341 0.25764 0.73341 C 0.25556 0.74983 0.25486 0.76763 0.2474 0.78104 C 0.2441 0.79376 0.24688 0.78636 0.23559 0.80139 C 0.23386 0.8037 0.23351 0.8074 0.23212 0.81017 C 0.23004 0.8148 0.22761 0.81942 0.22535 0.82405 C 0.22431 0.82636 0.22379 0.82913 0.22205 0.83052 C 0.21858 0.83376 0.21181 0.83977 0.21181 0.83977 C 0.2073 0.84856 0.20313 0.84856 0.19653 0.85341 C 0.19306 0.85595 0.19046 0.86127 0.18646 0.86243 C 0.18195 0.86382 0.17275 0.86659 0.17275 0.86659 C 0.13924 0.88948 0.10278 0.88786 0.06598 0.88948 C 0.04653 0.89572 0.02587 0.89503 0.00677 0.90266 C 0.00625 0.9052 0.00591 0.90775 0.00504 0.90983 C 0.00417 0.91214 0.00243 0.91376 0.00157 0.9163 C 0.00018 0.92093 -0.00173 0.93017 -0.00173 0.93017 C -0.00017 0.95445 -0.00451 0.99098 0.01355 1.00694 C 0.01407 1.01064 0.01407 1.01457 0.01511 1.01804 C 0.01893 1.03145 0.03091 1.03422 0.03889 1.04069 C 0.04306 1.04416 0.04601 1.04994 0.0507 1.05202 C 0.05243 1.05272 0.05434 1.05318 0.05591 1.05434 C 0.06198 1.05827 0.06615 1.06474 0.07275 1.06775 C 0.08004 1.07699 0.08559 1.07584 0.0948 1.08139 C 0.10921 1.09017 0.11198 1.09225 0.12882 1.0948 C 0.13056 1.09549 0.13212 1.09688 0.13386 1.09711 C 0.14167 1.09827 0.15 1.09688 0.15764 1.09942 C 0.15955 1.10012 0.15938 1.10451 0.16094 1.10613 C 0.16285 1.10821 0.16563 1.10867 0.16771 1.11075 C 0.17969 1.12277 0.1698 1.11607 0.17952 1.12879 C 0.18733 1.13896 0.19445 1.14312 0.20157 1.15584 C 0.20573 1.17225 0.20157 1.16809 0.21181 1.17156 C 0.21511 1.18474 0.2125 1.19699 0.21007 1.20994 C 0.20938 1.21364 0.2099 1.21804 0.20834 1.22127 C 0.20677 1.22451 0.20382 1.22567 0.20157 1.22798 C 0.19792 1.23792 0.19167 1.24647 0.18473 1.25295 C 0.18316 1.26543 0.18403 1.27098 0.17622 1.27769 C 0.17414 1.28601 0.17136 1.29295 0.16771 1.30035 C 0.16598 1.31306 0.16841 1.32093 0.15921 1.32509 C 0.15782 1.33295 0.15504 1.35399 0.15243 1.35908 C 0.15018 1.36347 0.14566 1.37249 0.14566 1.37249 C 0.14393 1.40578 0.13594 1.40416 0.1474 1.40416 E">
                                      <p:cBhvr>
                                        <p:cTn id="12" dur="14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61111E-006 -2.65896E-006 C -0.00382 0.01526 0.00122 -0.00254 -0.0085 0.01827 C -0.01076 0.02312 -0.01128 0.02913 -0.01354 0.03399 C -0.01562 0.03861 -0.01823 0.04277 -0.02048 0.0474 C -0.0217 0.04971 -0.02257 0.05202 -0.02378 0.05434 C -0.02482 0.05665 -0.02725 0.06104 -0.02725 0.06104 C -0.02777 0.06405 -0.0276 0.06751 -0.02882 0.07006 C -0.03003 0.07237 -0.0335 0.07191 -0.03402 0.07468 C -0.03645 0.08925 -0.02934 0.0948 -0.02378 0.10382 C -0.01944 0.11098 -0.0217 0.11191 -0.01527 0.11746 C -0.00798 0.12393 0.00191 0.12786 0.01007 0.13318 C 0.02118 0.14058 0.03108 0.15145 0.04236 0.15815 C 0.05122 0.16347 0.06059 0.16578 0.06945 0.17156 C 0.079 0.18474 0.07605 0.19653 0.08299 0.20994 C 0.09115 0.24254 0.07848 0.27676 0.05921 0.29572 C 0.05903 0.29642 0.05643 0.30867 0.05591 0.30936 C 0.05452 0.31145 0.05226 0.31191 0.0507 0.31376 C 0.04879 0.31584 0.0474 0.31838 0.04566 0.32069 C 0.04514 0.32301 0.04514 0.32578 0.04393 0.3274 C 0.04046 0.33202 0.03212 0.33873 0.03212 0.33873 C 0.02813 0.34682 0.02466 0.35353 0.01858 0.35908 C 0.01736 0.36139 0.0165 0.3637 0.01511 0.36578 C 0.01302 0.36902 0.01025 0.37133 0.00834 0.37457 C 0.0073 0.37665 0.00747 0.37942 0.00677 0.3815 C 0.00556 0.38451 -0.00069 0.39561 -0.00173 0.39746 C -0.00052 0.42867 -0.00468 0.46335 0.01684 0.48324 C 0.01945 0.49688 0.02674 0.50081 0.03559 0.50798 C 0.03907 0.51075 0.04289 0.5133 0.04566 0.51699 C 0.05018 0.52301 0.05313 0.53225 0.05921 0.53503 C 0.0665 0.53827 0.07275 0.54405 0.07952 0.54867 C 0.08611 0.56116 0.09948 0.56093 0.11007 0.56439 C 0.12622 0.57549 0.13993 0.58798 0.15764 0.59376 C 0.16198 0.59792 0.16702 0.60069 0.17118 0.60509 C 0.17379 0.60763 0.17535 0.61156 0.17796 0.6141 C 0.18872 0.62474 0.20226 0.63121 0.21355 0.64116 C 0.21667 0.64671 0.22084 0.6511 0.22361 0.65688 C 0.22466 0.65896 0.22431 0.66173 0.22535 0.66382 C 0.22969 0.67283 0.2349 0.68324 0.24063 0.69087 C 0.24445 0.70127 0.24931 0.71052 0.25417 0.72023 C 0.25608 0.72416 0.25764 0.73341 0.25764 0.73341 C 0.25556 0.74983 0.25486 0.76763 0.2474 0.78104 C 0.2441 0.79376 0.24688 0.78636 0.23559 0.80139 C 0.23386 0.8037 0.23351 0.8074 0.23212 0.81017 C 0.23004 0.8148 0.22761 0.81942 0.22535 0.82405 C 0.22431 0.82636 0.22379 0.82913 0.22205 0.83052 C 0.21858 0.83376 0.21181 0.83977 0.21181 0.83977 C 0.2073 0.84856 0.20313 0.84856 0.19653 0.85341 C 0.19306 0.85595 0.19046 0.86127 0.18646 0.86243 C 0.18195 0.86382 0.17275 0.86659 0.17275 0.86659 C 0.13924 0.88948 0.10278 0.88786 0.06598 0.88948 C 0.04653 0.89572 0.02587 0.89503 0.00677 0.90266 C 0.00625 0.9052 0.00591 0.90775 0.00504 0.90983 C 0.00417 0.91214 0.00243 0.91376 0.00157 0.9163 C 0.00018 0.92093 -0.00173 0.93017 -0.00173 0.93017 C -0.00017 0.95445 -0.00451 0.99098 0.01355 1.00694 C 0.01407 1.01064 0.01407 1.01457 0.01511 1.01804 C 0.01893 1.03145 0.03091 1.03422 0.03889 1.04069 C 0.04306 1.04416 0.04601 1.04994 0.0507 1.05202 C 0.05243 1.05272 0.05434 1.05318 0.05591 1.05434 C 0.06198 1.05827 0.06615 1.06474 0.07275 1.06775 C 0.08004 1.07699 0.08559 1.07584 0.0948 1.08139 C 0.10921 1.09017 0.11198 1.09225 0.12882 1.0948 C 0.13056 1.09549 0.13212 1.09688 0.13386 1.09711 C 0.14167 1.09827 0.15 1.09688 0.15764 1.09942 C 0.15955 1.10012 0.15938 1.10451 0.16094 1.10613 C 0.16285 1.10821 0.16563 1.10867 0.16771 1.11075 C 0.17969 1.12277 0.1698 1.11607 0.17952 1.12879 C 0.18733 1.13896 0.19445 1.14312 0.20157 1.15584 C 0.20573 1.17225 0.20157 1.16809 0.21181 1.17156 C 0.21511 1.18474 0.2125 1.19699 0.21007 1.20994 C 0.20938 1.21364 0.2099 1.21804 0.20834 1.22127 C 0.20677 1.22451 0.20382 1.22567 0.20157 1.22798 C 0.19792 1.23792 0.19167 1.24647 0.18473 1.25295 C 0.18316 1.26543 0.18403 1.27098 0.17622 1.27769 C 0.17414 1.28601 0.17136 1.29295 0.16771 1.30035 C 0.16598 1.31306 0.16841 1.32093 0.15921 1.32509 C 0.15782 1.33295 0.15504 1.35399 0.15243 1.35908 C 0.15018 1.36347 0.14566 1.37249 0.14566 1.37249 C 0.14393 1.40578 0.13594 1.40416 0.1474 1.40416 E">
                                      <p:cBhvr>
                                        <p:cTn id="14" dur="14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d2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 rot="21114000">
            <a:off x="4284360" y="764640"/>
            <a:ext cx="3838680" cy="498168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  <p:sp>
        <p:nvSpPr>
          <p:cNvPr id="64" name="十六角星 34"/>
          <p:cNvSpPr/>
          <p:nvPr/>
        </p:nvSpPr>
        <p:spPr>
          <a:xfrm rot="318000">
            <a:off x="3924000" y="549000"/>
            <a:ext cx="2433600" cy="2921040"/>
          </a:xfrm>
          <a:custGeom>
            <a:avLst/>
            <a:gdLst>
              <a:gd name="textAreaLeft" fmla="*/ 446760 w 2433600"/>
              <a:gd name="textAreaRight" fmla="*/ 1986840 w 2433600"/>
              <a:gd name="textAreaTop" fmla="*/ 536040 h 2921040"/>
              <a:gd name="textAreaBottom" fmla="*/ 2385000 h 292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12" y="12644"/>
                </a:lnTo>
                <a:lnTo>
                  <a:pt x="786" y="14846"/>
                </a:lnTo>
                <a:lnTo>
                  <a:pt x="2693" y="16064"/>
                </a:lnTo>
                <a:lnTo>
                  <a:pt x="3163" y="18437"/>
                </a:lnTo>
                <a:lnTo>
                  <a:pt x="5395" y="18813"/>
                </a:lnTo>
                <a:lnTo>
                  <a:pt x="6580" y="20741"/>
                </a:lnTo>
                <a:lnTo>
                  <a:pt x="8790" y="20255"/>
                </a:lnTo>
                <a:lnTo>
                  <a:pt x="10800" y="21600"/>
                </a:lnTo>
                <a:lnTo>
                  <a:pt x="12644" y="20288"/>
                </a:lnTo>
                <a:lnTo>
                  <a:pt x="14846" y="20814"/>
                </a:lnTo>
                <a:lnTo>
                  <a:pt x="16064" y="18907"/>
                </a:lnTo>
                <a:lnTo>
                  <a:pt x="18437" y="18437"/>
                </a:lnTo>
                <a:lnTo>
                  <a:pt x="18813" y="16205"/>
                </a:lnTo>
                <a:lnTo>
                  <a:pt x="20741" y="15020"/>
                </a:lnTo>
                <a:lnTo>
                  <a:pt x="20255" y="12810"/>
                </a:lnTo>
                <a:lnTo>
                  <a:pt x="21600" y="10800"/>
                </a:lnTo>
                <a:lnTo>
                  <a:pt x="20288" y="8956"/>
                </a:lnTo>
                <a:lnTo>
                  <a:pt x="20814" y="6754"/>
                </a:lnTo>
                <a:lnTo>
                  <a:pt x="18907" y="5536"/>
                </a:lnTo>
                <a:lnTo>
                  <a:pt x="18437" y="3163"/>
                </a:lnTo>
                <a:lnTo>
                  <a:pt x="16205" y="2787"/>
                </a:lnTo>
                <a:lnTo>
                  <a:pt x="15020" y="859"/>
                </a:lnTo>
                <a:lnTo>
                  <a:pt x="12810" y="1345"/>
                </a:lnTo>
                <a:lnTo>
                  <a:pt x="10800" y="0"/>
                </a:lnTo>
                <a:lnTo>
                  <a:pt x="8956" y="1312"/>
                </a:lnTo>
                <a:lnTo>
                  <a:pt x="6754" y="786"/>
                </a:lnTo>
                <a:lnTo>
                  <a:pt x="5536" y="2693"/>
                </a:lnTo>
                <a:lnTo>
                  <a:pt x="3163" y="3163"/>
                </a:lnTo>
                <a:lnTo>
                  <a:pt x="2787" y="5395"/>
                </a:lnTo>
                <a:lnTo>
                  <a:pt x="859" y="6580"/>
                </a:lnTo>
                <a:lnTo>
                  <a:pt x="1345" y="879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352680" y="7315200"/>
            <a:ext cx="790560" cy="792000"/>
            <a:chOff x="3352680" y="7315200"/>
            <a:chExt cx="790560" cy="792000"/>
          </a:xfrm>
        </p:grpSpPr>
        <p:sp>
          <p:nvSpPr>
            <p:cNvPr id="66" name=""/>
            <p:cNvSpPr/>
            <p:nvPr/>
          </p:nvSpPr>
          <p:spPr>
            <a:xfrm>
              <a:off x="3352680" y="7315200"/>
              <a:ext cx="790560" cy="792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1176"/>
                  </a:srgbClr>
                </a:gs>
                <a:gs pos="100000">
                  <a:srgbClr val="bbe0e3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4942800">
              <a:off x="3526200" y="7275960"/>
              <a:ext cx="360360" cy="575280"/>
            </a:xfrm>
            <a:custGeom>
              <a:avLst/>
              <a:gdLst>
                <a:gd name="textAreaLeft" fmla="*/ 101520 w 360360"/>
                <a:gd name="textAreaRight" fmla="*/ 249120 w 360360"/>
                <a:gd name="textAreaTop" fmla="*/ 87480 h 575280"/>
                <a:gd name="textAreaBottom" fmla="*/ 487800 h 57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263" y="2678"/>
                    <a:pt x="14926" y="5080"/>
                    <a:pt x="14926" y="10800"/>
                  </a:cubicBezTo>
                  <a:cubicBezTo>
                    <a:pt x="14926" y="16520"/>
                    <a:pt x="18263" y="1892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6274"/>
                  </a:srgbClr>
                </a:gs>
                <a:gs pos="100000">
                  <a:srgbClr val="ffffff"/>
                </a:gs>
              </a:gsLst>
              <a:lin ang="58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219640" y="6534000"/>
            <a:ext cx="647640" cy="648000"/>
            <a:chOff x="5219640" y="6534000"/>
            <a:chExt cx="647640" cy="648000"/>
          </a:xfrm>
        </p:grpSpPr>
        <p:sp>
          <p:nvSpPr>
            <p:cNvPr id="69" name=""/>
            <p:cNvSpPr/>
            <p:nvPr/>
          </p:nvSpPr>
          <p:spPr>
            <a:xfrm>
              <a:off x="5219640" y="6534000"/>
              <a:ext cx="647640" cy="64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1176"/>
                  </a:srgbClr>
                </a:gs>
                <a:gs pos="100000">
                  <a:srgbClr val="bbe0e3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4942800">
              <a:off x="5361840" y="6501600"/>
              <a:ext cx="294840" cy="471240"/>
            </a:xfrm>
            <a:custGeom>
              <a:avLst/>
              <a:gdLst>
                <a:gd name="textAreaLeft" fmla="*/ 83160 w 294840"/>
                <a:gd name="textAreaRight" fmla="*/ 203760 w 294840"/>
                <a:gd name="textAreaTop" fmla="*/ 71640 h 471240"/>
                <a:gd name="textAreaBottom" fmla="*/ 399600 h 4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263" y="2678"/>
                    <a:pt x="14926" y="5080"/>
                    <a:pt x="14926" y="10800"/>
                  </a:cubicBezTo>
                  <a:cubicBezTo>
                    <a:pt x="14926" y="16520"/>
                    <a:pt x="18263" y="1892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6274"/>
                  </a:srgbClr>
                </a:gs>
                <a:gs pos="100000">
                  <a:srgbClr val="ffffff"/>
                </a:gs>
              </a:gsLst>
              <a:lin ang="58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572000" y="6858000"/>
            <a:ext cx="504720" cy="504720"/>
            <a:chOff x="4572000" y="6858000"/>
            <a:chExt cx="504720" cy="504720"/>
          </a:xfrm>
        </p:grpSpPr>
        <p:sp>
          <p:nvSpPr>
            <p:cNvPr id="72" name=""/>
            <p:cNvSpPr/>
            <p:nvPr/>
          </p:nvSpPr>
          <p:spPr>
            <a:xfrm>
              <a:off x="4572000" y="6858000"/>
              <a:ext cx="504720" cy="504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1176"/>
                  </a:srgbClr>
                </a:gs>
                <a:gs pos="100000">
                  <a:srgbClr val="bbe0e3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4942800">
              <a:off x="4682520" y="6832440"/>
              <a:ext cx="229680" cy="367200"/>
            </a:xfrm>
            <a:custGeom>
              <a:avLst/>
              <a:gdLst>
                <a:gd name="textAreaLeft" fmla="*/ 64800 w 229680"/>
                <a:gd name="textAreaRight" fmla="*/ 158760 w 229680"/>
                <a:gd name="textAreaTop" fmla="*/ 55800 h 367200"/>
                <a:gd name="textAreaBottom" fmla="*/ 311400 h 36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263" y="2678"/>
                    <a:pt x="14926" y="5080"/>
                    <a:pt x="14926" y="10800"/>
                  </a:cubicBezTo>
                  <a:cubicBezTo>
                    <a:pt x="14926" y="16520"/>
                    <a:pt x="18263" y="1892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6274"/>
                  </a:srgbClr>
                </a:gs>
                <a:gs pos="100000">
                  <a:srgbClr val="ffffff"/>
                </a:gs>
              </a:gsLst>
              <a:lin ang="58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356000" y="8037360"/>
            <a:ext cx="790560" cy="792000"/>
            <a:chOff x="4356000" y="8037360"/>
            <a:chExt cx="790560" cy="792000"/>
          </a:xfrm>
        </p:grpSpPr>
        <p:sp>
          <p:nvSpPr>
            <p:cNvPr id="75" name=""/>
            <p:cNvSpPr/>
            <p:nvPr/>
          </p:nvSpPr>
          <p:spPr>
            <a:xfrm>
              <a:off x="4356000" y="8037360"/>
              <a:ext cx="790560" cy="792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1176"/>
                  </a:srgbClr>
                </a:gs>
                <a:gs pos="100000">
                  <a:srgbClr val="bbe0e3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4942800">
              <a:off x="4529520" y="7998120"/>
              <a:ext cx="360360" cy="575280"/>
            </a:xfrm>
            <a:custGeom>
              <a:avLst/>
              <a:gdLst>
                <a:gd name="textAreaLeft" fmla="*/ 101520 w 360360"/>
                <a:gd name="textAreaRight" fmla="*/ 249120 w 360360"/>
                <a:gd name="textAreaTop" fmla="*/ 87480 h 575280"/>
                <a:gd name="textAreaBottom" fmla="*/ 487800 h 57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263" y="2678"/>
                    <a:pt x="14926" y="5080"/>
                    <a:pt x="14926" y="10800"/>
                  </a:cubicBezTo>
                  <a:cubicBezTo>
                    <a:pt x="14926" y="16520"/>
                    <a:pt x="18263" y="1892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6274"/>
                  </a:srgbClr>
                </a:gs>
                <a:gs pos="100000">
                  <a:srgbClr val="ffffff"/>
                </a:gs>
              </a:gsLst>
              <a:lin ang="58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7812000" y="7821720"/>
            <a:ext cx="647640" cy="647640"/>
            <a:chOff x="7812000" y="7821720"/>
            <a:chExt cx="647640" cy="647640"/>
          </a:xfrm>
        </p:grpSpPr>
        <p:sp>
          <p:nvSpPr>
            <p:cNvPr id="78" name=""/>
            <p:cNvSpPr/>
            <p:nvPr/>
          </p:nvSpPr>
          <p:spPr>
            <a:xfrm>
              <a:off x="7812000" y="7821720"/>
              <a:ext cx="647640" cy="647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1176"/>
                  </a:srgbClr>
                </a:gs>
                <a:gs pos="100000">
                  <a:srgbClr val="bbe0e3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4942800">
              <a:off x="7954200" y="7788960"/>
              <a:ext cx="294480" cy="471240"/>
            </a:xfrm>
            <a:custGeom>
              <a:avLst/>
              <a:gdLst>
                <a:gd name="textAreaLeft" fmla="*/ 82800 w 294480"/>
                <a:gd name="textAreaRight" fmla="*/ 203400 w 294480"/>
                <a:gd name="textAreaTop" fmla="*/ 71640 h 471240"/>
                <a:gd name="textAreaBottom" fmla="*/ 399600 h 4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263" y="2678"/>
                    <a:pt x="14926" y="5080"/>
                    <a:pt x="14926" y="10800"/>
                  </a:cubicBezTo>
                  <a:cubicBezTo>
                    <a:pt x="14926" y="16520"/>
                    <a:pt x="18263" y="1892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6274"/>
                  </a:srgbClr>
                </a:gs>
                <a:gs pos="100000">
                  <a:srgbClr val="ffffff"/>
                </a:gs>
              </a:gsLst>
              <a:lin ang="58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084720" y="7101000"/>
            <a:ext cx="505080" cy="504720"/>
            <a:chOff x="6084720" y="7101000"/>
            <a:chExt cx="505080" cy="504720"/>
          </a:xfrm>
        </p:grpSpPr>
        <p:sp>
          <p:nvSpPr>
            <p:cNvPr id="81" name=""/>
            <p:cNvSpPr/>
            <p:nvPr/>
          </p:nvSpPr>
          <p:spPr>
            <a:xfrm>
              <a:off x="6084720" y="7101000"/>
              <a:ext cx="505080" cy="504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1176"/>
                  </a:srgbClr>
                </a:gs>
                <a:gs pos="100000">
                  <a:srgbClr val="bbe0e3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4942800">
              <a:off x="6195600" y="7075440"/>
              <a:ext cx="229680" cy="367560"/>
            </a:xfrm>
            <a:custGeom>
              <a:avLst/>
              <a:gdLst>
                <a:gd name="textAreaLeft" fmla="*/ 64800 w 229680"/>
                <a:gd name="textAreaRight" fmla="*/ 158760 w 229680"/>
                <a:gd name="textAreaTop" fmla="*/ 55800 h 367560"/>
                <a:gd name="textAreaBottom" fmla="*/ 311760 h 36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263" y="2678"/>
                    <a:pt x="14926" y="5080"/>
                    <a:pt x="14926" y="10800"/>
                  </a:cubicBezTo>
                  <a:cubicBezTo>
                    <a:pt x="14926" y="16520"/>
                    <a:pt x="18263" y="1892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6274"/>
                  </a:srgbClr>
                </a:gs>
                <a:gs pos="100000">
                  <a:srgbClr val="ffffff"/>
                </a:gs>
              </a:gsLst>
              <a:lin ang="58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50920" y="537192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爱是甜蜜的，爱是温暖的 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轻轻的拥你在怀中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听着彼此扑通扑通的心跳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5 -0.04185 C -0.08473 -0.0437 -0.0908 -0.04277 -0.09671 -0.04578 C -0.09844 -0.04647 -0.09948 -0.05179 -0.10122 -0.05387 C -0.10313 -0.05641 -0.10521 -0.05734 -0.10712 -0.05803 C -0.11355 -0.06959 -0.11754 -0.08416 -0.125 -0.09063 C -0.1316 -0.10381 -0.13941 -0.11699 -0.1474 -0.12277 C -0.15209 -0.14058 -0.15816 -0.15584 -0.16407 -0.17063 C -0.16667 -0.17803 -0.16858 -0.18797 -0.17153 -0.19537 C -0.17414 -0.2178 -0.17066 -0.19745 -0.17882 -0.21896 C -0.18004 -0.22219 -0.18021 -0.2289 -0.18178 -0.23098 C -0.18368 -0.23422 -0.18577 -0.23422 -0.18785 -0.2356 C -0.18803 -0.23584 -0.19532 -0.2689 -0.19827 -0.27144 C -0.20313 -0.2756 -0.20816 -0.27468 -0.2132 -0.2756 C -0.22952 -0.29086 -0.24341 -0.29664 -0.26094 -0.29988 C -0.27379 -0.31144 -0.25973 -0.29988 -0.28941 -0.30821 C -0.29809 -0.31029 -0.30695 -0.32138 -0.31476 -0.33156 C -0.31632 -0.33572 -0.31737 -0.34081 -0.3191 -0.34404 C -0.32049 -0.34682 -0.3224 -0.3452 -0.32362 -0.34774 C -0.325 -0.35075 -0.32553 -0.3563 -0.32674 -0.36046 C -0.32848 -0.36624 -0.33073 -0.3704 -0.33264 -0.37618 C -0.33629 -0.38774 -0.33837 -0.40347 -0.3415 -0.41618 C -0.34098 -0.43699 -0.34115 -0.48508 -0.33716 -0.50913 C -0.33073 -0.54612 -0.31632 -0.57595 -0.30417 -0.59815 C -0.3033 -0.60185 -0.30243 -0.60647 -0.30122 -0.60971 C -0.29983 -0.61433 -0.29792 -0.61711 -0.29671 -0.62173 C -0.29584 -0.62589 -0.29601 -0.63052 -0.29532 -0.63422 C -0.29341 -0.64647 -0.29202 -0.65179 -0.28941 -0.66219 C -0.28698 -0.68578 -0.28195 -0.70173 -0.27587 -0.71884 C -0.2724 -0.74682 -0.27379 -0.73479 -0.27153 -0.75514 C -0.2724 -0.78104 -0.27414 -0.79584 -0.27587 -0.81942 C -0.27657 -0.82728 -0.27587 -0.83676 -0.27743 -0.84347 C -0.27813 -0.84716 -0.28039 -0.8467 -0.28178 -0.8474 C -0.28889 -0.86636 -0.29514 -0.8837 -0.30417 -0.89618 C -0.30868 -0.91399 -0.31007 -0.91052 -0.31771 -0.91607 C -0.32275 -0.93572 -0.31823 -0.92254 -0.32674 -0.93618 C -0.33889 -0.95653 -0.34132 -0.95815 -0.35643 -0.96416 C -0.35799 -0.96878 -0.35973 -0.97202 -0.36094 -0.97618 C -0.36233 -0.9815 -0.3625 -0.98867 -0.36407 -0.99283 C -0.36511 -0.99653 -0.36702 -0.99769 -0.36841 -1.00069 C -0.37014 -1.00439 -0.37171 -1.00809 -0.37292 -1.01225 C -0.37743 -1.02982 -0.37813 -1.04855 -0.38473 -1.06058 C -0.38976 -1.1015 -0.38507 -1.14058 -0.38195 -1.18127 C -0.38143 -1.1956 -0.38143 -1.20878 -0.38039 -1.22196 C -0.37934 -1.23607 -0.37483 -1.25919 -0.37292 -1.27445 C -0.37188 -1.28254 -0.37014 -1.2904 -0.36841 -1.29826 C -0.36667 -1.30705 -0.3625 -1.32254 -0.3625 -1.32231 C -0.35938 -1.3556 -0.36389 -1.32716 -0.35643 -1.34289 C -0.35452 -1.34705 -0.35382 -1.35399 -0.35209 -1.35907 E">
                                      <p:cBhvr>
                                        <p:cTn id="35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23 C -0.00642 -0.00139 -0.01285 -0.00069 -0.01892 -0.00324 C -0.02083 -0.0037 -0.02187 -0.0081 -0.02378 -0.00972 C -0.02569 -0.01181 -0.02795 -0.0125 -0.03003 -0.01319 C -0.03663 -0.02245 -0.04097 -0.03426 -0.04878 -0.03958 C -0.05573 -0.05023 -0.06389 -0.06111 -0.07222 -0.06574 C -0.07726 -0.08009 -0.08351 -0.09259 -0.08958 -0.10463 C -0.09253 -0.11065 -0.09444 -0.11852 -0.09722 -0.12454 C -0.10035 -0.14259 -0.0967 -0.12639 -0.10521 -0.14375 C -0.10642 -0.14606 -0.10677 -0.15139 -0.10833 -0.15301 C -0.11007 -0.15579 -0.1125 -0.15579 -0.11458 -0.15671 C -0.11476 -0.15718 -0.12257 -0.1838 -0.12552 -0.18588 C -0.13056 -0.18912 -0.13594 -0.18843 -0.14132 -0.18912 C -0.15851 -0.20162 -0.17309 -0.20625 -0.19132 -0.20903 C -0.20486 -0.21829 -0.1901 -0.20903 -0.22135 -0.21574 C -0.23038 -0.21736 -0.23976 -0.22639 -0.24792 -0.23472 C -0.24948 -0.23796 -0.25069 -0.24213 -0.2526 -0.24468 C -0.25382 -0.24699 -0.2559 -0.24583 -0.25729 -0.24769 C -0.25868 -0.25 -0.2592 -0.25486 -0.26042 -0.2581 C -0.26233 -0.26273 -0.26476 -0.2662 -0.26667 -0.27083 C -0.27066 -0.28032 -0.27292 -0.29306 -0.27604 -0.30324 C -0.27552 -0.32014 -0.27569 -0.35926 -0.27135 -0.3787 C -0.26476 -0.4088 -0.24948 -0.43287 -0.23681 -0.45046 C -0.23594 -0.45347 -0.2349 -0.45718 -0.23385 -0.45995 C -0.23229 -0.46366 -0.23021 -0.46597 -0.22899 -0.46968 C -0.22795 -0.47292 -0.22812 -0.47662 -0.2276 -0.47963 C -0.22552 -0.48981 -0.22396 -0.49398 -0.22135 -0.50255 C -0.21892 -0.52153 -0.21354 -0.53449 -0.20712 -0.54838 C -0.20347 -0.57106 -0.20486 -0.56134 -0.20243 -0.57778 C -0.20347 -0.59884 -0.20521 -0.61088 -0.20712 -0.62986 C -0.20781 -0.63634 -0.20712 -0.64398 -0.20868 -0.64931 C -0.20955 -0.65231 -0.21181 -0.65208 -0.21337 -0.65278 C -0.22083 -0.66806 -0.22743 -0.68218 -0.23681 -0.69213 C -0.24149 -0.70648 -0.24306 -0.70394 -0.25104 -0.70833 C -0.25625 -0.72407 -0.25156 -0.71366 -0.26042 -0.72431 C -0.27326 -0.74074 -0.27587 -0.74213 -0.29184 -0.74699 C -0.2934 -0.75069 -0.29514 -0.75347 -0.29653 -0.75671 C -0.29792 -0.76111 -0.29809 -0.7669 -0.29965 -0.77014 C -0.30087 -0.77315 -0.30295 -0.77407 -0.30434 -0.77662 C -0.30608 -0.77963 -0.30764 -0.78287 -0.30903 -0.78634 C -0.31389 -0.80023 -0.31441 -0.81574 -0.32153 -0.82546 C -0.32674 -0.85856 -0.32187 -0.89028 -0.3184 -0.92338 C -0.31806 -0.93472 -0.31806 -0.9456 -0.31684 -0.95625 C -0.3158 -0.96759 -0.31111 -0.98634 -0.30903 -0.99884 C -0.30781 -1.00509 -0.30608 -1.01134 -0.30434 -1.01759 C -0.3026 -1.02454 -0.29809 -1.03727 -0.29809 -1.03704 C -0.29479 -1.06412 -0.29948 -1.04097 -0.29184 -1.0537 C -0.28976 -1.05718 -0.28889 -1.06273 -0.28715 -1.0669 E">
                                      <p:cBhvr>
                                        <p:cTn id="4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9 4.44444E-006 C 0.00851 -0.00463 0.00764 -0.0095 0.00573 -0.01297 C 0.00209 -0.01968 -0.00625 -0.03056 -0.00625 -0.0301 C -0.01267 -0.05232 -0.01579 -0.04167 -0.02413 -0.05672 C -0.03281 -0.07338 -0.03333 -0.07825 -0.03993 -0.10047 L -0.03993 -0.1 C -0.04774 -0.1169 -0.04444 -0.10811 -0.05 -0.12639 C -0.05243 -0.14676 -0.05312 -0.16737 -0.05607 -0.1875 C -0.05434 -0.2169 -0.05208 -0.23565 -0.04618 -0.26112 C -0.04513 -0.26505 -0.04548 -0.27084 -0.04409 -0.27408 C -0.04062 -0.28149 -0.03211 -0.29144 -0.03211 -0.29098 C -0.03142 -0.29723 -0.03229 -0.30487 -0.0302 -0.3088 C -0.0276 -0.31366 -0.02343 -0.31112 -0.02013 -0.3132 C -0.01736 -0.31551 -0.01493 -0.31945 -0.01215 -0.32223 C -0.01041 -0.32385 -0.00833 -0.32477 -0.00625 -0.32616 C -0.00156 -0.34144 -0.00295 -0.3419 0.00573 -0.34792 C 0.01094 -0.35162 0.02171 -0.35695 0.02171 -0.35649 C 0.02987 -0.36852 0.03855 -0.36899 0.04775 -0.37431 C 0.05382 -0.39399 0.06146 -0.40162 0.07171 -0.40903 C 0.07726 -0.42662 0.08559 -0.44075 0.09375 -0.45232 C 0.09775 -0.47107 0.10556 -0.48843 0.11355 -0.50047 C 0.12066 -0.52385 0.12171 -0.53172 0.1257 -0.55718 C 0.12101 -0.58612 0.12171 -0.61783 0.12952 -0.64375 C 0.13091 -0.72801 0.13021 -0.86366 0.13959 -0.94399 C 0.14323 -0.97662 0.14254 -1.01343 0.15955 -1.02639 C 0.16077 -1.03102 0.16164 -1.03588 0.16355 -1.03912 C 0.16719 -1.04584 0.17153 -1.0507 0.17553 -1.05649 C 0.18021 -1.0632 0.18195 -1.08102 0.18733 -1.08287 C 0.20487 -1.0882 0.19688 -1.08519 0.21146 -1.0919 C 0.23316 -1.12269 0.23525 -1.11806 0.26737 -1.12223 C 0.26945 -1.12338 0.27153 -1.12431 0.27327 -1.12662 C 0.27553 -1.12894 0.27952 -1.13519 0.27952 -1.13473 E">
                                      <p:cBhvr>
                                        <p:cTn id="46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5 -0.04185 C -0.08473 -0.0437 -0.0908 -0.04277 -0.09671 -0.04578 C -0.09844 -0.04647 -0.09948 -0.05179 -0.10122 -0.05387 C -0.10313 -0.05641 -0.10521 -0.05734 -0.10712 -0.05803 C -0.11355 -0.06959 -0.11754 -0.08416 -0.125 -0.09063 C -0.1316 -0.10381 -0.13941 -0.11699 -0.1474 -0.12277 C -0.15209 -0.14058 -0.15816 -0.15584 -0.16407 -0.17063 C -0.16667 -0.17803 -0.16858 -0.18797 -0.17153 -0.19537 C -0.17414 -0.2178 -0.17066 -0.19745 -0.17882 -0.21896 C -0.18004 -0.22219 -0.18021 -0.2289 -0.18178 -0.23098 C -0.18368 -0.23422 -0.18577 -0.23422 -0.18785 -0.2356 C -0.18803 -0.23584 -0.19532 -0.2689 -0.19827 -0.27144 C -0.20313 -0.2756 -0.20816 -0.27468 -0.2132 -0.2756 C -0.22952 -0.29086 -0.24341 -0.29664 -0.26094 -0.29988 C -0.27379 -0.31144 -0.25973 -0.29988 -0.28941 -0.30821 C -0.29809 -0.31029 -0.30695 -0.32138 -0.31476 -0.33156 C -0.31632 -0.33572 -0.31737 -0.34081 -0.3191 -0.34404 C -0.32049 -0.34682 -0.3224 -0.3452 -0.32362 -0.34774 C -0.325 -0.35075 -0.32553 -0.3563 -0.32674 -0.36046 C -0.32848 -0.36624 -0.33073 -0.3704 -0.33264 -0.37618 C -0.33629 -0.38774 -0.33837 -0.40347 -0.3415 -0.41618 C -0.34098 -0.43699 -0.34115 -0.48508 -0.33716 -0.50913 C -0.33073 -0.54612 -0.31632 -0.57595 -0.30417 -0.59815 C -0.3033 -0.60185 -0.30243 -0.60647 -0.30122 -0.60971 C -0.29983 -0.61433 -0.29792 -0.61711 -0.29671 -0.62173 C -0.29584 -0.62589 -0.29601 -0.63052 -0.29532 -0.63422 C -0.29341 -0.64647 -0.29202 -0.65179 -0.28941 -0.66219 C -0.28698 -0.68578 -0.28195 -0.70173 -0.27587 -0.71884 C -0.2724 -0.74682 -0.27379 -0.73479 -0.27153 -0.75514 C -0.2724 -0.78104 -0.27414 -0.79584 -0.27587 -0.81942 C -0.27657 -0.82728 -0.27587 -0.83676 -0.27743 -0.84347 C -0.27813 -0.84716 -0.28039 -0.8467 -0.28178 -0.8474 C -0.28889 -0.86636 -0.29514 -0.8837 -0.30417 -0.89618 C -0.30868 -0.91399 -0.31007 -0.91052 -0.31771 -0.91607 C -0.32275 -0.93572 -0.31823 -0.92254 -0.32674 -0.93618 C -0.33889 -0.95653 -0.34132 -0.95815 -0.35643 -0.96416 C -0.35799 -0.96878 -0.35973 -0.97202 -0.36094 -0.97618 C -0.36233 -0.9815 -0.3625 -0.98867 -0.36407 -0.99283 C -0.36511 -0.99653 -0.36702 -0.99769 -0.36841 -1.00069 C -0.37014 -1.00439 -0.37171 -1.00809 -0.37292 -1.01225 C -0.37743 -1.02982 -0.37813 -1.04855 -0.38473 -1.06058 C -0.38976 -1.1015 -0.38507 -1.14058 -0.38195 -1.18127 C -0.38143 -1.1956 -0.38143 -1.20878 -0.38039 -1.22196 C -0.37934 -1.23607 -0.37483 -1.25919 -0.37292 -1.27445 C -0.37188 -1.28254 -0.37014 -1.2904 -0.36841 -1.29826 C -0.36667 -1.30705 -0.3625 -1.32254 -0.3625 -1.32231 C -0.35938 -1.3556 -0.36389 -1.32716 -0.35643 -1.34289 C -0.35452 -1.34705 -0.35382 -1.35399 -0.35209 -1.35907 E">
                                      <p:cBhvr>
                                        <p:cTn id="51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00023 C -0.00695 -0.00185 -0.01389 -0.00092 -0.02032 -0.0044 C -0.0224 -0.00509 -0.02361 -0.01111 -0.02552 -0.01319 C -0.02761 -0.01597 -0.03004 -0.0169 -0.03229 -0.01782 C -0.03941 -0.03032 -0.0441 -0.04629 -0.05243 -0.0537 C -0.0599 -0.06805 -0.06858 -0.08264 -0.07761 -0.08889 C -0.08299 -0.10833 -0.08959 -0.12523 -0.09618 -0.14167 C -0.09931 -0.14977 -0.10139 -0.16042 -0.10434 -0.16852 C -0.10764 -0.19305 -0.10382 -0.17106 -0.11285 -0.19467 C -0.11424 -0.19768 -0.11459 -0.20486 -0.11632 -0.20717 C -0.11806 -0.21088 -0.12066 -0.21088 -0.12292 -0.21204 C -0.12309 -0.21273 -0.1316 -0.24884 -0.13473 -0.25162 C -0.14011 -0.25602 -0.14584 -0.25509 -0.15157 -0.25602 C -0.16997 -0.27292 -0.18577 -0.27917 -0.20521 -0.28287 C -0.21979 -0.29537 -0.204 -0.28287 -0.2375 -0.2919 C -0.24705 -0.29421 -0.25712 -0.30648 -0.26598 -0.31759 C -0.26754 -0.32199 -0.26893 -0.32778 -0.27101 -0.33125 C -0.27223 -0.33426 -0.27448 -0.33264 -0.27604 -0.33518 C -0.27743 -0.33842 -0.27795 -0.34491 -0.27934 -0.3493 C -0.28143 -0.35555 -0.28403 -0.36018 -0.28594 -0.36667 C -0.29028 -0.3794 -0.29271 -0.39653 -0.29601 -0.41042 C -0.29549 -0.43333 -0.29566 -0.48611 -0.29098 -0.5125 C -0.28403 -0.55324 -0.26754 -0.58588 -0.254 -0.60972 C -0.25313 -0.61366 -0.25191 -0.61875 -0.25087 -0.62245 C -0.24913 -0.62754 -0.24688 -0.63055 -0.24566 -0.63565 C -0.24445 -0.64004 -0.24462 -0.64514 -0.2441 -0.64907 C -0.24184 -0.66296 -0.24028 -0.66852 -0.2375 -0.68009 C -0.2349 -0.70579 -0.229 -0.72338 -0.22223 -0.74213 C -0.21823 -0.77292 -0.21979 -0.75972 -0.21719 -0.78194 C -0.21823 -0.81042 -0.22014 -0.82685 -0.22223 -0.85231 C -0.22292 -0.86111 -0.22223 -0.87153 -0.22379 -0.8787 C -0.22483 -0.88287 -0.22726 -0.88241 -0.22882 -0.88333 C -0.23681 -0.90417 -0.24393 -0.92315 -0.254 -0.9368 C -0.25903 -0.95602 -0.26077 -0.95278 -0.26927 -0.95856 C -0.27483 -0.97986 -0.26979 -0.96574 -0.27934 -0.98032 C -0.29306 -1.00254 -0.29584 -1.0044 -0.31302 -1.01088 C -0.31476 -1.01597 -0.3165 -1.01967 -0.31806 -1.02407 C -0.31962 -1.03009 -0.31979 -1.03796 -0.32136 -1.04236 C -0.32275 -1.04629 -0.325 -1.04768 -0.32639 -1.05092 C -0.3283 -1.05509 -0.33004 -1.05949 -0.33143 -1.06412 C -0.33663 -1.08287 -0.33716 -1.10393 -0.34479 -1.11713 C -0.35035 -1.16204 -0.34514 -1.20463 -0.3415 -1.2493 C -0.34115 -1.26481 -0.34115 -1.2794 -0.33976 -1.29398 C -0.33872 -1.30926 -0.33368 -1.33472 -0.33143 -1.35162 C -0.33021 -1.35995 -0.3283 -1.36852 -0.32639 -1.37685 C -0.32448 -1.38634 -0.31979 -1.40347 -0.31979 -1.40324 C -0.31615 -1.43981 -0.32118 -1.40856 -0.31302 -1.42569 C -0.31077 -1.43055 -0.3099 -1.43796 -0.30799 -1.44375 E">
                                      <p:cBhvr>
                                        <p:cTn id="5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9 4.44444E-006 C 0.00851 -0.00463 0.00764 -0.0095 0.00573 -0.01297 C 0.00209 -0.01968 -0.00625 -0.03056 -0.00625 -0.0301 C -0.01267 -0.05232 -0.01579 -0.04167 -0.02413 -0.05672 C -0.03281 -0.07338 -0.03333 -0.07825 -0.03993 -0.10047 L -0.03993 -0.1 C -0.04774 -0.1169 -0.04444 -0.10811 -0.05 -0.12639 C -0.05243 -0.14676 -0.05312 -0.16737 -0.05607 -0.1875 C -0.05434 -0.2169 -0.05208 -0.23565 -0.04618 -0.26112 C -0.04513 -0.26505 -0.04548 -0.27084 -0.04409 -0.27408 C -0.04062 -0.28149 -0.03211 -0.29144 -0.03211 -0.29098 C -0.03142 -0.29723 -0.03229 -0.30487 -0.0302 -0.3088 C -0.0276 -0.31366 -0.02343 -0.31112 -0.02013 -0.3132 C -0.01736 -0.31551 -0.01493 -0.31945 -0.01215 -0.32223 C -0.01041 -0.32385 -0.00833 -0.32477 -0.00625 -0.32616 C -0.00156 -0.34144 -0.00295 -0.3419 0.00573 -0.34792 C 0.01094 -0.35162 0.02171 -0.35695 0.02171 -0.35649 C 0.02987 -0.36852 0.03855 -0.36899 0.04775 -0.37431 C 0.05382 -0.39399 0.06146 -0.40162 0.07171 -0.40903 C 0.07726 -0.42662 0.08559 -0.44075 0.09375 -0.45232 C 0.09775 -0.47107 0.10556 -0.48843 0.11355 -0.50047 C 0.12066 -0.52385 0.12171 -0.53172 0.1257 -0.55718 C 0.12101 -0.58612 0.12171 -0.61783 0.12952 -0.64375 C 0.13091 -0.72801 0.13021 -0.86366 0.13959 -0.94399 C 0.14323 -0.97662 0.14254 -1.01343 0.15955 -1.02639 C 0.16077 -1.03102 0.16164 -1.03588 0.16355 -1.03912 C 0.16719 -1.04584 0.17153 -1.0507 0.17553 -1.05649 C 0.18021 -1.0632 0.18195 -1.08102 0.18733 -1.08287 C 0.20487 -1.0882 0.19688 -1.08519 0.21146 -1.0919 C 0.23316 -1.12269 0.23525 -1.11806 0.26737 -1.12223 C 0.26945 -1.12338 0.27153 -1.12431 0.27327 -1.12662 C 0.27553 -1.12894 0.27952 -1.13519 0.27952 -1.13473 E">
                                      <p:cBhvr>
                                        <p:cTn id="6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ed7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 rot="21159600">
            <a:off x="2842920" y="1052280"/>
            <a:ext cx="4079880" cy="529416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21193800">
            <a:off x="-396720" y="475920"/>
            <a:ext cx="4679640" cy="710892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-396720" y="3500280"/>
            <a:ext cx="10080360" cy="4032360"/>
            <a:chOff x="-396720" y="3500280"/>
            <a:chExt cx="10080360" cy="4032360"/>
          </a:xfrm>
        </p:grpSpPr>
        <p:sp>
          <p:nvSpPr>
            <p:cNvPr id="87" name=""/>
            <p:cNvSpPr/>
            <p:nvPr/>
          </p:nvSpPr>
          <p:spPr>
            <a:xfrm>
              <a:off x="-396720" y="4076640"/>
              <a:ext cx="10080360" cy="3456000"/>
            </a:xfrm>
            <a:custGeom>
              <a:avLst/>
              <a:gdLst/>
              <a:ahLst/>
              <a:rect l="l" t="t" r="r" b="b"/>
              <a:pathLst>
                <a:path w="5042" h="1936">
                  <a:moveTo>
                    <a:pt x="0" y="1936"/>
                  </a:moveTo>
                  <a:cubicBezTo>
                    <a:pt x="261" y="1463"/>
                    <a:pt x="522" y="990"/>
                    <a:pt x="771" y="983"/>
                  </a:cubicBezTo>
                  <a:cubicBezTo>
                    <a:pt x="1020" y="976"/>
                    <a:pt x="1270" y="1891"/>
                    <a:pt x="1497" y="1891"/>
                  </a:cubicBezTo>
                  <a:cubicBezTo>
                    <a:pt x="1724" y="1891"/>
                    <a:pt x="1920" y="1051"/>
                    <a:pt x="2132" y="983"/>
                  </a:cubicBezTo>
                  <a:cubicBezTo>
                    <a:pt x="2344" y="915"/>
                    <a:pt x="2555" y="1520"/>
                    <a:pt x="2767" y="1482"/>
                  </a:cubicBezTo>
                  <a:cubicBezTo>
                    <a:pt x="2979" y="1444"/>
                    <a:pt x="3190" y="848"/>
                    <a:pt x="3402" y="757"/>
                  </a:cubicBezTo>
                  <a:cubicBezTo>
                    <a:pt x="3614" y="666"/>
                    <a:pt x="3871" y="1051"/>
                    <a:pt x="4037" y="938"/>
                  </a:cubicBezTo>
                  <a:cubicBezTo>
                    <a:pt x="4203" y="825"/>
                    <a:pt x="4249" y="152"/>
                    <a:pt x="4400" y="76"/>
                  </a:cubicBezTo>
                  <a:cubicBezTo>
                    <a:pt x="4551" y="0"/>
                    <a:pt x="4846" y="408"/>
                    <a:pt x="4944" y="484"/>
                  </a:cubicBezTo>
                  <a:cubicBezTo>
                    <a:pt x="5042" y="560"/>
                    <a:pt x="4982" y="522"/>
                    <a:pt x="4989" y="53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396720" y="3500280"/>
              <a:ext cx="10080360" cy="3456000"/>
            </a:xfrm>
            <a:custGeom>
              <a:avLst/>
              <a:gdLst/>
              <a:ahLst/>
              <a:rect l="l" t="t" r="r" b="b"/>
              <a:pathLst>
                <a:path w="5042" h="1936">
                  <a:moveTo>
                    <a:pt x="0" y="1936"/>
                  </a:moveTo>
                  <a:cubicBezTo>
                    <a:pt x="261" y="1463"/>
                    <a:pt x="522" y="990"/>
                    <a:pt x="771" y="983"/>
                  </a:cubicBezTo>
                  <a:cubicBezTo>
                    <a:pt x="1020" y="976"/>
                    <a:pt x="1270" y="1891"/>
                    <a:pt x="1497" y="1891"/>
                  </a:cubicBezTo>
                  <a:cubicBezTo>
                    <a:pt x="1724" y="1891"/>
                    <a:pt x="1920" y="1051"/>
                    <a:pt x="2132" y="983"/>
                  </a:cubicBezTo>
                  <a:cubicBezTo>
                    <a:pt x="2344" y="915"/>
                    <a:pt x="2555" y="1520"/>
                    <a:pt x="2767" y="1482"/>
                  </a:cubicBezTo>
                  <a:cubicBezTo>
                    <a:pt x="2979" y="1444"/>
                    <a:pt x="3190" y="848"/>
                    <a:pt x="3402" y="757"/>
                  </a:cubicBezTo>
                  <a:cubicBezTo>
                    <a:pt x="3614" y="666"/>
                    <a:pt x="3871" y="1051"/>
                    <a:pt x="4037" y="938"/>
                  </a:cubicBezTo>
                  <a:cubicBezTo>
                    <a:pt x="4203" y="825"/>
                    <a:pt x="4249" y="152"/>
                    <a:pt x="4400" y="76"/>
                  </a:cubicBezTo>
                  <a:cubicBezTo>
                    <a:pt x="4551" y="0"/>
                    <a:pt x="4846" y="408"/>
                    <a:pt x="4944" y="484"/>
                  </a:cubicBezTo>
                  <a:cubicBezTo>
                    <a:pt x="5042" y="560"/>
                    <a:pt x="4982" y="522"/>
                    <a:pt x="4989" y="53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44509E-006 L -4.16667E-006 -0.03168 E">
                                      <p:cBhvr>
                                        <p:cTn id="8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992-E4B7-4EAC-8D8D-ECB9E3AD9B01}" type="slidenum">
              <a:t>5</a:t>
            </a:fld>
          </a:p>
        </p:txBody>
      </p:sp>
    </p:spTree>
  </p:cSld>
  <p:transition advTm="1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d2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 rot="20658000">
            <a:off x="2916000" y="549360"/>
            <a:ext cx="4246560" cy="551016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  <p:sp>
        <p:nvSpPr>
          <p:cNvPr id="94" name=""/>
          <p:cNvSpPr/>
          <p:nvPr/>
        </p:nvSpPr>
        <p:spPr>
          <a:xfrm rot="1793400">
            <a:off x="0" y="3213000"/>
            <a:ext cx="3529080" cy="3097440"/>
          </a:xfrm>
          <a:custGeom>
            <a:avLst/>
            <a:gdLst>
              <a:gd name="textAreaLeft" fmla="*/ 829440 w 3529080"/>
              <a:gd name="textAreaRight" fmla="*/ 2697480 w 3529080"/>
              <a:gd name="textAreaTop" fmla="*/ 363960 h 3097440"/>
              <a:gd name="textAreaBottom" fmla="*/ 1942920 h 309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930200">
            <a:off x="899280" y="3917520"/>
            <a:ext cx="2433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3284640"/>
            <a:ext cx="64800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f0f0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7 C -0.01042 -0.00996 -0.00643 -0.0169 -0.01163 -0.02894 C -0.01285 -0.03172 -0.01493 -0.03334 -0.01667 -0.03565 C -0.01945 -0.04769 -0.02431 -0.06042 -0.03334 -0.06459 C -0.03872 -0.0757 -0.03976 -0.08125 -0.05 -0.08449 C -0.05972 -0.09329 -0.04931 -0.08496 -0.0632 -0.09121 C -0.07448 -0.0963 -0.06545 -0.09468 -0.075 -0.09792 C -0.09097 -0.10324 -0.10764 -0.10463 -0.12327 -0.11111 C -0.12604 -0.11042 -0.12882 -0.10903 -0.1316 -0.10903 C -0.13507 -0.10903 -0.13837 -0.11227 -0.14167 -0.11111 C -0.14549 -0.10973 -0.14775 -0.10348 -0.15157 -0.10232 C -0.15434 -0.10162 -0.15712 -0.1007 -0.1599 -0.1 C -0.16094 -0.09699 -0.16146 -0.09352 -0.1632 -0.09121 C -0.16441 -0.08959 -0.16667 -0.09005 -0.16823 -0.08889 C -0.17118 -0.08681 -0.17761 -0.0801 -0.17986 -0.07778 C -0.18351 -0.05903 -0.17847 -0.07709 -0.18663 -0.06459 C -0.18924 -0.06065 -0.19323 -0.05116 -0.19323 -0.05116 C -0.19271 -0.03866 -0.19323 -0.02593 -0.19167 -0.01343 C -0.1915 -0.01135 -0.18907 -0.01088 -0.1882 -0.00903 C -0.18733 -0.00695 -0.18716 -0.00463 -0.18663 -0.00232 C -0.18542 0.0037 -0.18559 0.01018 -0.18334 0.01551 C -0.18195 0.01875 -0.17847 0.01944 -0.17657 0.02222 C -0.17396 0.02615 -0.16997 0.03541 -0.16997 0.03541 C -0.17327 0.0368 -0.17657 0.03842 -0.17986 0.03981 C -0.1816 0.04051 -0.1849 0.04213 -0.1849 0.04213 C -0.18594 0.04444 -0.18802 0.04629 -0.1882 0.04884 C -0.18854 0.05254 -0.18733 0.05625 -0.18663 0.05995 C -0.18559 0.06597 -0.18542 0.07222 -0.18334 0.07777 C -0.18247 0.08009 -0.17986 0.08055 -0.1783 0.08217 C -0.17361 0.08727 -0.17327 0.08912 -0.16997 0.09537 C -0.16788 0.10648 -0.16563 0.11134 -0.175 0.11551 C -0.17847 0.13078 -0.17691 0.14328 -0.16997 0.15555 C -0.1717 0.16759 -0.17049 0.1706 -0.16823 0.18217 C -0.16788 0.1875 -0.16788 0.20185 -0.16493 0.20879 C -0.16302 0.21342 -0.15834 0.22222 -0.15834 0.22222 C -0.16059 0.23171 -0.15834 0.23541 -0.15486 0.24444 C -0.16754 0.25555 -0.15712 0.2706 -0.16493 0.28657 C -0.16806 0.30208 -0.16719 0.31805 -0.1632 0.33333 C -0.16146 0.35139 -0.16111 0.36111 -0.15 0.37106 C -0.14445 0.37037 -0.13872 0.3706 -0.13334 0.36875 C -0.13177 0.36828 -0.13125 0.36551 -0.12986 0.36435 C -0.12917 0.36389 -0.12066 0.36018 -0.11997 0.35995 C -0.10712 0.35694 -0.09445 0.3544 -0.0816 0.35092 C -0.06771 0.33889 -0.04219 0.34074 -0.0283 0.33981 C -0.02153 0.33634 -0.01441 0.33194 -0.00834 0.32662 C -0.00261 0.32152 0.00017 0.31018 0.00678 0.30648 C 0.01147 0.3037 0.01702 0.30463 0.02171 0.30208 C 0.02622 0.29953 0.03039 0.2956 0.03508 0.29328 C 0.04046 0.29074 0.04619 0.29074 0.05174 0.28889 C 0.05817 0.29143 0.08004 0.29815 0.07015 0.28426 C 0.07969 0.27152 0.07466 0.27477 0.08334 0.27106 C 0.09167 0.26365 0.10226 0.26389 0.11181 0.25995 C 0.11511 0.24583 0.12414 0.24027 0.13004 0.2287 C 0.13629 0.21643 0.1356 0.2118 0.14671 0.2044 C 0.15035 0.19004 0.15018 0.17083 0.14167 0.15995 C 0.13976 0.14884 0.13542 0.14004 0.13334 0.1287 C 0.13577 0.11319 0.13872 0.08773 0.12501 0.08217 C 0.11355 0.07176 0.11476 0.06319 0.10678 0.05092 C 0.10001 0.04051 0.10018 0.04143 0.09341 0.03541 C 0.09115 0.02662 0.08907 0.02291 0.08334 0.01759 C 0.07917 0.00949 0.07223 0.00532 0.06511 0.00208 C 0.05452 0.00277 0.04393 0.0044 0.03334 0.0044 C 0.02344 0.0044 0.01338 0.00324 0.00348 0.00208 C 0.00226 0.00185 -0.00122 3.7037E-007 5E-006 3.7037E-007 Z">
                                      <p:cBhvr>
                                        <p:cTn id="8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7a99"/>
            </a:gs>
            <a:gs pos="50000">
              <a:srgbClr val="ffccff"/>
            </a:gs>
            <a:gs pos="100000">
              <a:srgbClr val="997a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19165800">
            <a:off x="-1188720" y="1916280"/>
            <a:ext cx="1859040" cy="11233080"/>
          </a:xfrm>
          <a:prstGeom prst="rect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>
                  <a:alpha val="51372"/>
                </a:srgbClr>
              </a:gs>
              <a:gs pos="100000">
                <a:srgbClr val="757575">
                  <a:alpha val="0"/>
                </a:srgbClr>
              </a:gs>
            </a:gsLst>
            <a:lin ang="132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1:48:5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6:57:2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