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CCB-7422-4CF0-A15A-BD2FCCC2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264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72A-0281-4671-AA6B-9A381677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1C6D-0ECE-4C8C-BC5D-63EADA7E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CA2F-8621-4AB4-9C69-6A1D4AFC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49C-2A01-41E2-AF60-3C12795F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226-1E84-4D72-AF60-06EC609C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85BC-7E69-4BCC-855C-73DFB9BC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6B75-67E1-49C3-9895-65E1948C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DAF-3DA0-4FF1-BC4E-94D0F975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FFE-DC1B-463D-A487-5FEE49ED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55C-60F9-44AE-A244-73DA3577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D27-B810-4AF9-A592-97060470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236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236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236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016B-6513-4CDC-86B3-12796265D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52photoshop.cn/pic26170.html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hyperlink" Target="http://www.eeppt.com/dongtai/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EV019-01"/>
          <p:cNvPicPr/>
          <p:nvPr/>
        </p:nvPicPr>
        <p:blipFill>
          <a:blip r:embed="rId1"/>
          <a:stretch/>
        </p:blipFill>
        <p:spPr>
          <a:xfrm>
            <a:off x="-1509840" y="-2712960"/>
            <a:ext cx="12163680" cy="1102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1" descr="EV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357200" y="-1349280"/>
            <a:ext cx="11858400" cy="84153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-574560" y="0"/>
            <a:ext cx="10294560" cy="6795720"/>
            <a:chOff x="-574560" y="0"/>
            <a:chExt cx="10294560" cy="6795720"/>
          </a:xfrm>
        </p:grpSpPr>
        <p:pic>
          <p:nvPicPr>
            <p:cNvPr id="44" name="Picture 23" descr="梦幻世界大图 点击还原"/>
            <p:cNvPicPr/>
            <p:nvPr/>
          </p:nvPicPr>
          <p:blipFill>
            <a:blip r:embed="rId4"/>
            <a:stretch/>
          </p:blipFill>
          <p:spPr>
            <a:xfrm>
              <a:off x="-574560" y="0"/>
              <a:ext cx="10294560" cy="67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4" descr="梦幻世界大图 点击还原"/>
            <p:cNvPicPr/>
            <p:nvPr/>
          </p:nvPicPr>
          <p:blipFill>
            <a:blip r:embed="rId5"/>
            <a:srcRect l="0" t="5778" r="66136" b="88150"/>
            <a:stretch/>
          </p:blipFill>
          <p:spPr>
            <a:xfrm>
              <a:off x="-558720" y="133560"/>
              <a:ext cx="378432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25" descr="梦幻世界大图 点击还原"/>
            <p:cNvPicPr/>
            <p:nvPr/>
          </p:nvPicPr>
          <p:blipFill>
            <a:blip r:embed="rId6"/>
            <a:srcRect l="34167" t="80247" r="63289" b="0"/>
            <a:stretch/>
          </p:blipFill>
          <p:spPr>
            <a:xfrm>
              <a:off x="3076560" y="5458680"/>
              <a:ext cx="2884320" cy="133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"/>
          <p:cNvGrpSpPr/>
          <p:nvPr/>
        </p:nvGrpSpPr>
        <p:grpSpPr>
          <a:xfrm>
            <a:off x="2506680" y="1155600"/>
            <a:ext cx="712800" cy="349200"/>
            <a:chOff x="2506680" y="1155600"/>
            <a:chExt cx="712800" cy="349200"/>
          </a:xfrm>
        </p:grpSpPr>
        <p:sp>
          <p:nvSpPr>
            <p:cNvPr id="48" name="Oval 32"/>
            <p:cNvSpPr/>
            <p:nvPr/>
          </p:nvSpPr>
          <p:spPr>
            <a:xfrm>
              <a:off x="2905200" y="1155600"/>
              <a:ext cx="31428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WordArt 33"/>
            <p:cNvSpPr txBox="1"/>
            <p:nvPr/>
          </p:nvSpPr>
          <p:spPr>
            <a:xfrm>
              <a:off x="2506680" y="1244520"/>
              <a:ext cx="39528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Franklin Gothic Medium"/>
                </a:rPr>
                <a:t>GLOBAL</a:t>
              </a:r>
              <a:endParaRPr b="0" lang="en-US" sz="1800" spc="-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Franklin Gothic Medium"/>
                <a:ea typeface="Franklin Gothic Medium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884920" y="1028880"/>
            <a:ext cx="712800" cy="349200"/>
            <a:chOff x="5884920" y="1028880"/>
            <a:chExt cx="712800" cy="349200"/>
          </a:xfrm>
        </p:grpSpPr>
        <p:sp>
          <p:nvSpPr>
            <p:cNvPr id="51" name="Oval 35"/>
            <p:cNvSpPr/>
            <p:nvPr/>
          </p:nvSpPr>
          <p:spPr>
            <a:xfrm>
              <a:off x="6283440" y="1028880"/>
              <a:ext cx="31428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WordArt 36"/>
            <p:cNvSpPr txBox="1"/>
            <p:nvPr/>
          </p:nvSpPr>
          <p:spPr>
            <a:xfrm>
              <a:off x="5884920" y="1117800"/>
              <a:ext cx="39528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Franklin Gothic Medium"/>
                </a:rPr>
                <a:t>BUSINESS</a:t>
              </a:r>
              <a:endParaRPr b="0" lang="en-US" sz="1800" spc="-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Franklin Gothic Medium"/>
                <a:ea typeface="Franklin Gothic Medium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846760" y="4152960"/>
            <a:ext cx="712800" cy="349200"/>
            <a:chOff x="5846760" y="4152960"/>
            <a:chExt cx="712800" cy="349200"/>
          </a:xfrm>
        </p:grpSpPr>
        <p:sp>
          <p:nvSpPr>
            <p:cNvPr id="54" name="Oval 38"/>
            <p:cNvSpPr/>
            <p:nvPr/>
          </p:nvSpPr>
          <p:spPr>
            <a:xfrm>
              <a:off x="6245280" y="4152960"/>
              <a:ext cx="31428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WordArt 39"/>
            <p:cNvSpPr txBox="1"/>
            <p:nvPr/>
          </p:nvSpPr>
          <p:spPr>
            <a:xfrm>
              <a:off x="5846760" y="4241880"/>
              <a:ext cx="39528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Franklin Gothic Medium"/>
                </a:rPr>
                <a:t>SUCCESS</a:t>
              </a:r>
              <a:endParaRPr b="0" lang="en-US" sz="1800" spc="-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95280" y="451332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8280" y="98424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经典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20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20">
                                      <p:cBhvr>
                                        <p:cTn id="8" dur="120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50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indefinite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972 -0.02028 C 0.40295 0.095 0.41771 0.31472 0.34445 0.46416 C 0.27014 0.61222 0.13368 0.63666 0.04184 0.52 C -0.05104 0.40194 -0.06614 0.18555 0.00781 0.03639 C 0.08212 -0.11306 0.21684 -0.14195 0.30972 -0.02028 Z">
                                      <p:cBhvr>
                                        <p:cTn id="19" dur="3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95 0.53694 C -0.14809 0.65638 -0.28507 0.63083 -0.36042 0.48277 C -0.43386 0.33416 -0.41841 0.11666 -0.32709 -0.00167 C -0.23421 -0.12056 -0.09879 -0.09584 -0.02448 0.05194 C 0.05017 0.20111 0.03767 0.41861 -0.05695 0.53694 Z">
                                      <p:cBhvr>
                                        <p:cTn id="21" dur="3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333 -0.41472 C -0.33681 -0.58833 -0.20851 -0.66722 -0.09913 -0.5925 C 0.0092 -0.51444 0.05851 -0.31 0.01215 -0.13805 C -0.03594 0.03611 -0.16285 0.11472 -0.2717 0.03861 C -0.38073 -0.03833 -0.43281 -0.24 -0.38333 -0.41472 Z">
                                      <p:cBhvr>
                                        <p:cTn id="23" dur="3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05696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4850-2FDE-47A3-995C-03458DE10C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02:31:2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12:02:18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