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A350-2AAF-4B14-86FD-E1F0196A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55A2-00CA-49AF-B681-F5CAAEE2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2D58-FB45-4A42-BB5D-3F07D453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3668-2E87-4EE8-B6A0-08F3AFDF4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0955-237D-4298-8163-5479CF21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6D67-23C6-4371-A0AE-BF96A08F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64C4-2154-457F-A12F-B5CBD996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4633-9C5B-4124-8638-0F24F833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DEE0-D23F-4AF2-995F-CC536F1D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5DC7-9198-44D7-B4EE-8DD2B74C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244A-67EF-45E7-8E0C-8F4AD0F0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C143-F977-4EB1-B151-3CF83756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" descr="F:\图片\29副本.png"/>
          <p:cNvPicPr/>
          <p:nvPr/>
        </p:nvPicPr>
        <p:blipFill>
          <a:blip r:embed="rId2"/>
          <a:stretch/>
        </p:blipFill>
        <p:spPr>
          <a:xfrm>
            <a:off x="0" y="0"/>
            <a:ext cx="4373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7"/>
          <p:cNvGrpSpPr/>
          <p:nvPr/>
        </p:nvGrpSpPr>
        <p:grpSpPr>
          <a:xfrm>
            <a:off x="101520" y="281160"/>
            <a:ext cx="8940960" cy="6467400"/>
            <a:chOff x="101520" y="281160"/>
            <a:chExt cx="8940960" cy="6467400"/>
          </a:xfrm>
        </p:grpSpPr>
        <p:pic>
          <p:nvPicPr>
            <p:cNvPr id="2" name="矩形​​ 8" descr=""/>
            <p:cNvPicPr/>
            <p:nvPr/>
          </p:nvPicPr>
          <p:blipFill>
            <a:blip r:embed="rId3"/>
            <a:stretch/>
          </p:blipFill>
          <p:spPr>
            <a:xfrm>
              <a:off x="101520" y="281160"/>
              <a:ext cx="8940960" cy="6467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" name="矩形​​ 9"/>
            <p:cNvGrpSpPr/>
            <p:nvPr/>
          </p:nvGrpSpPr>
          <p:grpSpPr>
            <a:xfrm>
              <a:off x="149400" y="322920"/>
              <a:ext cx="8821080" cy="6348240"/>
              <a:chOff x="149400" y="322920"/>
              <a:chExt cx="8821080" cy="6348240"/>
            </a:xfrm>
          </p:grpSpPr>
          <p:pic>
            <p:nvPicPr>
              <p:cNvPr id="4" name="矩形​​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49400" y="322920"/>
                <a:ext cx="8821080" cy="634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"/>
              <p:cNvSpPr/>
              <p:nvPr/>
            </p:nvSpPr>
            <p:spPr>
              <a:xfrm>
                <a:off x="164160" y="335520"/>
                <a:ext cx="8796240" cy="632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6" name="图片 6" descr="F:\7788\gifs_card2.png"/>
          <p:cNvPicPr/>
          <p:nvPr/>
        </p:nvPicPr>
        <p:blipFill>
          <a:blip r:embed="rId5"/>
          <a:stretch/>
        </p:blipFill>
        <p:spPr>
          <a:xfrm>
            <a:off x="7812000" y="12600"/>
            <a:ext cx="1524240" cy="13287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D98F-DBED-4AD7-8440-A5D8365F73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jieri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8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9" name="矩形​​ 5"/>
          <p:cNvSpPr/>
          <p:nvPr/>
        </p:nvSpPr>
        <p:spPr>
          <a:xfrm>
            <a:off x="0" y="5911920"/>
            <a:ext cx="9144000" cy="75708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​​ 6"/>
          <p:cNvSpPr/>
          <p:nvPr/>
        </p:nvSpPr>
        <p:spPr>
          <a:xfrm>
            <a:off x="4061160" y="5978520"/>
            <a:ext cx="164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中倩简体"/>
                <a:ea typeface="方正中倩简体"/>
              </a:rPr>
              <a:t>三尺讲台，染苍苍白发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中倩简体"/>
                <a:ea typeface="方正中倩简体"/>
              </a:rPr>
              <a:t>桃李满园，露美美笑厣。赞美您，敬爱的老师，祝福您，敬爱的老师！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图片 6" descr="F:\7788\gifs_card2.png"/>
          <p:cNvPicPr/>
          <p:nvPr/>
        </p:nvPicPr>
        <p:blipFill>
          <a:blip r:embed="rId2"/>
          <a:stretch/>
        </p:blipFill>
        <p:spPr>
          <a:xfrm>
            <a:off x="7907400" y="5629320"/>
            <a:ext cx="1523880" cy="1328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916360" y="1917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幻灯片之家 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4211640" y="1125360"/>
            <a:ext cx="432108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九月，如期而至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世界因此灿烂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我们歌唱九月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因为这是您永恒的节日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我们牢记九月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因为这是我们真诚的表白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九月，是只情满四溢的杯子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我们用双手高高地举起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一片真诚的祝福声中， 请您干杯。 九月的乐章已经奏响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请接受我们九月的献礼吧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中倩简体"/>
                <a:ea typeface="方正中倩简体"/>
              </a:rPr>
              <a:t>所有拼搏在教育战线的老师们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87700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宋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宋体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C27B-6441-435D-83C2-75E4A937C2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01:39:1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4:33:32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