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B56-6212-452B-8D23-8EFF033A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33E-B823-4402-AE26-89683170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B59-D81E-4880-B198-480DA163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3A4-AF14-4677-BAC8-D235BC7F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91D-6B1C-406C-8F47-EF81B312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337-BB7D-49AB-BC28-6CD06D76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B66-F08A-4BA4-A8CB-802CFF11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277-7CAA-4748-8FAE-59E6F12C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8E0-D8DC-427C-9982-334F64D2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69B-576E-4DA7-9649-D53ECE0B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8FD-1B0E-4C24-86CB-29CDF561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F61-DEAB-4849-8B30-0D86861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7471-0FBD-4FFC-ADD0-2E1D2BF5732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2BE-A644-47A1-A784-5047DD7AA36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箭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836640"/>
            <a:ext cx="9001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168120" y="2755800"/>
            <a:ext cx="6132600" cy="391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9720" y="62499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1560" y="1314360"/>
            <a:ext cx="47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箭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图表素材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992-7DA9-44C3-B63A-0A21B57CC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21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3:27:13Z</dcterms:modified>
  <cp:revision>8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