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FAA0-BBAF-41A6-9B85-9EABE715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385-0E26-4344-A515-120A3D33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EB85-96E0-42DF-A982-0AED2323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8C6-F007-4218-8B15-F5C6803A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40CB-C1B1-4E6D-828B-EBE361F2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130-443C-450C-BF3B-E10D7431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398-CB69-40FD-A047-7C5DC571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A1D-D20D-4720-A7B0-4C3F64AE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ED86-AD72-4AD2-9EED-B7637D3D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834-260C-49B6-985C-9D0DB27F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6FE-8634-40F2-A266-D5614AFA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9053-863C-47DA-881A-D74CDA90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D42F-596F-4E68-900F-A556993E432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C8B9-ACA8-48D2-844D-BC21C7BF3E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ianzhu (1)"/>
          <p:cNvPicPr/>
          <p:nvPr/>
        </p:nvPicPr>
        <p:blipFill>
          <a:blip r:embed="rId1"/>
          <a:stretch/>
        </p:blipFill>
        <p:spPr>
          <a:xfrm>
            <a:off x="1646280" y="1600200"/>
            <a:ext cx="5851440" cy="3657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18080" y="549360"/>
            <a:ext cx="3623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建筑设计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背景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405-E15E-4B28-9A72-86D20AB2FE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jianzhu (2)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jianzhu (3)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jianzhu (4)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jianzhu (9)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jianzhu (11)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jianzhu (13)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jianzhu (14)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jianzhu (15)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15:39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