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F2B-AA36-4440-85FA-0A8F0A7E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F32-5CE2-4667-8265-7F574615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3B8-0F9C-40E9-A78E-BEC7D308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473-075A-41B1-B03E-CE64E0D0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14A-CD15-471F-A623-7FA714C1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0105-1CBC-499E-8695-6A1666B0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9886-61BA-4287-9DBA-DDBC89C5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4F5-8434-4C87-B767-C1583A47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6010-9062-442F-B7FD-73287AFF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2A7F-C24E-49B5-A9AC-2B2AC46E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5757-B5B3-4B95-A5D1-530E5992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8C91-3DC4-4516-A6A4-621D8258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E6EB-422E-48A3-B539-133AF7632F9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379E-2FEC-429A-A731-8497B41135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5640" y="3213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19400" y="549360"/>
            <a:ext cx="31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卡通小人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素材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Administrator\Desktop\素材图片1\3D小人开会系列ppt素材图片\www.51pptmoban.com (38)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52608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326-33A6-4DD9-AACE-4E5DFC17B0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Administrator\Desktop\素材图片1\3D小人开会系列ppt素材图片\www.51pptmoban.com (40)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07:5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7:43:4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