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4B6-09BD-4814-AE82-1D86CF95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530-561B-4300-B62D-6D50CADC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5F5-E60C-4BA0-94BE-EE7F5214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4AB-E687-4FF2-8A8F-5982D9F4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3CC-6050-4E63-A231-AEAC1C54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BC7-AAD1-4E5B-8A0B-13FDEB84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9B7-AE32-4CC5-8301-2A50E295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D5B-FE86-4647-9F4B-4FDA8B94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344-B5C8-4EBD-95DA-57FF635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106-AC4A-4B3F-B8A8-28F7F233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F52-FF8C-4B77-8695-65FF396C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C18-D1FA-48B7-A692-D36360C9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90E0-9F1B-42D5-9703-09B7E61FCC4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93BF-8214-43BE-84D3-B58EF1603F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207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63840" y="132084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蓝色商务科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2324160" y="1995480"/>
            <a:ext cx="4495680" cy="719280"/>
            <a:chOff x="2324160" y="1995480"/>
            <a:chExt cx="4495680" cy="719280"/>
          </a:xfrm>
        </p:grpSpPr>
        <p:sp>
          <p:nvSpPr>
            <p:cNvPr id="46" name="圆角矩形 5"/>
            <p:cNvSpPr/>
            <p:nvPr/>
          </p:nvSpPr>
          <p:spPr>
            <a:xfrm>
              <a:off x="2324160" y="2052720"/>
              <a:ext cx="4495680" cy="6044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标题 1"/>
            <p:cNvSpPr/>
            <p:nvPr/>
          </p:nvSpPr>
          <p:spPr>
            <a:xfrm>
              <a:off x="3126960" y="1995480"/>
              <a:ext cx="2890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2324160" y="2967120"/>
            <a:ext cx="4495680" cy="718920"/>
            <a:chOff x="2324160" y="2967120"/>
            <a:chExt cx="4495680" cy="718920"/>
          </a:xfrm>
        </p:grpSpPr>
        <p:sp>
          <p:nvSpPr>
            <p:cNvPr id="49" name="圆角矩形 8"/>
            <p:cNvSpPr/>
            <p:nvPr/>
          </p:nvSpPr>
          <p:spPr>
            <a:xfrm>
              <a:off x="2324160" y="3024360"/>
              <a:ext cx="4495680" cy="60408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标题 1"/>
            <p:cNvSpPr/>
            <p:nvPr/>
          </p:nvSpPr>
          <p:spPr>
            <a:xfrm>
              <a:off x="3126960" y="2967120"/>
              <a:ext cx="28900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9"/>
          <p:cNvGrpSpPr/>
          <p:nvPr/>
        </p:nvGrpSpPr>
        <p:grpSpPr>
          <a:xfrm>
            <a:off x="2324160" y="3940200"/>
            <a:ext cx="4495680" cy="717480"/>
            <a:chOff x="2324160" y="3940200"/>
            <a:chExt cx="4495680" cy="717480"/>
          </a:xfrm>
        </p:grpSpPr>
        <p:sp>
          <p:nvSpPr>
            <p:cNvPr id="52" name="圆角矩形 11"/>
            <p:cNvSpPr/>
            <p:nvPr/>
          </p:nvSpPr>
          <p:spPr>
            <a:xfrm>
              <a:off x="2324160" y="3997440"/>
              <a:ext cx="4495680" cy="6026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标题 1"/>
            <p:cNvSpPr/>
            <p:nvPr/>
          </p:nvSpPr>
          <p:spPr>
            <a:xfrm>
              <a:off x="3126960" y="3940200"/>
              <a:ext cx="28900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7BE-8AAC-4B49-87FB-F7F3B02763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79"/>
          <p:cNvSpPr/>
          <p:nvPr/>
        </p:nvSpPr>
        <p:spPr>
          <a:xfrm>
            <a:off x="1825560" y="3484440"/>
            <a:ext cx="678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标题 1"/>
          <p:cNvSpPr/>
          <p:nvPr/>
        </p:nvSpPr>
        <p:spPr>
          <a:xfrm>
            <a:off x="2459160" y="1994040"/>
            <a:ext cx="3786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1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27:42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