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519-1B95-417C-8AA9-A9D86E9D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71E-0B47-4886-AB75-EF017F1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548-911C-4639-BD5E-1488DBE2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1B3-D910-459D-870B-FC9EAACD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720-DA2A-4090-AB43-2022E204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656-E81C-4FD0-A2B7-C12F56C7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DCE9-EB52-40BA-A93E-3E29D62D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0C8C-5DB2-4676-A0BB-B644B748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8F87-AF6B-4BCC-9272-6DF66E6B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0E71-92D7-4B98-9574-FFBC3F5D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776-C893-479C-A43A-025EC5A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E1D-2A7B-4834-ABA4-BE733335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2538-CA83-44C8-B53B-533AD79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4A11-DF03-4B3C-AE28-B137058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D4E-C599-4571-B71B-C27C483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256D-994F-4D90-A38A-5B95D35A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3213-7AF0-4103-9B16-E24E4E0B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F284-333F-45C7-826B-85E66C2F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EB9F9-F708-408A-84B0-BBAE11E525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BC3C1-375D-4CE4-A0F8-3B481B6520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A3A54-9CBE-4E1D-AB4B-D2D4ABFCA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217-4F6C-4270-97F7-7C74A6E1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82729-6341-4F28-807F-DFEF7E712D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1F843-A305-4C13-895C-1158C83067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D1B67-6AEB-4314-91E8-BCC9B667C7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5CC6A-E50E-48A2-972B-A380B66943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FD762-1153-4ADB-BEB2-1EE0AED32B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4525D-E3B2-42CB-BA77-8717F42215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724DA-2BFA-4577-A4C0-2349821A53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715D4-5A3D-40FD-98C6-8D56D679FC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80F41-5A75-445D-9D0A-302B95CD5C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0B05A-DB22-4A85-AE80-9FF6666F2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024-DD2F-4C27-8407-CCC51670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B4429-F847-47E4-93F6-D4261F2D0C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37F5B-9123-4165-B023-6B3796FA9B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13572-9402-4D45-9380-49EE1A50EC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D1702-C793-4903-BAA2-B169E6735D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2C99B-6D42-4420-87F0-66FA670CB95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796D8-B338-48FB-85D8-B9B80F5F5A5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DF618-476E-4A8F-AAFD-34310B8835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22F18-683F-42BD-A44A-AC1BB5E225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B40E7-805D-4A80-89C0-57F6F5AC2A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E2FDC-5764-452D-9ABD-0CA60023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E1F-79F5-45D5-941D-B960F957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E5570-7A85-4BAE-A338-B4650CB00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73A-7F32-429D-BE1D-017EA9E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7D1-DADE-454E-B8E7-96E9354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881-A769-4411-B859-43BDC20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FED6-0331-4954-8076-0F14377F4D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83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85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86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8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2714400"/>
              <a:ext cx="9144000" cy="41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90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93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B84F-4D07-4094-96D5-A3DF9BBAE3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37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138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41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B89-AAAB-4B5A-9F08-5B0889650E00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85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86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FA3-D121-402F-9F6D-48472F396BA9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/moban/dabian/" TargetMode="Externa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0320" y="307188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0000"/>
                </a:solidFill>
                <a:latin typeface="汉真广标"/>
                <a:ea typeface="汉真广标"/>
              </a:rPr>
              <a:t>论文答辩</a:t>
            </a:r>
            <a:r>
              <a:rPr b="0" lang="en-US" sz="3600" spc="-1" strike="noStrike">
                <a:solidFill>
                  <a:srgbClr val="e0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e0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971640" y="30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49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234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236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40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41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511360" y="13687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44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45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46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11360" y="286884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49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74720" y="53611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05"/>
          <p:cNvGrpSpPr/>
          <p:nvPr/>
        </p:nvGrpSpPr>
        <p:grpSpPr>
          <a:xfrm>
            <a:off x="714240" y="928440"/>
            <a:ext cx="5508360" cy="1423080"/>
            <a:chOff x="714240" y="928440"/>
            <a:chExt cx="5508360" cy="1423080"/>
          </a:xfrm>
        </p:grpSpPr>
        <p:sp>
          <p:nvSpPr>
            <p:cNvPr id="252" name="TextBox 203"/>
            <p:cNvSpPr/>
            <p:nvPr/>
          </p:nvSpPr>
          <p:spPr>
            <a:xfrm rot="21134400">
              <a:off x="738000" y="1425600"/>
              <a:ext cx="42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企业调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04"/>
            <p:cNvSpPr/>
            <p:nvPr/>
          </p:nvSpPr>
          <p:spPr>
            <a:xfrm rot="21134400">
              <a:off x="490896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12"/>
          <p:cNvGrpSpPr/>
          <p:nvPr/>
        </p:nvGrpSpPr>
        <p:grpSpPr>
          <a:xfrm>
            <a:off x="931320" y="4286160"/>
            <a:ext cx="5353200" cy="1166760"/>
            <a:chOff x="931320" y="4286160"/>
            <a:chExt cx="5353200" cy="1166760"/>
          </a:xfrm>
        </p:grpSpPr>
        <p:sp>
          <p:nvSpPr>
            <p:cNvPr id="255" name="TextBox 207"/>
            <p:cNvSpPr/>
            <p:nvPr/>
          </p:nvSpPr>
          <p:spPr>
            <a:xfrm rot="21314400">
              <a:off x="950400" y="4635000"/>
              <a:ext cx="42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应用与效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08"/>
            <p:cNvSpPr/>
            <p:nvPr/>
          </p:nvSpPr>
          <p:spPr>
            <a:xfrm rot="21134400">
              <a:off x="497088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211"/>
          <p:cNvGrpSpPr/>
          <p:nvPr/>
        </p:nvGrpSpPr>
        <p:grpSpPr>
          <a:xfrm>
            <a:off x="241920" y="2770920"/>
            <a:ext cx="5632200" cy="1065600"/>
            <a:chOff x="241920" y="2770920"/>
            <a:chExt cx="5632200" cy="1065600"/>
          </a:xfrm>
        </p:grpSpPr>
        <p:sp>
          <p:nvSpPr>
            <p:cNvPr id="258" name="TextBox 209"/>
            <p:cNvSpPr/>
            <p:nvPr/>
          </p:nvSpPr>
          <p:spPr>
            <a:xfrm rot="191400">
              <a:off x="260280" y="2811240"/>
              <a:ext cx="14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210"/>
            <p:cNvSpPr/>
            <p:nvPr/>
          </p:nvSpPr>
          <p:spPr>
            <a:xfrm rot="233400">
              <a:off x="923040" y="3026880"/>
              <a:ext cx="493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项目设计与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3"/>
          <p:cNvSpPr/>
          <p:nvPr/>
        </p:nvSpPr>
        <p:spPr>
          <a:xfrm>
            <a:off x="7139520" y="278604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6ED9-1D76-4AE5-A2A0-A618A918F146}" type="slidenum">
              <a:rPr b="0" lang="zh-CN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64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65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68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71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72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278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279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圆角矩形 24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82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285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286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圆角矩形 31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89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92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93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96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299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300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303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312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7353-9F33-4E93-B2CB-7D350E33932E}" type="slidenum">
              <a:rPr b="0" lang="zh-CN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328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54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56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59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361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63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5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66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78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7CAC5-FABF-49EF-B9E1-B1A246273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88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4642200" y="242316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5247360" y="2404440"/>
              <a:ext cx="927000" cy="1110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10240"/>
                <a:gd name="textAreaBottom" fmla="*/ 1110240 h 111024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43"/>
          <p:cNvGrpSpPr/>
          <p:nvPr/>
        </p:nvGrpSpPr>
        <p:grpSpPr>
          <a:xfrm>
            <a:off x="2700360" y="1341360"/>
            <a:ext cx="4680000" cy="4591080"/>
            <a:chOff x="2700360" y="1341360"/>
            <a:chExt cx="4680000" cy="4591080"/>
          </a:xfrm>
        </p:grpSpPr>
        <p:grpSp>
          <p:nvGrpSpPr>
            <p:cNvPr id="393" name="Freeform 12"/>
            <p:cNvGrpSpPr/>
            <p:nvPr/>
          </p:nvGrpSpPr>
          <p:grpSpPr>
            <a:xfrm>
              <a:off x="3082680" y="1341360"/>
              <a:ext cx="2426040" cy="2018160"/>
              <a:chOff x="3082680" y="1341360"/>
              <a:chExt cx="2426040" cy="2018160"/>
            </a:xfrm>
          </p:grpSpPr>
          <p:pic>
            <p:nvPicPr>
              <p:cNvPr id="394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083760" y="134172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3082680" y="134136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13"/>
            <p:cNvSpPr/>
            <p:nvPr/>
          </p:nvSpPr>
          <p:spPr>
            <a:xfrm>
              <a:off x="2700360" y="321408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Freeform 14"/>
            <p:cNvGrpSpPr/>
            <p:nvPr/>
          </p:nvGrpSpPr>
          <p:grpSpPr>
            <a:xfrm>
              <a:off x="5405400" y="1682640"/>
              <a:ext cx="1974960" cy="2499840"/>
              <a:chOff x="5405400" y="1682640"/>
              <a:chExt cx="1974960" cy="2499840"/>
            </a:xfrm>
          </p:grpSpPr>
          <p:pic>
            <p:nvPicPr>
              <p:cNvPr id="398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5400" y="168300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405400" y="168264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Freeform 15"/>
            <p:cNvSpPr/>
            <p:nvPr/>
          </p:nvSpPr>
          <p:spPr>
            <a:xfrm>
              <a:off x="4606920" y="402084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>
                    <a:alpha val="50196"/>
                  </a:srgbClr>
                </a:gs>
                <a:gs pos="100000">
                  <a:srgbClr val="d09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8720" y="580536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638172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3" descr=""/>
          <p:cNvPicPr/>
          <p:nvPr/>
        </p:nvPicPr>
        <p:blipFill>
          <a:blip r:embed="rId1"/>
          <a:stretch/>
        </p:blipFill>
        <p:spPr>
          <a:xfrm>
            <a:off x="3687840" y="2895480"/>
            <a:ext cx="1768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2:20:5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