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21.png" ContentType="image/png"/>
  <Override PartName="/ppt/media/image19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F8C-083E-4AA3-A478-803B0E22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553-93C3-41B5-9B8D-8EEF7D95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060-50E7-489A-8B03-10638AC5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87C-51DC-4788-9A78-C5A89C93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C4A9-26F7-4054-B763-BB718553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72CF-3B2D-4C66-850D-D42CE521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B710-237A-4901-8649-60F66D5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D465-CA32-4890-B0BF-455167D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9B4A-59CE-4209-A4DD-2E3B4F7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A820-6828-4258-BC7F-60D58AB7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B3EA-476A-40D1-8C00-359FB132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D80-C5AF-438F-B08B-23C7C6B7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52FF-978F-4C67-B18A-0312DC3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D67E-AF4D-4273-9C0A-7325C2DB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7F62-8550-4FF8-9277-6770C738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31D5-409C-4771-BC04-C7279B62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DAFD-05BB-45E3-AAB1-08C6D4B3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92D-F847-47BA-9E4F-011F5E0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B30-CB7F-4C18-BB1A-82AFC56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CE0-3537-4032-AE88-1C3F60F5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73E-CF45-447C-AB84-7CF1EF6A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28E-CEC2-4494-8193-AC7C302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BD7-2B6E-4934-A13D-A891B9C2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BDD-875E-4E4A-951F-8D14EA2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1E64-A106-451F-A335-BBCE190F21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5019-8F79-49BF-9795-A4354621CE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hyperlink" Target="http://www.eeppt.com/moban/kejian/" TargetMode="Externa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54"/>
          <p:cNvPicPr/>
          <p:nvPr/>
        </p:nvPicPr>
        <p:blipFill>
          <a:blip r:embed="rId1"/>
          <a:stretch/>
        </p:blipFill>
        <p:spPr>
          <a:xfrm>
            <a:off x="10800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7"/>
          <p:cNvSpPr txBox="1"/>
          <p:nvPr/>
        </p:nvSpPr>
        <p:spPr>
          <a:xfrm>
            <a:off x="5248440" y="2347920"/>
            <a:ext cx="251460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张之路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545000" cy="4073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2240" y="1052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羚羊木雕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51460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婉转、持重沉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438280" y="206064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态度生硬固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362320" y="30686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明白事理、同情理解却无能为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438280" y="47973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38280" y="40053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仗义、明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85800" y="1143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爸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85800" y="1989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85800" y="2924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奶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85800" y="386064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85800" y="479736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4" descr="xinsrc__EnpWatermark_4cff189dd745467cb9b720d7b8ae93ab_1128_096_0"/>
          <p:cNvPicPr/>
          <p:nvPr/>
        </p:nvPicPr>
        <p:blipFill>
          <a:blip r:embed="rId1"/>
          <a:stretch/>
        </p:blipFill>
        <p:spPr>
          <a:xfrm>
            <a:off x="5791320" y="304920"/>
            <a:ext cx="3352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981080" y="2666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371600" y="1066680"/>
            <a:ext cx="670572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语言描写的作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 准确地反映出人物的身分、    年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直接揭示人物的内心世界和思想性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-252360" y="26028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74600"/>
            <a:ext cx="8151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完成下面的题目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静静地点燃了一支烟，慢慢对我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屋子里静极了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妈妈坚定地说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冒着雨飞快地跑出门去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)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出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与爸爸和妈妈僵持的家中情景。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现妈妈的固执、生硬。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现爸爸在考虑如何更好地处理事情。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写出了我极为难受的心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124000" y="13446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321080" y="1903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356000" y="24224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692760" y="29988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无标题1"/>
          <p:cNvPicPr/>
          <p:nvPr/>
        </p:nvPicPr>
        <p:blipFill>
          <a:blip r:embed="rId1"/>
          <a:srcRect l="6505" t="64794" r="8220" b="166"/>
          <a:stretch/>
        </p:blipFill>
        <p:spPr>
          <a:xfrm>
            <a:off x="7164360" y="1413000"/>
            <a:ext cx="17636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68580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读文章最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段，回答问题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月亮冷冷的有什么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万芳的出现有什么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止不住流下了眼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文中描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心理活动的句子是哪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可是，这能全怪我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含义是什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无标题2"/>
          <p:cNvPicPr/>
          <p:nvPr/>
        </p:nvPicPr>
        <p:blipFill>
          <a:blip r:embed="rId1"/>
          <a:srcRect l="10593" t="0" r="12615" b="77209"/>
          <a:stretch/>
        </p:blipFill>
        <p:spPr>
          <a:xfrm>
            <a:off x="7162920" y="228600"/>
            <a:ext cx="1676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362240" y="998640"/>
            <a:ext cx="44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月亮冷冷的有什么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95280" y="1714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处的环境描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现了因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反悔而失去友谊后的伤心、难过和孤单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363680" y="2997360"/>
            <a:ext cx="44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万芳的出现有什么作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95280" y="3716280"/>
            <a:ext cx="73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芳的明理和重友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392120" y="4456080"/>
            <a:ext cx="57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止不住流下了眼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5280" y="5229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对朋友反悔了。我做了一件多么不光彩的事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395280" y="1052640"/>
            <a:ext cx="840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文中描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心理活动的句子是哪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68360" y="2276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觉得我是世界上最伤心的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556640" y="3141720"/>
            <a:ext cx="62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可是，这能全怪我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含义是什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468360" y="393372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屈从了父母应该怪，但我是迫不得已，主要怪父母不懂孩子的心、孩子之间的感情。只知木雕贵重，不知有比这更贵重的东西，不知尊重孩子的感情及人格，态度简单生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120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你认为下面的说法对还是不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80880" y="838080"/>
            <a:ext cx="8458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⑴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不能要回木雕是因为万芳曾经帮助过我，跟我换过裤子，要回太失礼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雕是很贵重的，不应该随便送人，所以，“我”父母的做法并没有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只想到木雕的贵重，但忽略了少年之间友情的贵重，所以他们的做法不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的中心是作者赞美少年真诚无私的友爱，告诫为人父母者应该理解少年的心理，尊重他们的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本文发生的事双方都有一定的责任，对贵重东西，父母应该事先讲清楚；子女做重要的事情前和大人商量也是十分必要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Picture 4" descr="r147"/>
          <p:cNvPicPr/>
          <p:nvPr/>
        </p:nvPicPr>
        <p:blipFill>
          <a:blip r:embed="rId2"/>
          <a:stretch/>
        </p:blipFill>
        <p:spPr>
          <a:xfrm>
            <a:off x="7238880" y="0"/>
            <a:ext cx="1743120" cy="198108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685800" y="0"/>
            <a:ext cx="51436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仁者见仁，智者见智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28600" y="2671920"/>
            <a:ext cx="955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这场矛盾冲突中谁是谁非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（摆事实讲道理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（站在不同的角度看问题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2120" y="28954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　　</a:t>
            </a:r>
            <a:r>
              <a:rPr b="1" lang="zh-CN" sz="44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女儿既然把羚羊木雕送给了万芳，你认为事情怎样处理才妥当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219320" y="685800"/>
            <a:ext cx="4419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有一个金点子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01" name="Picture 5" descr="无标题3"/>
          <p:cNvPicPr/>
          <p:nvPr/>
        </p:nvPicPr>
        <p:blipFill>
          <a:blip r:embed="rId1"/>
          <a:srcRect l="0" t="32604" r="176" b="38173"/>
          <a:stretch/>
        </p:blipFill>
        <p:spPr>
          <a:xfrm>
            <a:off x="3276720" y="44197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RW_015"/>
          <p:cNvPicPr/>
          <p:nvPr/>
        </p:nvPicPr>
        <p:blipFill>
          <a:blip r:embed="rId2"/>
          <a:stretch/>
        </p:blipFill>
        <p:spPr>
          <a:xfrm>
            <a:off x="7391520" y="38088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2637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　　</a:t>
            </a:r>
            <a:r>
              <a:rPr b="1" lang="zh-CN" sz="44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如何可以避免这类事情发生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1219320" y="685800"/>
            <a:ext cx="4419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有一个金点子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06" name="Picture 5" descr="无标题3"/>
          <p:cNvPicPr/>
          <p:nvPr/>
        </p:nvPicPr>
        <p:blipFill>
          <a:blip r:embed="rId1"/>
          <a:srcRect l="0" t="32604" r="176" b="38173"/>
          <a:stretch/>
        </p:blipFill>
        <p:spPr>
          <a:xfrm>
            <a:off x="3276720" y="44197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RW_015"/>
          <p:cNvPicPr/>
          <p:nvPr/>
        </p:nvPicPr>
        <p:blipFill>
          <a:blip r:embed="rId2"/>
          <a:stretch/>
        </p:blipFill>
        <p:spPr>
          <a:xfrm>
            <a:off x="7391520" y="38088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3"/>
          <p:cNvSpPr/>
          <p:nvPr/>
        </p:nvSpPr>
        <p:spPr>
          <a:xfrm>
            <a:off x="3657600" y="130032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3" descr="宽形长板2"/>
          <p:cNvPicPr/>
          <p:nvPr/>
        </p:nvPicPr>
        <p:blipFill>
          <a:blip r:embed="rId16"/>
          <a:stretch/>
        </p:blipFill>
        <p:spPr>
          <a:xfrm>
            <a:off x="1187280" y="493560"/>
            <a:ext cx="6121440" cy="178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447920" y="137160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501920" y="126828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读准字音，看清字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抹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泪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攥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着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着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怦    树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寒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颤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脸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657600" y="199224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u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080040" y="1916280"/>
            <a:ext cx="123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dǎ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676520" y="3276720"/>
            <a:ext cx="141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pē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114800" y="3352680"/>
            <a:ext cx="1219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ch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943600" y="32878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h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772400" y="32004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ji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584360" y="1981080"/>
            <a:ext cx="100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m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523880" y="49975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逮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" descr="标记点1"/>
          <p:cNvPicPr/>
          <p:nvPr/>
        </p:nvPicPr>
        <p:blipFill>
          <a:blip r:embed="rId17"/>
          <a:stretch/>
        </p:blipFill>
        <p:spPr>
          <a:xfrm>
            <a:off x="1736640" y="566748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5"/>
          <p:cNvSpPr/>
          <p:nvPr/>
        </p:nvSpPr>
        <p:spPr>
          <a:xfrm>
            <a:off x="1523880" y="574344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逮着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6" descr="标记点1"/>
          <p:cNvPicPr/>
          <p:nvPr/>
        </p:nvPicPr>
        <p:blipFill>
          <a:blip r:embed="rId18"/>
          <a:stretch/>
        </p:blipFill>
        <p:spPr>
          <a:xfrm>
            <a:off x="1752480" y="635328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7"/>
          <p:cNvSpPr/>
          <p:nvPr/>
        </p:nvSpPr>
        <p:spPr>
          <a:xfrm>
            <a:off x="1295280" y="505764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8" descr="标记点1"/>
          <p:cNvPicPr/>
          <p:nvPr/>
        </p:nvPicPr>
        <p:blipFill>
          <a:blip r:embed="rId19"/>
          <a:stretch/>
        </p:blipFill>
        <p:spPr>
          <a:xfrm>
            <a:off x="5715000" y="544824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标记点1"/>
          <p:cNvPicPr/>
          <p:nvPr/>
        </p:nvPicPr>
        <p:blipFill>
          <a:blip r:embed="rId20"/>
          <a:stretch/>
        </p:blipFill>
        <p:spPr>
          <a:xfrm>
            <a:off x="5257800" y="621036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4724280" y="491508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5029200" y="47894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寒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5029200" y="5535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颤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227664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　　</a:t>
            </a:r>
            <a:r>
              <a:rPr b="1" lang="zh-CN" sz="44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如果我们有做错的事或做得不好的事，而且跟父母起了冲突，我们该怎样做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1219320" y="685800"/>
            <a:ext cx="4419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有一个金点子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1" name="Picture 5" descr="无标题3"/>
          <p:cNvPicPr/>
          <p:nvPr/>
        </p:nvPicPr>
        <p:blipFill>
          <a:blip r:embed="rId1"/>
          <a:srcRect l="0" t="32604" r="176" b="38173"/>
          <a:stretch/>
        </p:blipFill>
        <p:spPr>
          <a:xfrm>
            <a:off x="3276720" y="44197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RW_015"/>
          <p:cNvPicPr/>
          <p:nvPr/>
        </p:nvPicPr>
        <p:blipFill>
          <a:blip r:embed="rId2"/>
          <a:stretch/>
        </p:blipFill>
        <p:spPr>
          <a:xfrm>
            <a:off x="7391520" y="380880"/>
            <a:ext cx="1447560" cy="121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55640" y="234936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　　</a:t>
            </a:r>
            <a:r>
              <a:rPr b="1" lang="zh-CN" sz="4400" spc="-1" strike="noStrike">
                <a:solidFill>
                  <a:srgbClr val="9900ff"/>
                </a:solidFill>
                <a:latin typeface="方正魏碑简体"/>
                <a:ea typeface="方正魏碑简体"/>
              </a:rPr>
              <a:t>如果我们发现父母也有缺点或做得不好的事情，我们该如何面对和处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219320" y="685800"/>
            <a:ext cx="4419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有一个金点子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7" name="Picture 5" descr="无标题3"/>
          <p:cNvPicPr/>
          <p:nvPr/>
        </p:nvPicPr>
        <p:blipFill>
          <a:blip r:embed="rId1"/>
          <a:srcRect l="0" t="32604" r="176" b="38173"/>
          <a:stretch/>
        </p:blipFill>
        <p:spPr>
          <a:xfrm>
            <a:off x="3276720" y="44197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RW_015"/>
          <p:cNvPicPr/>
          <p:nvPr/>
        </p:nvPicPr>
        <p:blipFill>
          <a:blip r:embed="rId2"/>
          <a:stretch/>
        </p:blipFill>
        <p:spPr>
          <a:xfrm>
            <a:off x="7391520" y="38088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054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730080" y="1989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14400" y="5410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r093"/>
          <p:cNvPicPr/>
          <p:nvPr/>
        </p:nvPicPr>
        <p:blipFill>
          <a:blip r:embed="rId2"/>
          <a:stretch/>
        </p:blipFill>
        <p:spPr>
          <a:xfrm>
            <a:off x="228600" y="5181480"/>
            <a:ext cx="320040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7758000" y="174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7"/>
          <p:cNvSpPr txBox="1"/>
          <p:nvPr/>
        </p:nvSpPr>
        <p:spPr>
          <a:xfrm>
            <a:off x="6781680" y="0"/>
            <a:ext cx="20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赠言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09480" y="1828800"/>
            <a:ext cx="9601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真正的友谊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十分理智的友谊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生最好的无价之宝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够对自己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朋友守信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永远无愧于他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那将是对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性格、灵魂以及道德的最高的考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马克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14.mp3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24250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DF4-06E1-4DCB-9CEA-1CB75F74B3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447920" y="990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>
            <a:off x="533520" y="0"/>
            <a:ext cx="20574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整体感知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066680" y="1424160"/>
            <a:ext cx="6313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本文围绕羚羊木雕写了一件什么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父母的矛盾冲突中，作者的感情倾向于谁？从哪看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487960" y="38088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彩云"/>
              </a:rPr>
              <a:t>二、初步感知课文内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47640" y="119700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故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547640" y="1844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木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3880" y="2666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爸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523880" y="33526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妈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23880" y="4038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奶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72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万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523880" y="556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2" descr="2_2_11"/>
          <p:cNvPicPr/>
          <p:nvPr/>
        </p:nvPicPr>
        <p:blipFill>
          <a:blip r:embed="rId1"/>
          <a:stretch/>
        </p:blipFill>
        <p:spPr>
          <a:xfrm>
            <a:off x="6372360" y="3284640"/>
            <a:ext cx="24620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黄百合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7391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17524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533520" y="0"/>
            <a:ext cx="2819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研读赏析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523880" y="2057400"/>
            <a:ext cx="1073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品味个性化语言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揣摩人物心理、性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468360" y="2492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903840" y="437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700360" y="4005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04920" y="2441520"/>
            <a:ext cx="9158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41360" y="12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55520" y="1989000"/>
            <a:ext cx="91695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那只羚羊哪儿去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妈妈突然问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要说实话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.....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是不是拿出去卖啦？”妈妈变得十分严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你现在就去把它要回来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妈妈坚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的说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那么贵重的东西怎么能随便送人呢？要不我和你一起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您不知道那是多么名贵的木雕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826920" y="12654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语言中的心情和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28600" y="304920"/>
            <a:ext cx="86104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将下面的神情动作描写归位，体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的心情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没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慢慢从口袋里掏出小刀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能　不能把羚羊还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爸爸不是说给我了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没有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送人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．我小声地说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．我觉得自己声音有些发抖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我哭着喊了起来。</a:t>
            </a:r>
            <a:br>
              <a:rPr sz="3200"/>
            </a:b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D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．我几乎听不见自己的声音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8"/>
          <p:cNvPicPr/>
          <p:nvPr/>
        </p:nvPicPr>
        <p:blipFill>
          <a:blip r:embed="rId1"/>
          <a:stretch/>
        </p:blipFill>
        <p:spPr>
          <a:xfrm>
            <a:off x="6400800" y="3962520"/>
            <a:ext cx="2479680" cy="26413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4800600" y="12952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905120" y="1752480"/>
            <a:ext cx="4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181480" y="22096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486400" y="28195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6" descr="tu2"/>
          <p:cNvPicPr/>
          <p:nvPr/>
        </p:nvPicPr>
        <p:blipFill>
          <a:blip r:embed="rId1"/>
          <a:stretch/>
        </p:blipFill>
        <p:spPr>
          <a:xfrm>
            <a:off x="6602400" y="438300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95280" y="115920"/>
            <a:ext cx="7924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　下面的话分别是谁说的，体现了怎样的思想性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你拿着，咱俩还是好朋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是的，这是给你的，可并没有允许你　　拿去送人啊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你怎么能拿人家这么贵重的东西呢！”   “好好拿着，别难过，看我呆会儿揍她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算了吧，这样多不好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09:14:14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03T14:03:46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