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33360" y="335268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895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ero"/>
                <a:ea typeface="宋体"/>
              </a:rPr>
              <a:t>模糊抽象的</a:t>
            </a:r>
            <a:r>
              <a:rPr b="1" lang="zh-CN" sz="3200" spc="-1" strike="noStrike">
                <a:solidFill>
                  <a:srgbClr val="000000"/>
                </a:solidFill>
                <a:latin typeface="Aero"/>
                <a:ea typeface="宋体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Aero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7621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ero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6520" y="5331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23720" y="12193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ero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8006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895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72000" y="1219320"/>
            <a:ext cx="1981080" cy="1485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705720" y="1219320"/>
            <a:ext cx="1981080" cy="1485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570560" y="3100320"/>
            <a:ext cx="1981080" cy="1486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6703920" y="3100320"/>
            <a:ext cx="1981440" cy="1486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1:07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9:5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