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A3A-B9E5-402B-B173-7790A024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141-6E8A-4466-B09E-8DE35AE0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BE4-F454-4945-9172-65BF1CFA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410-CDF5-470F-B99A-95EBF134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CF2-6367-44AC-B458-93AAA18E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525-E230-4099-87A1-0A746B78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CD2-71D0-4850-B6F6-0ADF59D6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568-AF12-48CD-8320-ED5992B3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10B-B3BF-46A6-9011-35CF9793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D77-1321-4902-A8ED-6997BED1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340-B448-4BAB-8FEB-5BB6C14A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603-7EF5-415A-A7A7-1E0B8E53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ED48-F7F5-4ADE-80E4-65403EC432F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F3AF-7032-4FDD-86A6-3BA4C4A7D27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97000" cy="23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2" name="图片 13" descr=""/>
          <p:cNvPicPr/>
          <p:nvPr/>
        </p:nvPicPr>
        <p:blipFill>
          <a:blip r:embed="rId2"/>
          <a:stretch/>
        </p:blipFill>
        <p:spPr>
          <a:xfrm>
            <a:off x="4356000" y="3645000"/>
            <a:ext cx="3816360" cy="27622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"/>
          <p:cNvPicPr/>
          <p:nvPr/>
        </p:nvPicPr>
        <p:blipFill>
          <a:blip r:embed="rId3"/>
          <a:stretch/>
        </p:blipFill>
        <p:spPr>
          <a:xfrm>
            <a:off x="4643280" y="836640"/>
            <a:ext cx="4069080" cy="27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F:\360云盘\02-个人资料\！PPT图片及版面资源\06-PPT精选插图\03-人物\xpic6942.jpg"/>
          <p:cNvPicPr/>
          <p:nvPr/>
        </p:nvPicPr>
        <p:blipFill>
          <a:blip r:embed="rId4"/>
          <a:stretch/>
        </p:blipFill>
        <p:spPr>
          <a:xfrm>
            <a:off x="709560" y="1206360"/>
            <a:ext cx="3460680" cy="230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47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物素材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360云盘\02-个人资料\！PPT图片及版面资源\06-PPT精选插图\03-人物\Fotolia_28236516_Subscription_XXL.jpg"/>
          <p:cNvPicPr/>
          <p:nvPr/>
        </p:nvPicPr>
        <p:blipFill>
          <a:blip r:embed="rId1"/>
          <a:stretch/>
        </p:blipFill>
        <p:spPr>
          <a:xfrm>
            <a:off x="4643280" y="97164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F:\360云盘\02-个人资料\！PPT图片及版面资源\06-PPT精选插图\03-人物\xpic7485.jpg"/>
          <p:cNvPicPr/>
          <p:nvPr/>
        </p:nvPicPr>
        <p:blipFill>
          <a:blip r:embed="rId2"/>
          <a:stretch/>
        </p:blipFill>
        <p:spPr>
          <a:xfrm>
            <a:off x="682560" y="3076560"/>
            <a:ext cx="5194440" cy="346248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4"/>
          <p:cNvGrpSpPr/>
          <p:nvPr/>
        </p:nvGrpSpPr>
        <p:grpSpPr>
          <a:xfrm>
            <a:off x="1763640" y="1030320"/>
            <a:ext cx="2532240" cy="1879560"/>
            <a:chOff x="1763640" y="1030320"/>
            <a:chExt cx="2532240" cy="1879560"/>
          </a:xfrm>
        </p:grpSpPr>
        <p:pic>
          <p:nvPicPr>
            <p:cNvPr id="50" name="Picture 3" descr="F:\360云盘\02-个人资料\！PPT图片及版面资源\06-PPT精选插图\02-商务\mf821-02223878.jpg"/>
            <p:cNvPicPr/>
            <p:nvPr/>
          </p:nvPicPr>
          <p:blipFill>
            <a:blip r:embed="rId3"/>
            <a:stretch/>
          </p:blipFill>
          <p:spPr>
            <a:xfrm>
              <a:off x="1763640" y="1030320"/>
              <a:ext cx="125316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F:\360云盘\02-个人资料\！PPT图片及版面资源\06-PPT精选插图\03-人物\mf821-02166789.jpg"/>
            <p:cNvPicPr/>
            <p:nvPr/>
          </p:nvPicPr>
          <p:blipFill>
            <a:blip r:embed="rId4"/>
            <a:stretch/>
          </p:blipFill>
          <p:spPr>
            <a:xfrm>
              <a:off x="3042720" y="1030320"/>
              <a:ext cx="1253160" cy="187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图片 47" descr=""/>
          <p:cNvPicPr/>
          <p:nvPr/>
        </p:nvPicPr>
        <p:blipFill>
          <a:blip r:embed="rId5"/>
          <a:srcRect l="0" t="189" r="0" b="189"/>
          <a:stretch/>
        </p:blipFill>
        <p:spPr>
          <a:xfrm>
            <a:off x="6083280" y="3076560"/>
            <a:ext cx="23050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B67-4937-4707-9707-9726F37835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9:33Z</dcterms:modified>
  <cp:revision>10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