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BE70-6DB6-49D6-BACC-EE9E426E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21DF-0931-4525-A44C-5AA2EF33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75E8-2F48-41B3-BFD2-053357EE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A11-42FF-4732-9A09-9E60F940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DB3-18AA-43D0-8413-AC7F9C01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FDA-DAB8-496F-AFBD-CDD93503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4598-19BE-45C8-ACA0-AC7BC2FC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81C6-AF22-4AF1-B218-6987B343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B4E7-6FDD-477C-A5AA-D258C538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43F-D05D-4A41-AE9F-75FEFBE9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857-C036-4A4A-BE30-73D4958A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B38-0671-4796-86AF-9703FDFC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0649-BCEE-48D8-A9B1-CDF147EF3E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13640" y="1557360"/>
            <a:ext cx="2114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B668-345D-44A6-B578-1AE0915BDB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/>
  <dc:description/>
  <cp:keywords>幻灯片之家 http:/www.eeppt.com</cp:keywords>
  <dc:language>en-US</dc:language>
  <cp:lastModifiedBy/>
  <dcterms:modified xsi:type="dcterms:W3CDTF">2015-07-13T09:35:23Z</dcterms:modified>
  <cp:revision>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