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572-B9FB-4BBD-A526-87137BED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CC7-6DDA-4C77-B7C7-FC750108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1AE-A5CC-4E72-94D3-76F4F1C8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FC8-97B5-430F-B97E-6E0308AE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EEA-5B11-459A-9897-8D368A4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32A-34F5-4B5A-A3C2-4B58537C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420-18BF-4C91-A101-30C8885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00E-8730-4197-B985-71BFA15E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4F0-5780-4E47-95CC-45D8F4FF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2D9-024E-46D5-8763-D2B85078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DC3-9036-4511-ABEF-EF1EE0F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EB8-191A-41E2-86FB-94088BE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E8A3-7BCB-4763-A4E6-8E8FD107130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D04B-7856-4DB5-AF39-8A1E3FA07F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表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Freeform 2"/>
          <p:cNvSpPr/>
          <p:nvPr/>
        </p:nvSpPr>
        <p:spPr>
          <a:xfrm flipH="1">
            <a:off x="5632560" y="3944880"/>
            <a:ext cx="87624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-181080" y="4006800"/>
            <a:ext cx="98424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4"/>
          <p:cNvSpPr/>
          <p:nvPr/>
        </p:nvSpPr>
        <p:spPr>
          <a:xfrm flipH="1">
            <a:off x="6920640" y="3862440"/>
            <a:ext cx="863640" cy="38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5"/>
          <p:cNvSpPr/>
          <p:nvPr/>
        </p:nvSpPr>
        <p:spPr>
          <a:xfrm flipH="1">
            <a:off x="8337600" y="3998880"/>
            <a:ext cx="83808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6"/>
          <p:cNvSpPr/>
          <p:nvPr/>
        </p:nvSpPr>
        <p:spPr>
          <a:xfrm>
            <a:off x="1343160" y="3865680"/>
            <a:ext cx="83808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2638440" y="3944880"/>
            <a:ext cx="88596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"/>
          <p:cNvSpPr/>
          <p:nvPr/>
        </p:nvSpPr>
        <p:spPr>
          <a:xfrm>
            <a:off x="806400" y="2973240"/>
            <a:ext cx="1119240" cy="139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"/>
          <p:cNvSpPr/>
          <p:nvPr/>
        </p:nvSpPr>
        <p:spPr>
          <a:xfrm>
            <a:off x="428760" y="2973240"/>
            <a:ext cx="377640" cy="139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2195640" y="3070080"/>
            <a:ext cx="1082520" cy="11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1986120" y="3056040"/>
            <a:ext cx="218880" cy="11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3490920" y="3110040"/>
            <a:ext cx="10159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3"/>
          <p:cNvSpPr/>
          <p:nvPr/>
        </p:nvSpPr>
        <p:spPr>
          <a:xfrm>
            <a:off x="3414600" y="3110040"/>
            <a:ext cx="763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4"/>
          <p:cNvSpPr/>
          <p:nvPr/>
        </p:nvSpPr>
        <p:spPr>
          <a:xfrm flipH="1">
            <a:off x="7212960" y="2973240"/>
            <a:ext cx="1119240" cy="139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 flipH="1">
            <a:off x="8332200" y="2973240"/>
            <a:ext cx="377640" cy="139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 flipH="1">
            <a:off x="5851440" y="3056040"/>
            <a:ext cx="1082880" cy="11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 flipH="1">
            <a:off x="6934320" y="3056040"/>
            <a:ext cx="218880" cy="11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 flipH="1">
            <a:off x="4632480" y="3110040"/>
            <a:ext cx="10159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9"/>
          <p:cNvSpPr/>
          <p:nvPr/>
        </p:nvSpPr>
        <p:spPr>
          <a:xfrm flipH="1">
            <a:off x="5647680" y="3110040"/>
            <a:ext cx="7596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99ff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99ff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2520" y="1868400"/>
            <a:ext cx="1440" cy="1193760"/>
            <a:chOff x="452520" y="1868400"/>
            <a:chExt cx="1440" cy="1193760"/>
          </a:xfrm>
        </p:grpSpPr>
        <p:sp>
          <p:nvSpPr>
            <p:cNvPr id="63" name="Line 21"/>
            <p:cNvSpPr/>
            <p:nvPr/>
          </p:nvSpPr>
          <p:spPr>
            <a:xfrm flipV="1">
              <a:off x="452520" y="1868400"/>
              <a:ext cx="1440" cy="1193760"/>
            </a:xfrm>
            <a:prstGeom prst="line">
              <a:avLst/>
            </a:prstGeom>
            <a:ln w="12600">
              <a:solidFill>
                <a:srgbClr val="0875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 rot="10800000">
              <a:off x="452520" y="1868400"/>
              <a:ext cx="144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72920" y="1879560"/>
            <a:ext cx="360" cy="1193760"/>
            <a:chOff x="3472920" y="1879560"/>
            <a:chExt cx="360" cy="1193760"/>
          </a:xfrm>
        </p:grpSpPr>
        <p:sp>
          <p:nvSpPr>
            <p:cNvPr id="67" name="Line 23"/>
            <p:cNvSpPr/>
            <p:nvPr/>
          </p:nvSpPr>
          <p:spPr>
            <a:xfrm flipV="1">
              <a:off x="3473280" y="1879560"/>
              <a:ext cx="0" cy="1193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 rot="10800000">
              <a:off x="3472920" y="1879560"/>
              <a:ext cx="36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866920" y="1878120"/>
            <a:ext cx="360" cy="1193760"/>
            <a:chOff x="5866920" y="1878120"/>
            <a:chExt cx="360" cy="1193760"/>
          </a:xfrm>
        </p:grpSpPr>
        <p:sp>
          <p:nvSpPr>
            <p:cNvPr id="71" name="Line 25"/>
            <p:cNvSpPr/>
            <p:nvPr/>
          </p:nvSpPr>
          <p:spPr>
            <a:xfrm flipV="1">
              <a:off x="5867280" y="1878120"/>
              <a:ext cx="0" cy="1193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 rot="10800000">
              <a:off x="5866920" y="1878120"/>
              <a:ext cx="36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15800" y="4252680"/>
            <a:ext cx="360" cy="1238040"/>
            <a:chOff x="2215800" y="4252680"/>
            <a:chExt cx="360" cy="1238040"/>
          </a:xfrm>
        </p:grpSpPr>
        <p:sp>
          <p:nvSpPr>
            <p:cNvPr id="75" name="Line 27"/>
            <p:cNvSpPr/>
            <p:nvPr/>
          </p:nvSpPr>
          <p:spPr>
            <a:xfrm flipV="1">
              <a:off x="2216160" y="4252680"/>
              <a:ext cx="0" cy="1238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 rot="10800000">
              <a:off x="2215800" y="4252680"/>
              <a:ext cx="360" cy="12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53000" y="4182840"/>
            <a:ext cx="1440" cy="1338120"/>
            <a:chOff x="4653000" y="4182840"/>
            <a:chExt cx="1440" cy="1338120"/>
          </a:xfrm>
        </p:grpSpPr>
        <p:sp>
          <p:nvSpPr>
            <p:cNvPr id="79" name="Line 29"/>
            <p:cNvSpPr/>
            <p:nvPr/>
          </p:nvSpPr>
          <p:spPr>
            <a:xfrm flipV="1">
              <a:off x="4653000" y="4182840"/>
              <a:ext cx="1440" cy="1338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4653000" y="4182840"/>
              <a:ext cx="1440" cy="133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213320" y="4293720"/>
            <a:ext cx="360" cy="1227240"/>
            <a:chOff x="7213320" y="4293720"/>
            <a:chExt cx="360" cy="1227240"/>
          </a:xfrm>
        </p:grpSpPr>
        <p:sp>
          <p:nvSpPr>
            <p:cNvPr id="83" name="Line 31"/>
            <p:cNvSpPr/>
            <p:nvPr/>
          </p:nvSpPr>
          <p:spPr>
            <a:xfrm flipV="1">
              <a:off x="7213680" y="4293720"/>
              <a:ext cx="0" cy="1227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0800000">
              <a:off x="7213320" y="4293720"/>
              <a:ext cx="360" cy="122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Freeform 32"/>
          <p:cNvSpPr/>
          <p:nvPr/>
        </p:nvSpPr>
        <p:spPr>
          <a:xfrm>
            <a:off x="2124000" y="4307040"/>
            <a:ext cx="23760" cy="1440"/>
          </a:xfrm>
          <a:prstGeom prst="pie">
            <a:avLst/>
          </a:pr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3"/>
          <p:cNvSpPr/>
          <p:nvPr/>
        </p:nvSpPr>
        <p:spPr>
          <a:xfrm>
            <a:off x="939960" y="3951360"/>
            <a:ext cx="137880" cy="280800"/>
          </a:xfrm>
          <a:custGeom>
            <a:avLst/>
            <a:gdLst>
              <a:gd name="textAreaLeft" fmla="*/ 0 w 137880"/>
              <a:gd name="textAreaRight" fmla="*/ 138240 w 1378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4"/>
          <p:cNvSpPr/>
          <p:nvPr/>
        </p:nvSpPr>
        <p:spPr>
          <a:xfrm>
            <a:off x="2287440" y="3868560"/>
            <a:ext cx="174600" cy="281160"/>
          </a:xfrm>
          <a:custGeom>
            <a:avLst/>
            <a:gdLst>
              <a:gd name="textAreaLeft" fmla="*/ 0 w 174600"/>
              <a:gd name="textAreaRight" fmla="*/ 174960 w 1746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35"/>
          <p:cNvSpPr/>
          <p:nvPr/>
        </p:nvSpPr>
        <p:spPr>
          <a:xfrm>
            <a:off x="3575160" y="3862440"/>
            <a:ext cx="174600" cy="280800"/>
          </a:xfrm>
          <a:custGeom>
            <a:avLst/>
            <a:gdLst>
              <a:gd name="textAreaLeft" fmla="*/ 0 w 174600"/>
              <a:gd name="textAreaRight" fmla="*/ 174960 w 1746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6"/>
          <p:cNvSpPr/>
          <p:nvPr/>
        </p:nvSpPr>
        <p:spPr>
          <a:xfrm>
            <a:off x="4711680" y="3862440"/>
            <a:ext cx="174600" cy="280800"/>
          </a:xfrm>
          <a:custGeom>
            <a:avLst/>
            <a:gdLst>
              <a:gd name="textAreaLeft" fmla="*/ 0 w 174600"/>
              <a:gd name="textAreaRight" fmla="*/ 174960 w 1746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37"/>
          <p:cNvSpPr/>
          <p:nvPr/>
        </p:nvSpPr>
        <p:spPr>
          <a:xfrm>
            <a:off x="5940360" y="3868560"/>
            <a:ext cx="174600" cy="281160"/>
          </a:xfrm>
          <a:custGeom>
            <a:avLst/>
            <a:gdLst>
              <a:gd name="textAreaLeft" fmla="*/ 0 w 174600"/>
              <a:gd name="textAreaRight" fmla="*/ 174960 w 1746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8"/>
          <p:cNvSpPr/>
          <p:nvPr/>
        </p:nvSpPr>
        <p:spPr>
          <a:xfrm>
            <a:off x="7308720" y="3933720"/>
            <a:ext cx="182520" cy="281160"/>
          </a:xfrm>
          <a:custGeom>
            <a:avLst/>
            <a:gdLst>
              <a:gd name="textAreaLeft" fmla="*/ 0 w 182520"/>
              <a:gd name="textAreaRight" fmla="*/ 182880 w 1825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9"/>
          <p:cNvSpPr/>
          <p:nvPr/>
        </p:nvSpPr>
        <p:spPr>
          <a:xfrm>
            <a:off x="1781280" y="4795920"/>
            <a:ext cx="23760" cy="1440"/>
          </a:xfrm>
          <a:prstGeom prst="pie">
            <a:avLst/>
          </a:pr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360" y="6237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447-594C-4F22-8A7D-2CE3632EB1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2:48Z</dcterms:modified>
  <cp:revision>11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