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B88-E3B6-4315-992F-99379588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272-8641-429A-A359-EB78ABC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CC3-CB24-45C2-B31C-B2AE080A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8FA-85B3-48C3-92A5-EAD8C761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699-B17E-465E-936B-F310663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870-AEF1-43E2-AF6F-3E1D6E2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7DB-5435-45C6-867A-D2B8A2CD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636-DF6C-41E7-BFBF-0BD631B9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6FF-873E-4590-98C9-88D50624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770-39B8-42FE-8A28-F3F613C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33E-B50E-4D20-A8BD-136E270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973-04A9-446D-BC08-396DC8F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EF22-872A-4DF5-9283-0405AF7409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436680" y="2146320"/>
            <a:ext cx="8268480" cy="1409760"/>
            <a:chOff x="436680" y="2146320"/>
            <a:chExt cx="8268480" cy="1409760"/>
          </a:xfrm>
        </p:grpSpPr>
        <p:sp>
          <p:nvSpPr>
            <p:cNvPr id="42" name="矩形 7"/>
            <p:cNvSpPr/>
            <p:nvPr/>
          </p:nvSpPr>
          <p:spPr>
            <a:xfrm>
              <a:off x="1008000" y="2857320"/>
              <a:ext cx="1780920" cy="69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8"/>
            <p:cNvSpPr/>
            <p:nvPr/>
          </p:nvSpPr>
          <p:spPr>
            <a:xfrm>
              <a:off x="2788920" y="2857320"/>
              <a:ext cx="1782720" cy="69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9"/>
            <p:cNvSpPr/>
            <p:nvPr/>
          </p:nvSpPr>
          <p:spPr>
            <a:xfrm>
              <a:off x="4572000" y="2857320"/>
              <a:ext cx="1780920" cy="698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0"/>
            <p:cNvSpPr/>
            <p:nvPr/>
          </p:nvSpPr>
          <p:spPr>
            <a:xfrm>
              <a:off x="6353280" y="2857320"/>
              <a:ext cx="1780920" cy="698760"/>
            </a:xfrm>
            <a:prstGeom prst="rect">
              <a:avLst/>
            </a:prstGeom>
            <a:solidFill>
              <a:srgbClr val="009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43668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家庭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221832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求学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399960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工作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4"/>
            <p:cNvSpPr/>
            <p:nvPr/>
          </p:nvSpPr>
          <p:spPr>
            <a:xfrm>
              <a:off x="578124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感恩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6320" y="529596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960" y="800280"/>
            <a:ext cx="50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清新中国风个人简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0017 -0.2877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13E-4F76-4AD9-A42B-C4F581E95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3"/>
          <p:cNvSpPr/>
          <p:nvPr/>
        </p:nvSpPr>
        <p:spPr>
          <a:xfrm>
            <a:off x="2007720" y="2065320"/>
            <a:ext cx="53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3"/>
          <p:cNvSpPr/>
          <p:nvPr/>
        </p:nvSpPr>
        <p:spPr>
          <a:xfrm>
            <a:off x="2693520" y="2019240"/>
            <a:ext cx="53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69400" y="1650960"/>
            <a:ext cx="4638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12T14:25:0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