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6CD7-DBA2-4D68-8286-05067A49C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67DE-1007-4A1B-A394-E63B17B9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9E4C-CC35-49DB-B6FF-B168116CE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EDFA-58C3-43E2-8BD5-F0C60C27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B5CE-CA93-4B43-9415-26BE04DB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7C51-7DC3-43AD-89EE-B0846D55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FF83-B1DF-4DA6-8828-83F298AB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915E-3CF1-43C4-BE8A-1B23E18F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BE35-0B8B-4393-9201-9F339A56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D66C-17DA-4BB4-9A31-12629EC1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712A-6135-43AC-9555-712C91D1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AEF3-A8D0-436D-8AA5-224CE891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3BE3-A370-463A-AA55-05A65B35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8606-B9DD-442E-B97F-5F10C97A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4700-68AC-49FF-B220-B3A6501A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E65F-B639-407F-A5D3-37CAC9D42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3843-CE9E-48CC-B3FE-B5304ED6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4E9D-A185-4DC6-85A6-69D66451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B9F3-71D5-489D-8E9F-E3FDCB9D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3439-CDBD-4FC0-B7A3-1650ADCB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2579-75DB-4F3B-B231-264BE817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33DD-3F23-4335-94D5-4140509B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ABCA-9175-480A-B4F6-E8C6E363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EA5B-7F05-42ED-85A3-E5A34652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195A-421F-4747-A4A7-EFC107FC4D16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36FB-0A6E-4B5C-B2A7-1883D201AD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/moban/qiye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"/>
          <p:cNvSpPr/>
          <p:nvPr/>
        </p:nvSpPr>
        <p:spPr>
          <a:xfrm>
            <a:off x="2945520" y="325908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"/>
          <p:cNvSpPr/>
          <p:nvPr/>
        </p:nvSpPr>
        <p:spPr>
          <a:xfrm>
            <a:off x="15840" y="-19080"/>
            <a:ext cx="9128160" cy="687852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5641560" y="5079960"/>
            <a:ext cx="3377160" cy="17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《礼记》 云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“</a:t>
            </a: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礼者所以定亲疏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决嫌疑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别同异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明是非也。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又云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“</a:t>
            </a: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亲亲之杀</a:t>
            </a: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尊贤之等</a:t>
            </a: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礼所生也。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20520" y="-19080"/>
            <a:ext cx="9128160" cy="4889520"/>
          </a:xfrm>
          <a:prstGeom prst="flowChartProcess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20520" y="90360"/>
            <a:ext cx="9128160" cy="4734000"/>
          </a:xfrm>
          <a:prstGeom prst="flowChartProcess">
            <a:avLst/>
          </a:prstGeom>
          <a:solidFill>
            <a:srgbClr val="ff9b0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1332000" y="2824200"/>
            <a:ext cx="6840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礼仪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是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道德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的规范，完备了礼仪，就纯粹了道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2817720" y="1541520"/>
            <a:ext cx="3527640" cy="823680"/>
          </a:xfrm>
          <a:prstGeom prst="rect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17720" y="20289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76680" y="981000"/>
            <a:ext cx="3589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Arial"/>
              </a:rPr>
              <a:t>企业礼仪</a:t>
            </a:r>
            <a:r>
              <a:rPr b="1" lang="zh-CN" sz="4500" spc="-1" strike="noStrike">
                <a:solidFill>
                  <a:srgbClr val="ffffff"/>
                </a:solidFill>
                <a:latin typeface="Arial"/>
              </a:rPr>
              <a:t>PP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2"/>
          <p:cNvSpPr/>
          <p:nvPr/>
        </p:nvSpPr>
        <p:spPr>
          <a:xfrm>
            <a:off x="15840" y="-19080"/>
            <a:ext cx="9128160" cy="6878520"/>
          </a:xfrm>
          <a:prstGeom prst="flowChartProcess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4140360" y="83664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目     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3924360" y="2055960"/>
            <a:ext cx="4898880" cy="326880"/>
          </a:xfrm>
          <a:prstGeom prst="flowChartProcess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3924360" y="2490840"/>
            <a:ext cx="4898880" cy="325440"/>
          </a:xfrm>
          <a:prstGeom prst="flowChartProcess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3924360" y="3605040"/>
            <a:ext cx="4898880" cy="327240"/>
          </a:xfrm>
          <a:prstGeom prst="flowChartProcess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"/>
          <p:cNvSpPr/>
          <p:nvPr/>
        </p:nvSpPr>
        <p:spPr>
          <a:xfrm>
            <a:off x="3922560" y="4032360"/>
            <a:ext cx="4899240" cy="325440"/>
          </a:xfrm>
          <a:prstGeom prst="flowChartProcess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8"/>
          <p:cNvSpPr/>
          <p:nvPr/>
        </p:nvSpPr>
        <p:spPr>
          <a:xfrm>
            <a:off x="3924360" y="4460760"/>
            <a:ext cx="4898880" cy="327240"/>
          </a:xfrm>
          <a:prstGeom prst="flowChartProcess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4140360" y="1989000"/>
            <a:ext cx="2808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礼仪的意义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140360" y="3516480"/>
            <a:ext cx="2808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礼仪的功用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4140360" y="2400480"/>
            <a:ext cx="2808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礼仪的类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4140360" y="4390920"/>
            <a:ext cx="2808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礼仪工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4140360" y="3927600"/>
            <a:ext cx="2808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礼仪的养成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4140360" y="2844720"/>
            <a:ext cx="2808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交际礼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礼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活礼仪    节庆礼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3638520" y="1773360"/>
            <a:ext cx="55231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6"/>
          <p:cNvSpPr/>
          <p:nvPr/>
        </p:nvSpPr>
        <p:spPr>
          <a:xfrm>
            <a:off x="15840" y="-19080"/>
            <a:ext cx="3622680" cy="6878520"/>
          </a:xfrm>
          <a:prstGeom prst="flowChartProcess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24000" y="1989000"/>
            <a:ext cx="2808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企业礼仪是指企业员工关于企业礼仪的观念及其行为方式的总和，也是日常例行事物的一种固定模式，如处理公共关系的方式、信息沟通关系、仪式和典礼等就是企业礼仪的具体表现。它表征着企业的价值观和道德要求，塑造着企业形象，使员工在礼仪文化的氛围中受到熏陶，自觉的调整个人行为，增强为企业目标献身的群体意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8" descr="63fa6322_16c0_4026_b6a1_06cd7c323ddd"/>
          <p:cNvPicPr/>
          <p:nvPr/>
        </p:nvPicPr>
        <p:blipFill>
          <a:blip r:embed="rId1"/>
          <a:stretch/>
        </p:blipFill>
        <p:spPr>
          <a:xfrm>
            <a:off x="411120" y="2060640"/>
            <a:ext cx="27144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1111"/>
          <p:cNvPicPr/>
          <p:nvPr/>
        </p:nvPicPr>
        <p:blipFill>
          <a:blip r:embed="rId1"/>
          <a:stretch/>
        </p:blipFill>
        <p:spPr>
          <a:xfrm>
            <a:off x="15840" y="-2052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3186000" y="2276640"/>
            <a:ext cx="3095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企业礼仪的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222"/>
          <p:cNvPicPr/>
          <p:nvPr/>
        </p:nvPicPr>
        <p:blipFill>
          <a:blip r:embed="rId1"/>
          <a:stretch/>
        </p:blipFill>
        <p:spPr>
          <a:xfrm>
            <a:off x="15840" y="-2052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739800" y="577800"/>
            <a:ext cx="314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企业礼仪的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469800" y="1557360"/>
            <a:ext cx="8064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企业礼仪是企业的精神风貌。它包括企业的待客礼仪、经营作风、员工风度、环境布置风格以及内部的信息沟通方式等内容。企业礼仪往往形成传统与习俗，体现企业的经营理念。它赋予企业浓厚的人情味，对培育企业精神和塑造企业形象起着潜移默化的作用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当通过养成而成为一种约定俗成时，企业礼仪就成为了企业习俗。企业习俗是指企业员工在长期的共同劳动中形成的习惯做法。这种做法沿袭日久，是全体员工默认的、心里的、自觉遵守的规范，而不是强迫的、书面制度式的规定；是一种“软约束”。摩托罗拉公司有着非常好的员工交流沟通习俗，如总经理座谈会、恳谈会、对话会和业绩报告会，员工可以和公司决策层、经理层等进行直接沟通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63fa6322_16c0_4026_b6a1_06cd7c323ddd"/>
          <p:cNvPicPr/>
          <p:nvPr/>
        </p:nvPicPr>
        <p:blipFill>
          <a:blip r:embed="rId2"/>
          <a:stretch/>
        </p:blipFill>
        <p:spPr>
          <a:xfrm>
            <a:off x="469800" y="765000"/>
            <a:ext cx="270000" cy="270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1111"/>
          <p:cNvPicPr/>
          <p:nvPr/>
        </p:nvPicPr>
        <p:blipFill>
          <a:blip r:embed="rId1"/>
          <a:stretch/>
        </p:blipFill>
        <p:spPr>
          <a:xfrm>
            <a:off x="15840" y="-2052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3203640" y="2492280"/>
            <a:ext cx="3097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企业礼仪的类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222"/>
          <p:cNvPicPr/>
          <p:nvPr/>
        </p:nvPicPr>
        <p:blipFill>
          <a:blip r:embed="rId1"/>
          <a:stretch/>
        </p:blipFill>
        <p:spPr>
          <a:xfrm>
            <a:off x="15840" y="-2052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741240" y="692280"/>
            <a:ext cx="77932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交际礼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企业是一个从事经济活动的主体，作为社会组织，其内部人员之间和与外部群体或个体之间都有着大量的人际交往。因此，交际礼仪就成为传播企业文化、体现企业素质的重要形式。人际交往的礼仪很多，也很繁琐，主要包括介绍和被介绍，称呼与被称呼、交谈用语、座位安排、说话时的姿态、肢体语言、禁忌用语、服饰、互换名片、站姿坐姿、握手与挥手、节日问候等等。就会面来说，就有微笑礼、握手礼、拱手礼、鞠躬礼、颌首礼、招手礼、合掌礼、拥抱礼、注目礼等等的分别。大凡优异的企业在这些基本交际礼仪上都表现得非常出色，体现了公司的文明程度和文化素养，也体现了企业文化的基本型态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63fa6322_16c0_4026_b6a1_06cd7c323ddd"/>
          <p:cNvPicPr/>
          <p:nvPr/>
        </p:nvPicPr>
        <p:blipFill>
          <a:blip r:embed="rId2"/>
          <a:stretch/>
        </p:blipFill>
        <p:spPr>
          <a:xfrm>
            <a:off x="469800" y="765000"/>
            <a:ext cx="270000" cy="270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741240" y="2852640"/>
            <a:ext cx="7793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工作礼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生在企业日常经营管理活动，以及商务活动中的常规性的仪式是工作礼仪，如展会、岗前小会、店会、表彰会、职代会、培训会、新闻发布会以及技术、生产、销售合作签约仪式，合资项目签字仪式等。松下幸之助就在日本松下电器株式会社，建立了一种朝会和夕会的企业仪式，即利用每天上下班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钟的时间，各部门、各单位的员工聚在一起进行宣誓、总结。朝会时，要唱社歌：“为建设新日本同心协力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断地努力生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们为世人提供的商品，犹如涌泉一般。振兴产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振兴产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!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还要全体朗诵公司精神：“产业报国、光明正大、亲爱精诚、奋斗向上、遵守礼节、顺应同化、感恩图报。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63fa6322_16c0_4026_b6a1_06cd7c323ddd"/>
          <p:cNvPicPr/>
          <p:nvPr/>
        </p:nvPicPr>
        <p:blipFill>
          <a:blip r:embed="rId3"/>
          <a:stretch/>
        </p:blipFill>
        <p:spPr>
          <a:xfrm>
            <a:off x="485640" y="2924280"/>
            <a:ext cx="27144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B139-E483-470D-831D-3B45D23879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222"/>
          <p:cNvPicPr/>
          <p:nvPr/>
        </p:nvPicPr>
        <p:blipFill>
          <a:blip r:embed="rId1"/>
          <a:stretch/>
        </p:blipFill>
        <p:spPr>
          <a:xfrm>
            <a:off x="15840" y="-2052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757080" y="692280"/>
            <a:ext cx="80629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生活礼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在工作之余，企业开展的与员工生活直接相关的各种活动就是生活礼仪。包括企业的文体活动、联欢会、讲演会、茶话会等，通过这些活动可以密切员工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的关系，有利于共同价值观的形成和传播。如在美国玛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凯化妆品公司，每逢圣诞节、公司纪念日，总经理都给全体员工寄发贺卡；员工过生日时，总经理寄去贺信，并亲笔写下贺词，然后郑重签名。员工进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周年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周年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周年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周年时，总经理奉送比较贵重的首饰，当员工工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周年时，将得到一件镶有钻石的昂贵首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63fa6322_16c0_4026_b6a1_06cd7c323ddd"/>
          <p:cNvPicPr/>
          <p:nvPr/>
        </p:nvPicPr>
        <p:blipFill>
          <a:blip r:embed="rId2"/>
          <a:stretch/>
        </p:blipFill>
        <p:spPr>
          <a:xfrm>
            <a:off x="469800" y="765000"/>
            <a:ext cx="270000" cy="270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757080" y="2852640"/>
            <a:ext cx="8062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节庆礼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节庆礼仪指那些对企业具有重要意义的纪念活动仪式，主要包括公司的节日庆典和公共节日庆典。比如：公司成立的周年庆典，公司成功开发出重要技术或产品的庆典，公司分公司或子公司成立的庆典，公司重要活动目标达成庆典，新车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司、新生产线投产成功庆典，等等就属于前者。后者主要包括三八妇女节、五一劳动节，国庆节庆典，行业性的节日庆典等等。这些庆典活动，是连接企业与员工，集团与分属企业，企业与社会的重要纽带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63fa6322_16c0_4026_b6a1_06cd7c323ddd"/>
          <p:cNvPicPr/>
          <p:nvPr/>
        </p:nvPicPr>
        <p:blipFill>
          <a:blip r:embed="rId3"/>
          <a:stretch/>
        </p:blipFill>
        <p:spPr>
          <a:xfrm>
            <a:off x="485640" y="2924280"/>
            <a:ext cx="27144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2"/>
          <p:cNvSpPr/>
          <p:nvPr/>
        </p:nvSpPr>
        <p:spPr>
          <a:xfrm>
            <a:off x="15840" y="-19080"/>
            <a:ext cx="9128160" cy="687852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20520" y="-19080"/>
            <a:ext cx="9128160" cy="4889520"/>
          </a:xfrm>
          <a:prstGeom prst="flowChartProcess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20520" y="-19080"/>
            <a:ext cx="9128160" cy="4734000"/>
          </a:xfrm>
          <a:prstGeom prst="flowChartProcess">
            <a:avLst/>
          </a:prstGeom>
          <a:solidFill>
            <a:srgbClr val="ff9b0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2917800" y="1758960"/>
            <a:ext cx="3525840" cy="825120"/>
          </a:xfrm>
          <a:prstGeom prst="rect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7746120" y="5014800"/>
            <a:ext cx="10011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简魏碑"/>
              </a:rPr>
              <a:t>子曰：</a:t>
            </a:r>
            <a:r>
              <a:rPr b="0" lang="zh-CN" sz="1200" spc="-1" strike="noStrike">
                <a:solidFill>
                  <a:srgbClr val="000000"/>
                </a:solidFill>
                <a:latin typeface="微软简魏碑"/>
              </a:rPr>
              <a:t>"</a:t>
            </a:r>
            <a:r>
              <a:rPr b="0" lang="zh-CN" sz="1200" spc="-1" strike="noStrike">
                <a:solidFill>
                  <a:srgbClr val="000000"/>
                </a:solidFill>
                <a:latin typeface="微软简魏碑"/>
              </a:rPr>
              <a:t>不知命，无以为君子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简魏碑"/>
              </a:rPr>
              <a:t>不知礼，无以立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简魏碑"/>
              </a:rPr>
              <a:t>不知言，无以知人也。</a:t>
            </a:r>
            <a:r>
              <a:rPr b="0" lang="zh-CN" sz="1200" spc="-1" strike="noStrike">
                <a:solidFill>
                  <a:srgbClr val="000000"/>
                </a:solidFill>
                <a:latin typeface="微软简魏碑"/>
              </a:rPr>
              <a:t>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8720" y="620640"/>
            <a:ext cx="5616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企业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qiy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6T12:19:4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