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879-C638-46B0-B535-A3A4DC1A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C78-1A9B-420E-AC19-55FE349BD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B19-FA67-490D-9A46-3A019E12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CFA5-5C6C-4BA0-B216-904DD852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091A-5398-4FAA-9364-56072749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5CD-63EC-4AE8-AB7B-871CCB8F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C9F-3AA5-46FD-A666-49A636D0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E70-354E-4062-BC2C-AC601A49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4C6-EDCB-4D58-AEC0-7C59DF2C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E232-438C-42E8-AD0F-6B47112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367-9793-4D90-943E-1825252D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163F-09C2-4B85-AF2E-674B8DC6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7C4-1F11-418F-B449-6C339E1F65CD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860-17A5-427E-B343-3F7DC416728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144680" cy="2762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2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5040" cy="2762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2" descr=""/>
          <p:cNvPicPr/>
          <p:nvPr/>
        </p:nvPicPr>
        <p:blipFill>
          <a:blip r:embed="rId4"/>
          <a:srcRect l="0" t="0" r="8983" b="0"/>
          <a:stretch/>
        </p:blipFill>
        <p:spPr>
          <a:xfrm>
            <a:off x="301680" y="3598920"/>
            <a:ext cx="4145040" cy="303696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5"/>
          <a:stretch/>
        </p:blipFill>
        <p:spPr>
          <a:xfrm>
            <a:off x="4762440" y="3878280"/>
            <a:ext cx="4098960" cy="2732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33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8240" y="76500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人物素材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" descr=""/>
          <p:cNvPicPr/>
          <p:nvPr/>
        </p:nvPicPr>
        <p:blipFill>
          <a:blip r:embed="rId2"/>
          <a:srcRect l="2101" t="0" r="1941" b="0"/>
          <a:stretch/>
        </p:blipFill>
        <p:spPr>
          <a:xfrm>
            <a:off x="4937040" y="825480"/>
            <a:ext cx="3880080" cy="269712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3" name="图片 2" descr=""/>
          <p:cNvPicPr/>
          <p:nvPr/>
        </p:nvPicPr>
        <p:blipFill>
          <a:blip r:embed="rId3"/>
          <a:stretch/>
        </p:blipFill>
        <p:spPr>
          <a:xfrm>
            <a:off x="466560" y="822240"/>
            <a:ext cx="4313520" cy="28767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4" name="图片 4" descr=""/>
          <p:cNvPicPr/>
          <p:nvPr/>
        </p:nvPicPr>
        <p:blipFill>
          <a:blip r:embed="rId4"/>
          <a:stretch/>
        </p:blipFill>
        <p:spPr>
          <a:xfrm>
            <a:off x="314280" y="3860640"/>
            <a:ext cx="5329440" cy="273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5" name="图片 9" descr=""/>
          <p:cNvPicPr/>
          <p:nvPr/>
        </p:nvPicPr>
        <p:blipFill>
          <a:blip r:embed="rId5"/>
          <a:stretch/>
        </p:blipFill>
        <p:spPr>
          <a:xfrm>
            <a:off x="5796000" y="3699000"/>
            <a:ext cx="2986200" cy="2896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971640" y="623736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6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549360"/>
            <a:ext cx="69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305B-5D1F-4DF9-8309-685AD2523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27:59Z</dcterms:modified>
  <cp:revision>10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