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B85-BA64-4344-A003-06695842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FEF-6895-4A4D-9ECB-6E351800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44C-0083-4504-BD12-CB4C5CC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4DC-11A2-44D5-93D2-E8279483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B6C6-FA12-4916-BF28-1B889D31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61C01-1742-4568-93C2-702CF61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88FE-501B-42EF-8656-D1569B7A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FB56-5DF1-4562-A7CB-6928B147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A54D-24D2-447B-8415-561863EA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095A-1E52-4870-963B-FFAFC4F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F4469-482C-43DD-B959-E09E41D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A04-548F-4322-833D-7741C98B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C6FF3-4961-485D-BFAA-D659755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65761-3347-4799-B3DB-9304D837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A53A-5678-49D2-B6D9-A819EA15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CF39-EEB8-428A-8F44-31C645BC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E7037-9C92-4640-AA90-EB0A5B13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6F2-626D-4DC2-927F-CC14822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BBC-926A-484C-8597-A7FCA23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A1C-BC08-4506-AA53-446B30F6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49F-8AD5-4806-8C19-275CE216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F3F-6D5F-4833-845C-68A4635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C2D-69B6-4C1C-84DE-AA12882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F78-D627-4731-8BD4-27FC2550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21C-56A6-4525-BC44-BDB10231ABC4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316A-87A8-464E-BDDA-570A3604FD31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777D-4982-425C-8F60-E985536B882B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0F6-EB6A-47DB-AE36-BF4B1EF6D1D8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18108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2CC-C44C-4F94-A5C1-DA096E5B07B1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1624320" y="2133720"/>
            <a:ext cx="28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水果精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1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3"/>
          <p:cNvSpPr/>
          <p:nvPr/>
        </p:nvSpPr>
        <p:spPr>
          <a:xfrm>
            <a:off x="685800" y="685800"/>
            <a:ext cx="4724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A8A-4795-401A-A8EC-DDE54AEDF290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B0D-333F-4511-A916-5F4AD4464D90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9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0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17A5-3218-4EE1-8B45-DB59B63655D5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8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6E0-F68A-4C91-AF9A-951BDC0730D9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advTm="22000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6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3C21-65DE-4A43-AA1D-34A6A6C34E51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4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4601-32D7-4228-A198-91A546ABB336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2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406-AAB4-4854-86B7-63229D2CF23B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925B-D118-446D-A41E-ED3685139E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3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6EA-6115-423D-9F88-7D75F3EA9240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734080"/>
            <a:ext cx="7486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精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模板 </a:t>
            </a:r>
            <a:r>
              <a:rPr b="1" lang="zh-CN" sz="24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http://www.eeppt.com/moban/jingpin/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7:23:08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