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5F0-4626-48DB-92C7-6631C52C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F15-E4CF-49BC-903C-923A5FA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E53-A8F1-4037-B862-4458424A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3CD-23B3-4864-BD0C-AD21942A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8B6-525C-4D32-957F-F9BF1B40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C79-37D9-4F20-A667-DCD32689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D8B-202B-473B-8596-D6263E8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725-BABB-46A1-B399-F3662C45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C0C-F5A7-458D-AD12-9DC3B729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2EA-303F-4BCB-8301-FEB891B3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553-607C-4565-8B63-FBEAB48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741-F8CE-4511-9DB7-F5369D4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6D7A-C4B0-4DD6-9DE1-F5910602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Owner\My Documents\My Pictures\1_副本_副本.png"/>
          <p:cNvPicPr/>
          <p:nvPr/>
        </p:nvPicPr>
        <p:blipFill>
          <a:blip r:embed="rId2"/>
          <a:stretch/>
        </p:blipFill>
        <p:spPr>
          <a:xfrm rot="386400">
            <a:off x="-1692000" y="6521040"/>
            <a:ext cx="1339920" cy="687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E:\ppt模板\个人作品\鱼\gucn_2011102786630161139pic2_副本_副本_副本_副本.png"/>
          <p:cNvPicPr/>
          <p:nvPr/>
        </p:nvPicPr>
        <p:blipFill>
          <a:blip r:embed="rId3"/>
          <a:stretch/>
        </p:blipFill>
        <p:spPr>
          <a:xfrm>
            <a:off x="6095880" y="4038480"/>
            <a:ext cx="1152720" cy="74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6324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9920" y="114300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水墨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58698 -0.38945 E"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.02336 L 0.12257 -0.13483 C 0.16111 -0.16859 0.18333 -0.22017 0.18559 -0.27636 C 0.18819 -0.3395 0.171 -0.39315 0.13403 -0.43178 L -0.01667 -0.6161 E"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361-763A-47CF-AD84-F0F21C5915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31:3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4:4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