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EDAE-CBC4-4D1C-8C7D-D451B4F1D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D1F8-7895-4E43-9E66-1F704A64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FC84-6240-4C8E-84D9-A0CE0F4A4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CC68-D082-4D97-B526-A9ACBDCD5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ED79-B25C-4205-8AE6-A66554E9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6F7D-1442-4D8C-A00D-7BC377AA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F8C7-E548-47C0-AE00-B7967E14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A362-D335-49BD-B8DB-F061D3545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F690-9562-4A3F-B364-F2B62E87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8C4B-628F-41EF-983E-7239784B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F93F-1E43-4D7A-9097-A413DC69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5C3C-CEE8-4858-A991-F1564BCD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EFF8-B089-42FC-8A9F-92189C7D2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4.jpeg"/><Relationship Id="rId10" Type="http://schemas.openxmlformats.org/officeDocument/2006/relationships/image" Target="../media/image5.jpeg"/><Relationship Id="rId11" Type="http://schemas.openxmlformats.org/officeDocument/2006/relationships/image" Target="../media/image6.jpeg"/><Relationship Id="rId12" Type="http://schemas.openxmlformats.org/officeDocument/2006/relationships/image" Target="../media/image7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90800" y="2424240"/>
            <a:ext cx="5162400" cy="20095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990800" y="2424240"/>
            <a:ext cx="5162400" cy="2009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990800" y="2424240"/>
            <a:ext cx="5162400" cy="2009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990800" y="2424240"/>
            <a:ext cx="5162400" cy="2009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1990800" y="2424240"/>
            <a:ext cx="5162400" cy="2009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1990800" y="2424240"/>
            <a:ext cx="5162400" cy="2009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873080" y="728640"/>
            <a:ext cx="5399280" cy="5399280"/>
          </a:xfrm>
          <a:prstGeom prst="blockArc">
            <a:avLst>
              <a:gd name="adj1" fmla="val 11976980"/>
              <a:gd name="adj2" fmla="val 20423020"/>
              <a:gd name="adj3" fmla="val 24296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73080" y="728640"/>
            <a:ext cx="5399280" cy="5399280"/>
          </a:xfrm>
          <a:prstGeom prst="blockArc">
            <a:avLst>
              <a:gd name="adj1" fmla="val 11976980"/>
              <a:gd name="adj2" fmla="val 20423020"/>
              <a:gd name="adj3" fmla="val 24296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73080" y="728640"/>
            <a:ext cx="5399280" cy="5399280"/>
          </a:xfrm>
          <a:prstGeom prst="blockArc">
            <a:avLst>
              <a:gd name="adj1" fmla="val 11976980"/>
              <a:gd name="adj2" fmla="val 20423020"/>
              <a:gd name="adj3" fmla="val 24296"/>
            </a:avLst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73080" y="728640"/>
            <a:ext cx="5399280" cy="5399280"/>
          </a:xfrm>
          <a:prstGeom prst="blockArc">
            <a:avLst>
              <a:gd name="adj1" fmla="val 11976980"/>
              <a:gd name="adj2" fmla="val 20423020"/>
              <a:gd name="adj3" fmla="val 24296"/>
            </a:avLst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"/>
          <p:cNvSpPr/>
          <p:nvPr/>
        </p:nvSpPr>
        <p:spPr>
          <a:xfrm>
            <a:off x="1873080" y="728640"/>
            <a:ext cx="5399280" cy="5399280"/>
          </a:xfrm>
          <a:prstGeom prst="blockArc">
            <a:avLst>
              <a:gd name="adj1" fmla="val 11976980"/>
              <a:gd name="adj2" fmla="val 20423020"/>
              <a:gd name="adj3" fmla="val 24296"/>
            </a:avLst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1854360" y="706320"/>
            <a:ext cx="5435280" cy="5445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1990800" y="2424240"/>
            <a:ext cx="5162400" cy="2009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535640" y="339264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323240" y="2486520"/>
            <a:ext cx="498960" cy="1886040"/>
            <a:chOff x="4323240" y="2486520"/>
            <a:chExt cx="498960" cy="1886040"/>
          </a:xfrm>
        </p:grpSpPr>
        <p:grpSp>
          <p:nvGrpSpPr>
            <p:cNvPr id="56" name=""/>
            <p:cNvGrpSpPr/>
            <p:nvPr/>
          </p:nvGrpSpPr>
          <p:grpSpPr>
            <a:xfrm>
              <a:off x="4323240" y="3429000"/>
              <a:ext cx="342720" cy="943560"/>
              <a:chOff x="4323240" y="3429000"/>
              <a:chExt cx="342720" cy="943560"/>
            </a:xfrm>
          </p:grpSpPr>
          <p:sp>
            <p:nvSpPr>
              <p:cNvPr id="57" name=""/>
              <p:cNvSpPr/>
              <p:nvPr/>
            </p:nvSpPr>
            <p:spPr>
              <a:xfrm flipH="1">
                <a:off x="4523760" y="3429000"/>
                <a:ext cx="49680" cy="28296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4332960" y="3677760"/>
                <a:ext cx="333000" cy="332640"/>
                <a:chOff x="4332960" y="3677760"/>
                <a:chExt cx="333000" cy="332640"/>
              </a:xfrm>
            </p:grpSpPr>
            <p:sp>
              <p:nvSpPr>
                <p:cNvPr id="59" name=""/>
                <p:cNvSpPr/>
                <p:nvPr/>
              </p:nvSpPr>
              <p:spPr>
                <a:xfrm rot="600000">
                  <a:off x="4355640" y="3700440"/>
                  <a:ext cx="287280" cy="287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66"/>
                    </a:gs>
                    <a:gs pos="100000">
                      <a:srgbClr val="ff99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600000">
                  <a:off x="4464000" y="3807000"/>
                  <a:ext cx="73080" cy="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fefe">
                        <a:alpha val="8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4323240" y="3954600"/>
                <a:ext cx="266760" cy="266400"/>
                <a:chOff x="4323240" y="3954600"/>
                <a:chExt cx="266760" cy="266400"/>
              </a:xfrm>
            </p:grpSpPr>
            <p:sp>
              <p:nvSpPr>
                <p:cNvPr id="62" name=""/>
                <p:cNvSpPr/>
                <p:nvPr/>
              </p:nvSpPr>
              <p:spPr>
                <a:xfrm rot="600000">
                  <a:off x="4341240" y="3972600"/>
                  <a:ext cx="230400" cy="23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66"/>
                    </a:gs>
                    <a:gs pos="100000">
                      <a:srgbClr val="ff99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600000">
                  <a:off x="4427640" y="4057560"/>
                  <a:ext cx="58320" cy="5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fefe">
                        <a:alpha val="8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4324320" y="4172400"/>
                <a:ext cx="200160" cy="200160"/>
                <a:chOff x="4324320" y="4172400"/>
                <a:chExt cx="200160" cy="200160"/>
              </a:xfrm>
            </p:grpSpPr>
            <p:sp>
              <p:nvSpPr>
                <p:cNvPr id="65" name=""/>
                <p:cNvSpPr/>
                <p:nvPr/>
              </p:nvSpPr>
              <p:spPr>
                <a:xfrm rot="600000">
                  <a:off x="4337640" y="4186080"/>
                  <a:ext cx="172800" cy="17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66"/>
                    </a:gs>
                    <a:gs pos="100000">
                      <a:srgbClr val="ff99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 rot="600000">
                  <a:off x="4402440" y="4249440"/>
                  <a:ext cx="43920" cy="4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fefe">
                        <a:alpha val="8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" name=""/>
            <p:cNvGrpSpPr/>
            <p:nvPr/>
          </p:nvGrpSpPr>
          <p:grpSpPr>
            <a:xfrm>
              <a:off x="4479480" y="2486520"/>
              <a:ext cx="342720" cy="943560"/>
              <a:chOff x="4479480" y="2486520"/>
              <a:chExt cx="342720" cy="943560"/>
            </a:xfrm>
          </p:grpSpPr>
          <p:sp>
            <p:nvSpPr>
              <p:cNvPr id="68" name=""/>
              <p:cNvSpPr/>
              <p:nvPr/>
            </p:nvSpPr>
            <p:spPr>
              <a:xfrm flipV="1">
                <a:off x="4573440" y="3147120"/>
                <a:ext cx="49680" cy="282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" name=""/>
              <p:cNvGrpSpPr/>
              <p:nvPr/>
            </p:nvGrpSpPr>
            <p:grpSpPr>
              <a:xfrm>
                <a:off x="4479480" y="2848680"/>
                <a:ext cx="333000" cy="332640"/>
                <a:chOff x="4479480" y="2848680"/>
                <a:chExt cx="333000" cy="332640"/>
              </a:xfrm>
            </p:grpSpPr>
            <p:sp>
              <p:nvSpPr>
                <p:cNvPr id="70" name=""/>
                <p:cNvSpPr/>
                <p:nvPr/>
              </p:nvSpPr>
              <p:spPr>
                <a:xfrm flipV="1" rot="600000">
                  <a:off x="4502160" y="2871360"/>
                  <a:ext cx="287280" cy="2872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 flipV="1" rot="600000">
                  <a:off x="4610160" y="2978640"/>
                  <a:ext cx="73080" cy="730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4555440" y="2638080"/>
                <a:ext cx="266760" cy="266400"/>
                <a:chOff x="4555440" y="2638080"/>
                <a:chExt cx="266760" cy="266400"/>
              </a:xfrm>
            </p:grpSpPr>
            <p:sp>
              <p:nvSpPr>
                <p:cNvPr id="73" name=""/>
                <p:cNvSpPr/>
                <p:nvPr/>
              </p:nvSpPr>
              <p:spPr>
                <a:xfrm flipV="1" rot="600000">
                  <a:off x="4573440" y="2656080"/>
                  <a:ext cx="230400" cy="23004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 flipV="1" rot="600000">
                  <a:off x="4659480" y="2742480"/>
                  <a:ext cx="58320" cy="58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4621320" y="2486520"/>
                <a:ext cx="200160" cy="200160"/>
                <a:chOff x="4621320" y="2486520"/>
                <a:chExt cx="200160" cy="200160"/>
              </a:xfrm>
            </p:grpSpPr>
            <p:sp>
              <p:nvSpPr>
                <p:cNvPr id="76" name=""/>
                <p:cNvSpPr/>
                <p:nvPr/>
              </p:nvSpPr>
              <p:spPr>
                <a:xfrm flipV="1" rot="600000">
                  <a:off x="4635000" y="2499840"/>
                  <a:ext cx="172800" cy="1728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V="1" rot="600000">
                  <a:off x="4699440" y="2565000"/>
                  <a:ext cx="43920" cy="439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8" name=""/>
          <p:cNvSpPr/>
          <p:nvPr/>
        </p:nvSpPr>
        <p:spPr>
          <a:xfrm>
            <a:off x="1835280" y="115920"/>
            <a:ext cx="59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8720" y="2062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39920" y="765000"/>
            <a:ext cx="26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扇子动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8400000">
                                      <p:cBhvr>
                                        <p:cTn id="6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8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10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800000">
                                      <p:cBhvr>
                                        <p:cTn id="14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6000000">
                                      <p:cBhvr>
                                        <p:cTn id="16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7200000">
                                      <p:cBhvr>
                                        <p:cTn id="18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1199819">
                                      <p:cBhvr>
                                        <p:cTn id="20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B99F-083E-4FD8-BB64-DB9973424E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09:09:0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08:28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