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7.wmf" ContentType="image/x-wmf"/>
  <Override PartName="/ppt/media/image2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9D9-5920-4A21-A657-E71736CC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A8C-A82B-438F-A23D-D43A8A76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DA1-5936-4C37-93BE-7C211B3A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EEE-3CA8-4374-AD4A-16670F9B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29F-8270-4CE6-A679-ADF9EDB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87F-BCCB-4CFD-B18D-AEB41C28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399-3376-4FC1-8EA5-BEB2F3A0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EF8-655C-452E-8F98-559314A4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56E-D65A-402F-A9EE-0E6E642C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DF2-D182-4F60-9BD8-293C7664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8CC-A125-4E05-B91E-8BCF06AD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23E-243D-4337-8B57-E005B20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1E07-CF5D-460F-BE8C-B065C5DDD0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图片1"/>
          <p:cNvPicPr/>
          <p:nvPr/>
        </p:nvPicPr>
        <p:blipFill>
          <a:blip r:embed="rId3"/>
          <a:stretch/>
        </p:blipFill>
        <p:spPr>
          <a:xfrm>
            <a:off x="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52480" y="3200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09680" y="1676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天窗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179280" y="76320"/>
          <a:ext cx="8964720" cy="6114960"/>
        </p:xfrm>
        <a:graphic>
          <a:graphicData uri="http://schemas.openxmlformats.org/drawingml/2006/table">
            <a:tbl>
              <a:tblPr/>
              <a:tblGrid>
                <a:gridCol w="4484520"/>
                <a:gridCol w="448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看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想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雨脚在那里卜落卜落跳，带子似的闪电一划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这雨，这风，这雷、这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怎样猛烈地扫荡了这世界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它们的威力比你在露天真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感到的要大这么十倍百倍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一颗星，一朵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无数闪闪烁烁可爱的星；无数像山似的，马似的，巨人似的，奇幻的云彩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掠过的一条黑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这也许是灰色的蝙蝠，也许是会唱歌的夜莺，也许是恶霸似的猫头鹰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挥想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我会从那小玻璃上面的一颗星，想象到无数闪闪烁烁可爱的星，它们（              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我会从那小玻璃上面的一朵云，想象到无数奇幻的云彩，有的像（           ）的山，有的像（       ）的马，有的像（             ）的巨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为什么说天窗是神奇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活泼会想的孩子们会知道怎样通过天窗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比任凭他看到的更真切，更阔达，更复杂，更确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整体感知"/>
          <p:cNvPicPr/>
          <p:nvPr/>
        </p:nvPicPr>
        <p:blipFill>
          <a:blip r:embed="rId2"/>
          <a:stretch/>
        </p:blipFill>
        <p:spPr>
          <a:xfrm>
            <a:off x="685800" y="838080"/>
            <a:ext cx="2017800" cy="417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为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小小的天窗是孩子们唯一的慰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呢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孩子们跟着木板窗的关闭也就被关在地洞似的屋里的时候，天窗给漆黑的屋子带来的仅有的光明，通过天窗看见了雨点、闪电、星星、云彩。这些都是孩子们唯一的慰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整体感知"/>
          <p:cNvPicPr/>
          <p:nvPr/>
        </p:nvPicPr>
        <p:blipFill>
          <a:blip r:embed="rId2"/>
          <a:stretch/>
        </p:blipFill>
        <p:spPr>
          <a:xfrm>
            <a:off x="762120" y="838080"/>
            <a:ext cx="2017440" cy="41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透过这扇天窗，文中的孩子看到了什么？又想到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阅读质疑"/>
          <p:cNvPicPr/>
          <p:nvPr/>
        </p:nvPicPr>
        <p:blipFill>
          <a:blip r:embed="rId2"/>
          <a:stretch/>
        </p:blipFill>
        <p:spPr>
          <a:xfrm>
            <a:off x="1219320" y="762120"/>
            <a:ext cx="2962080" cy="168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因为活泼会想的孩子们会知道怎样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比任凭他看到的更真切，更阔达，更复杂，更确实！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怎么理解这段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感受领悟"/>
          <p:cNvPicPr/>
          <p:nvPr/>
        </p:nvPicPr>
        <p:blipFill>
          <a:blip r:embed="rId2"/>
          <a:stretch/>
        </p:blipFill>
        <p:spPr>
          <a:xfrm>
            <a:off x="685800" y="838080"/>
            <a:ext cx="1890720" cy="513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4F0-3732-472E-8590-D31C668FB28F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图片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窗外雨景１"/>
          <p:cNvPicPr/>
          <p:nvPr/>
        </p:nvPicPr>
        <p:blipFill>
          <a:blip r:embed="rId3"/>
          <a:stretch/>
        </p:blipFill>
        <p:spPr>
          <a:xfrm>
            <a:off x="838080" y="1295280"/>
            <a:ext cx="3200400" cy="154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窗外雨竟２"/>
          <p:cNvPicPr/>
          <p:nvPr/>
        </p:nvPicPr>
        <p:blipFill>
          <a:blip r:embed="rId4"/>
          <a:stretch/>
        </p:blipFill>
        <p:spPr>
          <a:xfrm>
            <a:off x="4495680" y="1295280"/>
            <a:ext cx="3110040" cy="152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雪景３"/>
          <p:cNvPicPr/>
          <p:nvPr/>
        </p:nvPicPr>
        <p:blipFill>
          <a:blip r:embed="rId5"/>
          <a:stretch/>
        </p:blipFill>
        <p:spPr>
          <a:xfrm>
            <a:off x="914400" y="3200400"/>
            <a:ext cx="3124080" cy="160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雪景４"/>
          <p:cNvPicPr/>
          <p:nvPr/>
        </p:nvPicPr>
        <p:blipFill>
          <a:blip r:embed="rId6"/>
          <a:stretch/>
        </p:blipFill>
        <p:spPr>
          <a:xfrm>
            <a:off x="4495680" y="3124080"/>
            <a:ext cx="3048120" cy="1704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324000" y="479736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下雨了或下雪了，透过玻璃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说说你看到了什么？想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拓展学习"/>
          <p:cNvPicPr/>
          <p:nvPr/>
        </p:nvPicPr>
        <p:blipFill>
          <a:blip r:embed="rId7"/>
          <a:stretch/>
        </p:blipFill>
        <p:spPr>
          <a:xfrm>
            <a:off x="0" y="0"/>
            <a:ext cx="3565440" cy="88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图片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乘汽车或乘火车、乘飞机时，透过玻璃窗，说说你看到什么，又想到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APOOV19"/>
          <p:cNvPicPr/>
          <p:nvPr/>
        </p:nvPicPr>
        <p:blipFill>
          <a:blip r:embed="rId3"/>
          <a:stretch/>
        </p:blipFill>
        <p:spPr>
          <a:xfrm>
            <a:off x="5105520" y="4419720"/>
            <a:ext cx="2743200" cy="1477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车窗外景色２"/>
          <p:cNvPicPr/>
          <p:nvPr/>
        </p:nvPicPr>
        <p:blipFill>
          <a:blip r:embed="rId4"/>
          <a:stretch/>
        </p:blipFill>
        <p:spPr>
          <a:xfrm>
            <a:off x="1523880" y="4419720"/>
            <a:ext cx="2743200" cy="1519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飞机窗外１"/>
          <p:cNvPicPr/>
          <p:nvPr/>
        </p:nvPicPr>
        <p:blipFill>
          <a:blip r:embed="rId5"/>
          <a:stretch/>
        </p:blipFill>
        <p:spPr>
          <a:xfrm>
            <a:off x="1600200" y="2514600"/>
            <a:ext cx="251460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车窗外"/>
          <p:cNvPicPr/>
          <p:nvPr/>
        </p:nvPicPr>
        <p:blipFill>
          <a:blip r:embed="rId6"/>
          <a:stretch/>
        </p:blipFill>
        <p:spPr>
          <a:xfrm>
            <a:off x="5029200" y="2514600"/>
            <a:ext cx="2593800" cy="134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06640" y="626904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971440" y="762120"/>
            <a:ext cx="57913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茅盾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89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981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，本名沈德鸿，字雁冰，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896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日生于浙江桐乡县乌镇。中国二十世纪文学史上著名小说家、文学批评家。一生创作了大量的文学作品，具有很高的艺术成就。主要作品有：长篇小说《蚀》、《虹》、《子夜》、《第一阶段的故事》、《腐蚀》、《霜叶红似二月花》；中篇小说《路》、《三人行》；短篇小说《春蚕》、《秋收》、《残冬》、《林家铺子》等。其代表作《子夜》，是中国现代现实主义文学发展的里程碑，显示了现代文学在长篇小说创作方面的成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a6aed01bb7dab2e1ae51334c"/>
          <p:cNvPicPr/>
          <p:nvPr/>
        </p:nvPicPr>
        <p:blipFill>
          <a:blip r:embed="rId2"/>
          <a:stretch/>
        </p:blipFill>
        <p:spPr>
          <a:xfrm>
            <a:off x="609480" y="1066680"/>
            <a:ext cx="2629080" cy="364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914400" y="4952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乡下的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创设情境"/>
          <p:cNvPicPr/>
          <p:nvPr/>
        </p:nvPicPr>
        <p:blipFill>
          <a:blip r:embed="rId2"/>
          <a:stretch/>
        </p:blipFill>
        <p:spPr>
          <a:xfrm>
            <a:off x="838080" y="0"/>
            <a:ext cx="3140280" cy="861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乡下的房子"/>
          <p:cNvPicPr/>
          <p:nvPr/>
        </p:nvPicPr>
        <p:blipFill>
          <a:blip r:embed="rId3"/>
          <a:stretch/>
        </p:blipFill>
        <p:spPr>
          <a:xfrm>
            <a:off x="1447920" y="9907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5480" y="472392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天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天窗"/>
          <p:cNvPicPr/>
          <p:nvPr/>
        </p:nvPicPr>
        <p:blipFill>
          <a:blip r:embed="rId2"/>
          <a:stretch/>
        </p:blipFill>
        <p:spPr>
          <a:xfrm>
            <a:off x="1371600" y="914400"/>
            <a:ext cx="6019920" cy="403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词义：慰藉、神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讨论课后练习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读句子，体会比喻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例：屋子里就黑得像地洞里似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月亮圆得像玉盘似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66320" y="3352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藉    蝙    蝠    霸     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读一读"/>
          <p:cNvPicPr/>
          <p:nvPr/>
        </p:nvPicPr>
        <p:blipFill>
          <a:blip r:embed="rId2"/>
          <a:stretch/>
        </p:blipFill>
        <p:spPr>
          <a:xfrm>
            <a:off x="990720" y="0"/>
            <a:ext cx="2114280" cy="2514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1143000" y="3429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i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3372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352680" y="3429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3429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410080" y="344340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òu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6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2060280"/>
            <a:ext cx="89917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读例句，并找出文中相同的句式，学习本体和喻体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屋子里就黑得像地洞里似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造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……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像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……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似的。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028"/>
          <p:cNvSpPr txBox="1"/>
          <p:nvPr/>
        </p:nvSpPr>
        <p:spPr>
          <a:xfrm>
            <a:off x="228600" y="380880"/>
            <a:ext cx="3048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语言训练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写近义词、反义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暖和（     ）  慰藉（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丰富（     ）  奇幻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也许（     ）  广阔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真实（     ）  猛烈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伸 （        ）  仰 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应当（     ）  真切（     ）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复杂（      ）  虚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乡下人在屋顶上面开一个小方洞，装了一块玻璃，叫做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(                )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21:23:5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2:40:00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