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8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2.png" ContentType="image/png"/>
  <Override PartName="/ppt/media/image23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3DA-D472-4B13-9170-B5A48407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FEB-7AB4-45EA-B895-13F75872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C55-8B2B-4B16-8C60-8820F083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706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408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706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EE5-FDF2-45D0-B22D-011CE2C9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3548-FE19-4EB7-919E-883092D8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1A0D-7B75-4FCE-8901-0D02B9C2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756C-4F43-4D21-A43E-192A17F4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6088-27F6-43F2-8976-090C920F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AE74-F10F-4ADB-9061-B78E748E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ABF5-A191-4402-A902-0D9861F6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7623-FAA2-4C4D-BFFB-1BA29080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B041-9918-4070-80DA-A4C121F2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9E39-B7E7-4F50-996B-C96EEA90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A131-9EA5-46ED-9440-54CD1CCA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202F-3A22-49FB-BC87-B2C3A715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BE68-F4BA-4FA6-ADC6-BBAC64D0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706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1408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706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8FDE-BFC4-4AAD-B870-0B5421BC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B14-D0D4-4F85-A667-7E099AA2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844-4703-4C3A-A33A-C7124F80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B0B-399D-49E1-A315-93ACDD24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39F-2529-4F6A-8E90-F282FA25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77C-2BFE-48E9-A3C9-9E16A9F2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CA1-DA53-4209-B108-BAE6343C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5C0-02F6-4CA7-AFCA-15524081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68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3" name="Oval 5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>
              <a:off x="7308720" y="189000"/>
              <a:ext cx="1440000" cy="144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73964" dir="186356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8034120" y="446040"/>
              <a:ext cx="662040" cy="927360"/>
            </a:xfrm>
            <a:custGeom>
              <a:avLst/>
              <a:gdLst/>
              <a:ahLst/>
              <a:rect l="l" t="t" r="r" b="b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572240" y="236520"/>
              <a:ext cx="888840" cy="649440"/>
            </a:xfrm>
            <a:custGeom>
              <a:avLst/>
              <a:gdLst/>
              <a:ahLst/>
              <a:rect l="l" t="t" r="r" b="b"/>
              <a:pathLst>
                <a:path w="1810" h="1375">
                  <a:moveTo>
                    <a:pt x="905" y="1375"/>
                  </a:moveTo>
                  <a:lnTo>
                    <a:pt x="1810" y="395"/>
                  </a:lnTo>
                  <a:cubicBezTo>
                    <a:pt x="1612" y="176"/>
                    <a:pt x="1300" y="0"/>
                    <a:pt x="876" y="24"/>
                  </a:cubicBezTo>
                  <a:cubicBezTo>
                    <a:pt x="452" y="48"/>
                    <a:pt x="252" y="149"/>
                    <a:pt x="0" y="396"/>
                  </a:cubicBezTo>
                  <a:lnTo>
                    <a:pt x="905" y="1375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7338960" y="453960"/>
              <a:ext cx="652320" cy="903600"/>
            </a:xfrm>
            <a:custGeom>
              <a:avLst/>
              <a:gdLst/>
              <a:ahLst/>
              <a:rect l="l" t="t" r="r" b="b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7559640" y="925560"/>
              <a:ext cx="915840" cy="660600"/>
            </a:xfrm>
            <a:custGeom>
              <a:avLst/>
              <a:gdLst/>
              <a:ahLst/>
              <a:rect l="l" t="t" r="r" b="b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99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457200" y="837720"/>
            <a:ext cx="6324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02D7-2AC1-4418-9E79-B0DB0B658F6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e68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258920" y="4508640"/>
            <a:ext cx="4248000" cy="1800000"/>
          </a:xfrm>
          <a:prstGeom prst="ellipse">
            <a:avLst/>
          </a:prstGeom>
          <a:gradFill rotWithShape="0">
            <a:gsLst>
              <a:gs pos="0">
                <a:srgbClr val="e68402"/>
              </a:gs>
              <a:gs pos="100000">
                <a:srgbClr val="6a3d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276120" y="1255680"/>
            <a:ext cx="4656240" cy="4836960"/>
            <a:chOff x="276120" y="1255680"/>
            <a:chExt cx="4656240" cy="4836960"/>
          </a:xfrm>
        </p:grpSpPr>
        <p:sp>
          <p:nvSpPr>
            <p:cNvPr id="54" name="Oval 11"/>
            <p:cNvSpPr/>
            <p:nvPr/>
          </p:nvSpPr>
          <p:spPr>
            <a:xfrm>
              <a:off x="276120" y="1255680"/>
              <a:ext cx="4656240" cy="483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2675" dir="323941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2625480" y="2119320"/>
              <a:ext cx="2140200" cy="3116160"/>
            </a:xfrm>
            <a:custGeom>
              <a:avLst/>
              <a:gdLst/>
              <a:ahLst/>
              <a:rect l="l" t="t" r="r" b="b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130040" y="1415880"/>
              <a:ext cx="2873520" cy="2183040"/>
            </a:xfrm>
            <a:custGeom>
              <a:avLst/>
              <a:gdLst/>
              <a:ahLst/>
              <a:rect l="l" t="t" r="r" b="b"/>
              <a:pathLst>
                <a:path w="1810" h="1375">
                  <a:moveTo>
                    <a:pt x="905" y="1375"/>
                  </a:moveTo>
                  <a:lnTo>
                    <a:pt x="1810" y="395"/>
                  </a:lnTo>
                  <a:cubicBezTo>
                    <a:pt x="1612" y="176"/>
                    <a:pt x="1300" y="0"/>
                    <a:pt x="876" y="24"/>
                  </a:cubicBezTo>
                  <a:cubicBezTo>
                    <a:pt x="452" y="48"/>
                    <a:pt x="252" y="149"/>
                    <a:pt x="0" y="396"/>
                  </a:cubicBezTo>
                  <a:lnTo>
                    <a:pt x="905" y="1375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76200" y="2147760"/>
              <a:ext cx="2103480" cy="3032280"/>
            </a:xfrm>
            <a:custGeom>
              <a:avLst/>
              <a:gdLst/>
              <a:ahLst/>
              <a:rect l="l" t="t" r="r" b="b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085760" y="3730680"/>
              <a:ext cx="2962440" cy="2219400"/>
            </a:xfrm>
            <a:custGeom>
              <a:avLst/>
              <a:gdLst/>
              <a:ahLst/>
              <a:rect l="l" t="t" r="r" b="b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1806480" y="2954160"/>
              <a:ext cx="1655640" cy="165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7"/>
            <p:cNvSpPr/>
            <p:nvPr/>
          </p:nvSpPr>
          <p:spPr>
            <a:xfrm>
              <a:off x="2030760" y="3556080"/>
              <a:ext cx="120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99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BC03-DBA5-474B-A3B1-DA3313C63878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impresswatch.com.cn/TLimages/picview/impresspic.htm?/imagelist/2007/166/79rcsi8xcw5k.jpg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www.impresswatch.com.cn/TLimages/picview/impresspic.htm?/imagelist/2007/166/bwzukmi01s4r.jpg" TargetMode="External"/><Relationship Id="rId5" Type="http://schemas.openxmlformats.org/officeDocument/2006/relationships/image" Target="../media/image28.jpeg"/><Relationship Id="rId6" Type="http://schemas.openxmlformats.org/officeDocument/2006/relationships/hyperlink" Target="http://img3.3lian.com:8880/2006/008/06/107.jpg" TargetMode="External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9880" y="630720"/>
            <a:ext cx="5029200" cy="2014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3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6516720" y="5950080"/>
            <a:ext cx="431640" cy="431640"/>
          </a:xfrm>
          <a:prstGeom prst="ellipse">
            <a:avLst/>
          </a:prstGeom>
          <a:gradFill rotWithShape="0">
            <a:gsLst>
              <a:gs pos="0">
                <a:srgbClr val="e68402"/>
              </a:gs>
              <a:gs pos="100000">
                <a:srgbClr val="844c0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304760" y="5950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**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高级中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395280" y="1413000"/>
            <a:ext cx="4464000" cy="4537080"/>
            <a:chOff x="395280" y="1413000"/>
            <a:chExt cx="4464000" cy="4537080"/>
          </a:xfrm>
        </p:grpSpPr>
        <p:sp>
          <p:nvSpPr>
            <p:cNvPr id="106" name="Oval 6"/>
            <p:cNvSpPr/>
            <p:nvPr/>
          </p:nvSpPr>
          <p:spPr>
            <a:xfrm>
              <a:off x="395280" y="1413000"/>
              <a:ext cx="4464000" cy="453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7" descr="GT标志副本"/>
            <p:cNvPicPr/>
            <p:nvPr/>
          </p:nvPicPr>
          <p:blipFill>
            <a:blip r:embed="rId1"/>
            <a:stretch/>
          </p:blipFill>
          <p:spPr>
            <a:xfrm>
              <a:off x="611280" y="1822680"/>
              <a:ext cx="3960720" cy="391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8"/>
          <p:cNvSpPr/>
          <p:nvPr/>
        </p:nvSpPr>
        <p:spPr>
          <a:xfrm>
            <a:off x="6046200" y="38606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导 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9520" y="3124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8200" y="909720"/>
            <a:ext cx="43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通用技术课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演示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4402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什么是通用技术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133720" y="2492280"/>
            <a:ext cx="4724280" cy="685800"/>
            <a:chOff x="2133720" y="2492280"/>
            <a:chExt cx="4724280" cy="685800"/>
          </a:xfrm>
        </p:grpSpPr>
        <p:sp>
          <p:nvSpPr>
            <p:cNvPr id="222" name="AutoShape 5"/>
            <p:cNvSpPr/>
            <p:nvPr/>
          </p:nvSpPr>
          <p:spPr>
            <a:xfrm>
              <a:off x="2514600" y="2611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8402"/>
                </a:gs>
                <a:gs pos="100000">
                  <a:srgbClr val="fae5c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6"/>
            <p:cNvSpPr/>
            <p:nvPr/>
          </p:nvSpPr>
          <p:spPr>
            <a:xfrm>
              <a:off x="2133720" y="2492280"/>
              <a:ext cx="685800" cy="685800"/>
            </a:xfrm>
            <a:prstGeom prst="diamond">
              <a:avLst/>
            </a:prstGeom>
            <a:solidFill>
              <a:srgbClr val="e684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"/>
            <p:cNvSpPr/>
            <p:nvPr/>
          </p:nvSpPr>
          <p:spPr>
            <a:xfrm>
              <a:off x="2743200" y="2666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一门立足实践的课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289600" y="2590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9"/>
          <p:cNvGrpSpPr/>
          <p:nvPr/>
        </p:nvGrpSpPr>
        <p:grpSpPr>
          <a:xfrm>
            <a:off x="2133720" y="4221000"/>
            <a:ext cx="4724280" cy="685800"/>
            <a:chOff x="2133720" y="4221000"/>
            <a:chExt cx="4724280" cy="685800"/>
          </a:xfrm>
        </p:grpSpPr>
        <p:sp>
          <p:nvSpPr>
            <p:cNvPr id="227" name="AutoShape 10"/>
            <p:cNvSpPr/>
            <p:nvPr/>
          </p:nvSpPr>
          <p:spPr>
            <a:xfrm>
              <a:off x="2514600" y="4340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640b6"/>
                </a:gs>
                <a:gs pos="100000">
                  <a:srgbClr val="ced7f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1"/>
            <p:cNvSpPr/>
            <p:nvPr/>
          </p:nvSpPr>
          <p:spPr>
            <a:xfrm>
              <a:off x="2133720" y="4221000"/>
              <a:ext cx="685800" cy="685800"/>
            </a:xfrm>
            <a:prstGeom prst="diamond">
              <a:avLst/>
            </a:prstGeom>
            <a:solidFill>
              <a:srgbClr val="33996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2"/>
            <p:cNvSpPr/>
            <p:nvPr/>
          </p:nvSpPr>
          <p:spPr>
            <a:xfrm>
              <a:off x="2743200" y="43956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一门注重创造的课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"/>
            <p:cNvSpPr/>
            <p:nvPr/>
          </p:nvSpPr>
          <p:spPr>
            <a:xfrm>
              <a:off x="2289600" y="431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4"/>
          <p:cNvGrpSpPr/>
          <p:nvPr/>
        </p:nvGrpSpPr>
        <p:grpSpPr>
          <a:xfrm>
            <a:off x="2133720" y="5083200"/>
            <a:ext cx="4724280" cy="685800"/>
            <a:chOff x="2133720" y="5083200"/>
            <a:chExt cx="4724280" cy="685800"/>
          </a:xfrm>
        </p:grpSpPr>
        <p:sp>
          <p:nvSpPr>
            <p:cNvPr id="232" name="AutoShape 15"/>
            <p:cNvSpPr/>
            <p:nvPr/>
          </p:nvSpPr>
          <p:spPr>
            <a:xfrm>
              <a:off x="2514600" y="520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e88e4"/>
                </a:gs>
                <a:gs pos="100000">
                  <a:srgbClr val="e4e6f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6"/>
            <p:cNvSpPr/>
            <p:nvPr/>
          </p:nvSpPr>
          <p:spPr>
            <a:xfrm>
              <a:off x="2133720" y="5083200"/>
              <a:ext cx="685800" cy="685800"/>
            </a:xfrm>
            <a:prstGeom prst="diamond">
              <a:avLst/>
            </a:prstGeom>
            <a:solidFill>
              <a:srgbClr val="7e88e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7"/>
            <p:cNvSpPr/>
            <p:nvPr/>
          </p:nvSpPr>
          <p:spPr>
            <a:xfrm>
              <a:off x="2743200" y="525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一门科学与人文融合的课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8"/>
            <p:cNvSpPr/>
            <p:nvPr/>
          </p:nvSpPr>
          <p:spPr>
            <a:xfrm>
              <a:off x="2289600" y="518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9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237" name="Oval 20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21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Rectangle 22"/>
          <p:cNvSpPr/>
          <p:nvPr/>
        </p:nvSpPr>
        <p:spPr>
          <a:xfrm>
            <a:off x="324000" y="14842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用技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课程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3"/>
          <p:cNvSpPr/>
          <p:nvPr/>
        </p:nvSpPr>
        <p:spPr>
          <a:xfrm>
            <a:off x="468360" y="907920"/>
            <a:ext cx="18716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4"/>
          <p:cNvSpPr/>
          <p:nvPr/>
        </p:nvSpPr>
        <p:spPr>
          <a:xfrm>
            <a:off x="7524720" y="6453360"/>
            <a:ext cx="1295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5"/>
          <p:cNvGrpSpPr/>
          <p:nvPr/>
        </p:nvGrpSpPr>
        <p:grpSpPr>
          <a:xfrm>
            <a:off x="2124000" y="3357720"/>
            <a:ext cx="4724280" cy="685800"/>
            <a:chOff x="2124000" y="3357720"/>
            <a:chExt cx="4724280" cy="685800"/>
          </a:xfrm>
        </p:grpSpPr>
        <p:sp>
          <p:nvSpPr>
            <p:cNvPr id="243" name="AutoShape 26"/>
            <p:cNvSpPr/>
            <p:nvPr/>
          </p:nvSpPr>
          <p:spPr>
            <a:xfrm>
              <a:off x="2504880" y="3476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c331"/>
                </a:gs>
                <a:gs pos="100000">
                  <a:srgbClr val="e8f2d3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27"/>
            <p:cNvSpPr/>
            <p:nvPr/>
          </p:nvSpPr>
          <p:spPr>
            <a:xfrm>
              <a:off x="2124000" y="3357720"/>
              <a:ext cx="685800" cy="685800"/>
            </a:xfrm>
            <a:prstGeom prst="diamond">
              <a:avLst/>
            </a:prstGeom>
            <a:solidFill>
              <a:srgbClr val="92c33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8"/>
            <p:cNvSpPr/>
            <p:nvPr/>
          </p:nvSpPr>
          <p:spPr>
            <a:xfrm>
              <a:off x="2771640" y="35006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一门高度综合的课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9"/>
            <p:cNvSpPr/>
            <p:nvPr/>
          </p:nvSpPr>
          <p:spPr>
            <a:xfrm>
              <a:off x="2279880" y="3456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2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未知"/>
          <p:cNvSpPr/>
          <p:nvPr/>
        </p:nvSpPr>
        <p:spPr>
          <a:xfrm rot="20241600">
            <a:off x="755280" y="2349360"/>
            <a:ext cx="7486560" cy="36007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8e8e8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1547640" y="3068640"/>
            <a:ext cx="1141560" cy="1101600"/>
            <a:chOff x="1547640" y="3068640"/>
            <a:chExt cx="1141560" cy="1101600"/>
          </a:xfrm>
        </p:grpSpPr>
        <p:sp>
          <p:nvSpPr>
            <p:cNvPr id="251" name="Oval 4"/>
            <p:cNvSpPr/>
            <p:nvPr/>
          </p:nvSpPr>
          <p:spPr>
            <a:xfrm>
              <a:off x="1547640" y="306864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2c331"/>
                </a:gs>
                <a:gs pos="100000">
                  <a:srgbClr val="2e3d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5"/>
            <p:cNvSpPr/>
            <p:nvPr/>
          </p:nvSpPr>
          <p:spPr>
            <a:xfrm>
              <a:off x="1821960" y="328464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建筑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其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6"/>
          <p:cNvGrpSpPr/>
          <p:nvPr/>
        </p:nvGrpSpPr>
        <p:grpSpPr>
          <a:xfrm>
            <a:off x="6156360" y="1628640"/>
            <a:ext cx="1079640" cy="1103400"/>
            <a:chOff x="6156360" y="1628640"/>
            <a:chExt cx="1079640" cy="1103400"/>
          </a:xfrm>
        </p:grpSpPr>
        <p:sp>
          <p:nvSpPr>
            <p:cNvPr id="254" name="Oval 7"/>
            <p:cNvSpPr/>
            <p:nvPr/>
          </p:nvSpPr>
          <p:spPr>
            <a:xfrm>
              <a:off x="6156360" y="162864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7e88e4"/>
                </a:gs>
                <a:gs pos="100000">
                  <a:srgbClr val="2b2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"/>
            <p:cNvSpPr/>
            <p:nvPr/>
          </p:nvSpPr>
          <p:spPr>
            <a:xfrm>
              <a:off x="6343920" y="1844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汽车驾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及保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9"/>
          <p:cNvGrpSpPr/>
          <p:nvPr/>
        </p:nvGrpSpPr>
        <p:grpSpPr>
          <a:xfrm>
            <a:off x="2771640" y="5516640"/>
            <a:ext cx="1141560" cy="1101600"/>
            <a:chOff x="2771640" y="5516640"/>
            <a:chExt cx="1141560" cy="1101600"/>
          </a:xfrm>
        </p:grpSpPr>
        <p:sp>
          <p:nvSpPr>
            <p:cNvPr id="257" name="Oval 10"/>
            <p:cNvSpPr/>
            <p:nvPr/>
          </p:nvSpPr>
          <p:spPr>
            <a:xfrm>
              <a:off x="2771640" y="551664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68402"/>
                </a:gs>
                <a:gs pos="100000">
                  <a:srgbClr val="522f0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1"/>
            <p:cNvSpPr/>
            <p:nvPr/>
          </p:nvSpPr>
          <p:spPr>
            <a:xfrm>
              <a:off x="3057120" y="573408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现代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业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12"/>
          <p:cNvSpPr/>
          <p:nvPr/>
        </p:nvSpPr>
        <p:spPr>
          <a:xfrm>
            <a:off x="108000" y="12682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用技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课程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3"/>
          <p:cNvGrpSpPr/>
          <p:nvPr/>
        </p:nvGrpSpPr>
        <p:grpSpPr>
          <a:xfrm>
            <a:off x="395280" y="2421000"/>
            <a:ext cx="2257560" cy="710640"/>
            <a:chOff x="395280" y="2421000"/>
            <a:chExt cx="2257560" cy="710640"/>
          </a:xfrm>
        </p:grpSpPr>
        <p:sp>
          <p:nvSpPr>
            <p:cNvPr id="261" name="Line 14"/>
            <p:cNvSpPr/>
            <p:nvPr/>
          </p:nvSpPr>
          <p:spPr>
            <a:xfrm>
              <a:off x="2195640" y="2781000"/>
              <a:ext cx="457200" cy="35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AutoShape 15"/>
            <p:cNvCxnSpPr/>
            <p:nvPr/>
          </p:nvCxnSpPr>
          <p:spPr>
            <a:xfrm flipH="1">
              <a:off x="467640" y="2780640"/>
              <a:ext cx="17262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263" name="Text Box 16"/>
            <p:cNvSpPr/>
            <p:nvPr/>
          </p:nvSpPr>
          <p:spPr>
            <a:xfrm>
              <a:off x="395280" y="2421000"/>
              <a:ext cx="11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选修课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265" name="Oval 18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19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20"/>
          <p:cNvGrpSpPr/>
          <p:nvPr/>
        </p:nvGrpSpPr>
        <p:grpSpPr>
          <a:xfrm>
            <a:off x="541440" y="4871880"/>
            <a:ext cx="1143000" cy="1101600"/>
            <a:chOff x="541440" y="4871880"/>
            <a:chExt cx="1143000" cy="1101600"/>
          </a:xfrm>
        </p:grpSpPr>
        <p:sp>
          <p:nvSpPr>
            <p:cNvPr id="268" name="Oval 21"/>
            <p:cNvSpPr/>
            <p:nvPr/>
          </p:nvSpPr>
          <p:spPr>
            <a:xfrm>
              <a:off x="541440" y="48718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92aa2"/>
                </a:gs>
                <a:gs pos="100000">
                  <a:srgbClr val="240e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2"/>
            <p:cNvSpPr/>
            <p:nvPr/>
          </p:nvSpPr>
          <p:spPr>
            <a:xfrm>
              <a:off x="814320" y="508464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电子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制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6877080" y="3500280"/>
            <a:ext cx="1143000" cy="1101600"/>
            <a:chOff x="6877080" y="3500280"/>
            <a:chExt cx="1143000" cy="1101600"/>
          </a:xfrm>
        </p:grpSpPr>
        <p:sp>
          <p:nvSpPr>
            <p:cNvPr id="271" name="Oval 24"/>
            <p:cNvSpPr/>
            <p:nvPr/>
          </p:nvSpPr>
          <p:spPr>
            <a:xfrm>
              <a:off x="6877080" y="35002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23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5"/>
            <p:cNvSpPr/>
            <p:nvPr/>
          </p:nvSpPr>
          <p:spPr>
            <a:xfrm>
              <a:off x="7151400" y="371628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服装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其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6"/>
          <p:cNvGrpSpPr/>
          <p:nvPr/>
        </p:nvGrpSpPr>
        <p:grpSpPr>
          <a:xfrm>
            <a:off x="4284720" y="2997360"/>
            <a:ext cx="1657440" cy="2089080"/>
            <a:chOff x="4284720" y="2997360"/>
            <a:chExt cx="1657440" cy="2089080"/>
          </a:xfrm>
        </p:grpSpPr>
        <p:grpSp>
          <p:nvGrpSpPr>
            <p:cNvPr id="274" name="Group 27"/>
            <p:cNvGrpSpPr/>
            <p:nvPr/>
          </p:nvGrpSpPr>
          <p:grpSpPr>
            <a:xfrm>
              <a:off x="4356000" y="2997360"/>
              <a:ext cx="1524240" cy="1521000"/>
              <a:chOff x="4356000" y="2997360"/>
              <a:chExt cx="1524240" cy="1521000"/>
            </a:xfrm>
          </p:grpSpPr>
          <p:sp>
            <p:nvSpPr>
              <p:cNvPr id="275" name="Oval 28"/>
              <p:cNvSpPr/>
              <p:nvPr/>
            </p:nvSpPr>
            <p:spPr>
              <a:xfrm>
                <a:off x="4356000" y="2997360"/>
                <a:ext cx="1524240" cy="1521000"/>
              </a:xfrm>
              <a:prstGeom prst="ellipse">
                <a:avLst/>
              </a:prstGeom>
              <a:gradFill rotWithShape="0">
                <a:gsLst>
                  <a:gs pos="0">
                    <a:srgbClr val="92c331"/>
                  </a:gs>
                  <a:gs pos="100000">
                    <a:srgbClr val="4b64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4530240" y="3022560"/>
                <a:ext cx="117576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2c3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30"/>
            <p:cNvSpPr/>
            <p:nvPr/>
          </p:nvSpPr>
          <p:spPr>
            <a:xfrm>
              <a:off x="4284720" y="357372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技术与设计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1"/>
            <p:cNvSpPr/>
            <p:nvPr/>
          </p:nvSpPr>
          <p:spPr>
            <a:xfrm>
              <a:off x="4356000" y="4597560"/>
              <a:ext cx="1454400" cy="4888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32"/>
          <p:cNvGrpSpPr/>
          <p:nvPr/>
        </p:nvGrpSpPr>
        <p:grpSpPr>
          <a:xfrm>
            <a:off x="3059280" y="3573360"/>
            <a:ext cx="1656720" cy="1989000"/>
            <a:chOff x="3059280" y="3573360"/>
            <a:chExt cx="1656720" cy="1989000"/>
          </a:xfrm>
        </p:grpSpPr>
        <p:grpSp>
          <p:nvGrpSpPr>
            <p:cNvPr id="280" name="Group 33"/>
            <p:cNvGrpSpPr/>
            <p:nvPr/>
          </p:nvGrpSpPr>
          <p:grpSpPr>
            <a:xfrm>
              <a:off x="3059280" y="3573360"/>
              <a:ext cx="1603080" cy="1514520"/>
              <a:chOff x="3059280" y="3573360"/>
              <a:chExt cx="1603080" cy="1514520"/>
            </a:xfrm>
          </p:grpSpPr>
          <p:sp>
            <p:nvSpPr>
              <p:cNvPr id="281" name="Oval 34"/>
              <p:cNvSpPr/>
              <p:nvPr/>
            </p:nvSpPr>
            <p:spPr>
              <a:xfrm>
                <a:off x="3059280" y="3573360"/>
                <a:ext cx="1603080" cy="1514520"/>
              </a:xfrm>
              <a:prstGeom prst="ellipse">
                <a:avLst/>
              </a:prstGeom>
              <a:gradFill rotWithShape="0">
                <a:gsLst>
                  <a:gs pos="0">
                    <a:srgbClr val="e68402"/>
                  </a:gs>
                  <a:gs pos="100000">
                    <a:srgbClr val="9254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3242520" y="3598200"/>
                <a:ext cx="1236600" cy="5716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84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Text Box 36"/>
            <p:cNvSpPr/>
            <p:nvPr/>
          </p:nvSpPr>
          <p:spPr>
            <a:xfrm>
              <a:off x="3060360" y="414972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技术与设计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37"/>
            <p:cNvSpPr/>
            <p:nvPr/>
          </p:nvSpPr>
          <p:spPr>
            <a:xfrm>
              <a:off x="3224160" y="5173560"/>
              <a:ext cx="1301400" cy="38880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38"/>
          <p:cNvGrpSpPr/>
          <p:nvPr/>
        </p:nvGrpSpPr>
        <p:grpSpPr>
          <a:xfrm>
            <a:off x="5148360" y="4869000"/>
            <a:ext cx="1141200" cy="1101600"/>
            <a:chOff x="5148360" y="4869000"/>
            <a:chExt cx="1141200" cy="1101600"/>
          </a:xfrm>
        </p:grpSpPr>
        <p:sp>
          <p:nvSpPr>
            <p:cNvPr id="286" name="Oval 39"/>
            <p:cNvSpPr/>
            <p:nvPr/>
          </p:nvSpPr>
          <p:spPr>
            <a:xfrm>
              <a:off x="5148360" y="4869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0"/>
            <p:cNvSpPr/>
            <p:nvPr/>
          </p:nvSpPr>
          <p:spPr>
            <a:xfrm>
              <a:off x="5335920" y="5085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家政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生活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1"/>
          <p:cNvGrpSpPr/>
          <p:nvPr/>
        </p:nvGrpSpPr>
        <p:grpSpPr>
          <a:xfrm>
            <a:off x="755640" y="1916280"/>
            <a:ext cx="3311640" cy="1583640"/>
            <a:chOff x="755640" y="1916280"/>
            <a:chExt cx="3311640" cy="1583640"/>
          </a:xfrm>
        </p:grpSpPr>
        <p:sp>
          <p:nvSpPr>
            <p:cNvPr id="289" name="Line 42"/>
            <p:cNvSpPr/>
            <p:nvPr/>
          </p:nvSpPr>
          <p:spPr>
            <a:xfrm>
              <a:off x="2484360" y="2276280"/>
              <a:ext cx="1582920" cy="1223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43"/>
            <p:cNvGrpSpPr/>
            <p:nvPr/>
          </p:nvGrpSpPr>
          <p:grpSpPr>
            <a:xfrm>
              <a:off x="755640" y="1916280"/>
              <a:ext cx="1727280" cy="360000"/>
              <a:chOff x="755640" y="1916280"/>
              <a:chExt cx="1727280" cy="360000"/>
            </a:xfrm>
          </p:grpSpPr>
          <p:sp>
            <p:nvSpPr>
              <p:cNvPr id="291" name="Line 44"/>
              <p:cNvSpPr/>
              <p:nvPr/>
            </p:nvSpPr>
            <p:spPr>
              <a:xfrm>
                <a:off x="826920" y="2276280"/>
                <a:ext cx="16560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45"/>
              <p:cNvSpPr/>
              <p:nvPr/>
            </p:nvSpPr>
            <p:spPr>
              <a:xfrm>
                <a:off x="755640" y="1916280"/>
                <a:ext cx="114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3300"/>
                    </a:solidFill>
                    <a:latin typeface="Verdana"/>
                    <a:ea typeface="宋体"/>
                  </a:rPr>
                  <a:t>必修课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Rectangle 46"/>
          <p:cNvSpPr/>
          <p:nvPr/>
        </p:nvSpPr>
        <p:spPr>
          <a:xfrm>
            <a:off x="7596360" y="6524640"/>
            <a:ext cx="1223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7"/>
          <p:cNvSpPr/>
          <p:nvPr/>
        </p:nvSpPr>
        <p:spPr>
          <a:xfrm>
            <a:off x="539640" y="907920"/>
            <a:ext cx="180036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8"/>
          <p:cNvGrpSpPr/>
          <p:nvPr/>
        </p:nvGrpSpPr>
        <p:grpSpPr>
          <a:xfrm>
            <a:off x="3924360" y="1751040"/>
            <a:ext cx="1143000" cy="1101600"/>
            <a:chOff x="3924360" y="1751040"/>
            <a:chExt cx="1143000" cy="1101600"/>
          </a:xfrm>
        </p:grpSpPr>
        <p:sp>
          <p:nvSpPr>
            <p:cNvPr id="296" name="Oval 49"/>
            <p:cNvSpPr/>
            <p:nvPr/>
          </p:nvSpPr>
          <p:spPr>
            <a:xfrm>
              <a:off x="3924360" y="175104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5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0"/>
            <p:cNvSpPr/>
            <p:nvPr/>
          </p:nvSpPr>
          <p:spPr>
            <a:xfrm>
              <a:off x="4111920" y="1974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简易机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人制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4402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什么是通用技术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"/>
          <p:cNvGrpSpPr/>
          <p:nvPr/>
        </p:nvGrpSpPr>
        <p:grpSpPr>
          <a:xfrm>
            <a:off x="6566040" y="3859200"/>
            <a:ext cx="1966680" cy="649440"/>
            <a:chOff x="6566040" y="3859200"/>
            <a:chExt cx="1966680" cy="649440"/>
          </a:xfrm>
        </p:grpSpPr>
        <p:sp>
          <p:nvSpPr>
            <p:cNvPr id="302" name="AutoShape 3"/>
            <p:cNvSpPr/>
            <p:nvPr/>
          </p:nvSpPr>
          <p:spPr>
            <a:xfrm>
              <a:off x="6566040" y="3859200"/>
              <a:ext cx="1966680" cy="649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2c331"/>
                </a:gs>
                <a:gs pos="50000">
                  <a:srgbClr val="445a17"/>
                </a:gs>
                <a:gs pos="100000">
                  <a:srgbClr val="92c3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"/>
            <p:cNvSpPr/>
            <p:nvPr/>
          </p:nvSpPr>
          <p:spPr>
            <a:xfrm>
              <a:off x="7000200" y="404352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技术产品使用保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5"/>
          <p:cNvGrpSpPr/>
          <p:nvPr/>
        </p:nvGrpSpPr>
        <p:grpSpPr>
          <a:xfrm>
            <a:off x="6566040" y="3284640"/>
            <a:ext cx="1966680" cy="649080"/>
            <a:chOff x="6566040" y="3284640"/>
            <a:chExt cx="1966680" cy="649080"/>
          </a:xfrm>
        </p:grpSpPr>
        <p:sp>
          <p:nvSpPr>
            <p:cNvPr id="305" name="AutoShape 6"/>
            <p:cNvSpPr/>
            <p:nvPr/>
          </p:nvSpPr>
          <p:spPr>
            <a:xfrm>
              <a:off x="6566040" y="3284640"/>
              <a:ext cx="1966680" cy="649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2c331"/>
                </a:gs>
                <a:gs pos="50000">
                  <a:srgbClr val="445a17"/>
                </a:gs>
                <a:gs pos="100000">
                  <a:srgbClr val="92c3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7061760" y="346860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模型与原型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900000" y="3860640"/>
            <a:ext cx="1889280" cy="649440"/>
            <a:chOff x="900000" y="3860640"/>
            <a:chExt cx="1889280" cy="649440"/>
          </a:xfrm>
        </p:grpSpPr>
        <p:sp>
          <p:nvSpPr>
            <p:cNvPr id="308" name="AutoShape 9"/>
            <p:cNvSpPr/>
            <p:nvPr/>
          </p:nvSpPr>
          <p:spPr>
            <a:xfrm>
              <a:off x="900000" y="3860640"/>
              <a:ext cx="1889280" cy="649440"/>
            </a:xfrm>
            <a:prstGeom prst="can">
              <a:avLst>
                <a:gd name="adj" fmla="val 24939"/>
              </a:avLst>
            </a:prstGeom>
            <a:gradFill rotWithShape="0">
              <a:gsLst>
                <a:gs pos="0">
                  <a:srgbClr val="7e88e4"/>
                </a:gs>
                <a:gs pos="50000">
                  <a:srgbClr val="3a3f6a"/>
                </a:gs>
                <a:gs pos="100000">
                  <a:srgbClr val="7e88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0"/>
            <p:cNvSpPr/>
            <p:nvPr/>
          </p:nvSpPr>
          <p:spPr>
            <a:xfrm>
              <a:off x="1258200" y="403992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发现与明确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1"/>
          <p:cNvGrpSpPr/>
          <p:nvPr/>
        </p:nvGrpSpPr>
        <p:grpSpPr>
          <a:xfrm>
            <a:off x="900000" y="3284640"/>
            <a:ext cx="1889280" cy="649080"/>
            <a:chOff x="900000" y="3284640"/>
            <a:chExt cx="1889280" cy="649080"/>
          </a:xfrm>
        </p:grpSpPr>
        <p:sp>
          <p:nvSpPr>
            <p:cNvPr id="311" name="AutoShape 12"/>
            <p:cNvSpPr/>
            <p:nvPr/>
          </p:nvSpPr>
          <p:spPr>
            <a:xfrm>
              <a:off x="900000" y="3284640"/>
              <a:ext cx="1889280" cy="649080"/>
            </a:xfrm>
            <a:prstGeom prst="can">
              <a:avLst>
                <a:gd name="adj" fmla="val 24939"/>
              </a:avLst>
            </a:prstGeom>
            <a:gradFill rotWithShape="0">
              <a:gsLst>
                <a:gs pos="0">
                  <a:srgbClr val="7e88e4"/>
                </a:gs>
                <a:gs pos="50000">
                  <a:srgbClr val="3a3f6a"/>
                </a:gs>
                <a:gs pos="100000">
                  <a:srgbClr val="7e88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3"/>
            <p:cNvSpPr/>
            <p:nvPr/>
          </p:nvSpPr>
          <p:spPr>
            <a:xfrm>
              <a:off x="1196640" y="346356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设计过程原则评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4"/>
          <p:cNvGrpSpPr/>
          <p:nvPr/>
        </p:nvGrpSpPr>
        <p:grpSpPr>
          <a:xfrm>
            <a:off x="3023640" y="1989000"/>
            <a:ext cx="3301920" cy="3080880"/>
            <a:chOff x="3023640" y="1989000"/>
            <a:chExt cx="3301920" cy="3080880"/>
          </a:xfrm>
        </p:grpSpPr>
        <p:sp>
          <p:nvSpPr>
            <p:cNvPr id="314" name="AutoShape 15"/>
            <p:cNvSpPr/>
            <p:nvPr/>
          </p:nvSpPr>
          <p:spPr>
            <a:xfrm flipH="1" rot="16200000">
              <a:off x="2931480" y="3170520"/>
              <a:ext cx="522360" cy="3387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4b4e2"/>
                </a:gs>
                <a:gs pos="100000">
                  <a:srgbClr val="1640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6"/>
            <p:cNvSpPr/>
            <p:nvPr/>
          </p:nvSpPr>
          <p:spPr>
            <a:xfrm flipH="1" rot="5400000">
              <a:off x="5894280" y="3112920"/>
              <a:ext cx="522720" cy="3387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4b4e2"/>
                </a:gs>
                <a:gs pos="100000">
                  <a:srgbClr val="1640b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7"/>
            <p:cNvSpPr/>
            <p:nvPr/>
          </p:nvSpPr>
          <p:spPr>
            <a:xfrm flipH="1" rot="10800000">
              <a:off x="4426920" y="4721760"/>
              <a:ext cx="507240" cy="3481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4b4e2"/>
                </a:gs>
                <a:gs pos="100000">
                  <a:srgbClr val="1640b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363120" y="1989000"/>
              <a:ext cx="2658240" cy="2733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3514680" y="2142720"/>
              <a:ext cx="2353680" cy="241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3653280" y="2286720"/>
              <a:ext cx="2077200" cy="213876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ffffff"/>
                </a:gs>
                <a:gs pos="100000">
                  <a:srgbClr val="339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3653280" y="2286720"/>
              <a:ext cx="2077200" cy="2138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3789720" y="2427120"/>
              <a:ext cx="1803960" cy="185796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1c5337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3789720" y="2427120"/>
              <a:ext cx="1803960" cy="185796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24"/>
          <p:cNvSpPr/>
          <p:nvPr/>
        </p:nvSpPr>
        <p:spPr>
          <a:xfrm>
            <a:off x="3972600" y="2997360"/>
            <a:ext cx="13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技术与设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教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5"/>
          <p:cNvSpPr/>
          <p:nvPr/>
        </p:nvSpPr>
        <p:spPr>
          <a:xfrm>
            <a:off x="2674800" y="5238720"/>
            <a:ext cx="4013280" cy="568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材内容的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26"/>
          <p:cNvGrpSpPr/>
          <p:nvPr/>
        </p:nvGrpSpPr>
        <p:grpSpPr>
          <a:xfrm>
            <a:off x="900000" y="2708280"/>
            <a:ext cx="1889280" cy="650880"/>
            <a:chOff x="900000" y="2708280"/>
            <a:chExt cx="1889280" cy="650880"/>
          </a:xfrm>
        </p:grpSpPr>
        <p:sp>
          <p:nvSpPr>
            <p:cNvPr id="326" name="AutoShape 27"/>
            <p:cNvSpPr/>
            <p:nvPr/>
          </p:nvSpPr>
          <p:spPr>
            <a:xfrm>
              <a:off x="900000" y="2708280"/>
              <a:ext cx="1889280" cy="650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e88e4"/>
                </a:gs>
                <a:gs pos="50000">
                  <a:srgbClr val="3a3f6a"/>
                </a:gs>
                <a:gs pos="100000">
                  <a:srgbClr val="7e88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28"/>
            <p:cNvSpPr/>
            <p:nvPr/>
          </p:nvSpPr>
          <p:spPr>
            <a:xfrm>
              <a:off x="1196640" y="288936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技术世界中的设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9"/>
          <p:cNvGrpSpPr/>
          <p:nvPr/>
        </p:nvGrpSpPr>
        <p:grpSpPr>
          <a:xfrm>
            <a:off x="900000" y="2133720"/>
            <a:ext cx="1889280" cy="650880"/>
            <a:chOff x="900000" y="2133720"/>
            <a:chExt cx="1889280" cy="650880"/>
          </a:xfrm>
        </p:grpSpPr>
        <p:sp>
          <p:nvSpPr>
            <p:cNvPr id="329" name="AutoShape 30"/>
            <p:cNvSpPr/>
            <p:nvPr/>
          </p:nvSpPr>
          <p:spPr>
            <a:xfrm>
              <a:off x="900000" y="2133720"/>
              <a:ext cx="1889280" cy="650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e88e4"/>
                </a:gs>
                <a:gs pos="50000">
                  <a:srgbClr val="3a3f6a"/>
                </a:gs>
                <a:gs pos="100000">
                  <a:srgbClr val="7e88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1"/>
            <p:cNvSpPr/>
            <p:nvPr/>
          </p:nvSpPr>
          <p:spPr>
            <a:xfrm>
              <a:off x="1318320" y="23148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走进技术世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2"/>
          <p:cNvGrpSpPr/>
          <p:nvPr/>
        </p:nvGrpSpPr>
        <p:grpSpPr>
          <a:xfrm>
            <a:off x="6566040" y="2708280"/>
            <a:ext cx="1966680" cy="650880"/>
            <a:chOff x="6566040" y="2708280"/>
            <a:chExt cx="1966680" cy="650880"/>
          </a:xfrm>
        </p:grpSpPr>
        <p:sp>
          <p:nvSpPr>
            <p:cNvPr id="332" name="AutoShape 33"/>
            <p:cNvSpPr/>
            <p:nvPr/>
          </p:nvSpPr>
          <p:spPr>
            <a:xfrm>
              <a:off x="6566040" y="2708280"/>
              <a:ext cx="1966680" cy="650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2c331"/>
                </a:gs>
                <a:gs pos="50000">
                  <a:srgbClr val="445a17"/>
                </a:gs>
                <a:gs pos="100000">
                  <a:srgbClr val="92c3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4"/>
            <p:cNvSpPr/>
            <p:nvPr/>
          </p:nvSpPr>
          <p:spPr>
            <a:xfrm>
              <a:off x="7061040" y="288936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设计图样的绘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6566040" y="2133720"/>
            <a:ext cx="1966680" cy="650880"/>
            <a:chOff x="6566040" y="2133720"/>
            <a:chExt cx="1966680" cy="650880"/>
          </a:xfrm>
        </p:grpSpPr>
        <p:sp>
          <p:nvSpPr>
            <p:cNvPr id="335" name="AutoShape 36"/>
            <p:cNvSpPr/>
            <p:nvPr/>
          </p:nvSpPr>
          <p:spPr>
            <a:xfrm>
              <a:off x="6566040" y="2133720"/>
              <a:ext cx="1966680" cy="650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2c331"/>
                </a:gs>
                <a:gs pos="50000">
                  <a:srgbClr val="445a17"/>
                </a:gs>
                <a:gs pos="100000">
                  <a:srgbClr val="92c3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7"/>
            <p:cNvSpPr/>
            <p:nvPr/>
          </p:nvSpPr>
          <p:spPr>
            <a:xfrm>
              <a:off x="7061760" y="231480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方案构思及方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8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338" name="Oval 39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40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4402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什么是通用技术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Rectangle 42"/>
          <p:cNvSpPr/>
          <p:nvPr/>
        </p:nvSpPr>
        <p:spPr>
          <a:xfrm>
            <a:off x="539640" y="907920"/>
            <a:ext cx="180036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3"/>
          <p:cNvSpPr/>
          <p:nvPr/>
        </p:nvSpPr>
        <p:spPr>
          <a:xfrm>
            <a:off x="7596360" y="6453360"/>
            <a:ext cx="1223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2"/>
          <p:cNvGrpSpPr/>
          <p:nvPr/>
        </p:nvGrpSpPr>
        <p:grpSpPr>
          <a:xfrm>
            <a:off x="2484360" y="2781360"/>
            <a:ext cx="5826240" cy="3343320"/>
            <a:chOff x="2484360" y="2781360"/>
            <a:chExt cx="5826240" cy="3343320"/>
          </a:xfrm>
        </p:grpSpPr>
        <p:sp>
          <p:nvSpPr>
            <p:cNvPr id="346" name="未知"/>
            <p:cNvSpPr/>
            <p:nvPr/>
          </p:nvSpPr>
          <p:spPr>
            <a:xfrm>
              <a:off x="7727760" y="278136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e68402"/>
                </a:gs>
                <a:gs pos="50000">
                  <a:srgbClr val="6a3d01"/>
                </a:gs>
                <a:gs pos="100000">
                  <a:srgbClr val="e6840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4967280" y="278136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e684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7148520" y="361332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8472f"/>
                </a:gs>
                <a:gs pos="100000">
                  <a:srgbClr val="339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4137120" y="3613320"/>
              <a:ext cx="359388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6567480" y="444492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7e88e4"/>
                </a:gs>
                <a:gs pos="50000">
                  <a:srgbClr val="3a3f6a"/>
                </a:gs>
                <a:gs pos="100000">
                  <a:srgbClr val="7e88e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5989680" y="5278320"/>
              <a:ext cx="57780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2c331"/>
                </a:gs>
                <a:gs pos="50000">
                  <a:srgbClr val="445a17"/>
                </a:gs>
                <a:gs pos="100000">
                  <a:srgbClr val="92c33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2485800" y="5283360"/>
              <a:ext cx="408168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92c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078000" y="2935440"/>
              <a:ext cx="183852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1"/>
            <p:cNvSpPr/>
            <p:nvPr/>
          </p:nvSpPr>
          <p:spPr>
            <a:xfrm>
              <a:off x="4973400" y="3322800"/>
              <a:ext cx="2767320" cy="304560"/>
            </a:xfrm>
            <a:prstGeom prst="rect">
              <a:avLst/>
            </a:prstGeom>
            <a:gradFill rotWithShape="0">
              <a:gsLst>
                <a:gs pos="0">
                  <a:srgbClr val="e68402"/>
                </a:gs>
                <a:gs pos="50000">
                  <a:srgbClr val="a76001"/>
                </a:gs>
                <a:gs pos="100000">
                  <a:srgbClr val="e6840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设计的评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4138560" y="41529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256f4a"/>
                </a:gs>
                <a:gs pos="100000">
                  <a:srgbClr val="339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设计的交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313080" y="444492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7e8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3316320" y="4988160"/>
              <a:ext cx="3263760" cy="298440"/>
            </a:xfrm>
            <a:prstGeom prst="rect">
              <a:avLst/>
            </a:prstGeom>
            <a:gradFill rotWithShape="0">
              <a:gsLst>
                <a:gs pos="0">
                  <a:srgbClr val="7e88e4"/>
                </a:gs>
                <a:gs pos="50000">
                  <a:srgbClr val="5b63a5"/>
                </a:gs>
                <a:gs pos="100000">
                  <a:srgbClr val="7e88e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设计的过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2484360" y="5824440"/>
              <a:ext cx="3513240" cy="297000"/>
            </a:xfrm>
            <a:prstGeom prst="rect">
              <a:avLst/>
            </a:prstGeom>
            <a:gradFill rotWithShape="0">
              <a:gsLst>
                <a:gs pos="0">
                  <a:srgbClr val="92c331"/>
                </a:gs>
                <a:gs pos="50000">
                  <a:srgbClr val="6a8d24"/>
                </a:gs>
                <a:gs pos="100000">
                  <a:srgbClr val="92c33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技术及其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6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360" name="Oval 17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18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Rectangle 19"/>
          <p:cNvSpPr/>
          <p:nvPr/>
        </p:nvSpPr>
        <p:spPr>
          <a:xfrm>
            <a:off x="684360" y="1844640"/>
            <a:ext cx="2881080" cy="8953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技术与设计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1763640" y="35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模块的主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1"/>
          <p:cNvSpPr/>
          <p:nvPr/>
        </p:nvSpPr>
        <p:spPr>
          <a:xfrm>
            <a:off x="468360" y="907920"/>
            <a:ext cx="180000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2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4402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什么是通用技术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日期占位符 2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"/>
          <p:cNvSpPr/>
          <p:nvPr/>
        </p:nvSpPr>
        <p:spPr>
          <a:xfrm>
            <a:off x="826920" y="2422440"/>
            <a:ext cx="5832720" cy="214560"/>
          </a:xfrm>
          <a:custGeom>
            <a:avLst/>
            <a:gdLst>
              <a:gd name="textAreaLeft" fmla="*/ 911160 w 5832720"/>
              <a:gd name="textAreaRight" fmla="*/ 5103720 w 5832720"/>
              <a:gd name="textAreaTop" fmla="*/ 53640 h 214560"/>
              <a:gd name="textAreaBottom" fmla="*/ 160920 h 21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da023"/>
              </a:gs>
              <a:gs pos="100000">
                <a:srgbClr val="fff6eb"/>
              </a:gs>
            </a:gsLst>
            <a:lin ang="108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371" name="Oval 4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Picture 5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Group 6"/>
          <p:cNvGrpSpPr/>
          <p:nvPr/>
        </p:nvGrpSpPr>
        <p:grpSpPr>
          <a:xfrm>
            <a:off x="448200" y="2721960"/>
            <a:ext cx="7849440" cy="1331640"/>
            <a:chOff x="448200" y="2721960"/>
            <a:chExt cx="7849440" cy="1331640"/>
          </a:xfrm>
        </p:grpSpPr>
        <p:sp>
          <p:nvSpPr>
            <p:cNvPr id="374" name="Rectangle 7"/>
            <p:cNvSpPr/>
            <p:nvPr/>
          </p:nvSpPr>
          <p:spPr>
            <a:xfrm rot="3418800">
              <a:off x="653400" y="2931480"/>
              <a:ext cx="886320" cy="9712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8472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8"/>
            <p:cNvGrpSpPr/>
            <p:nvPr/>
          </p:nvGrpSpPr>
          <p:grpSpPr>
            <a:xfrm>
              <a:off x="1595520" y="3114000"/>
              <a:ext cx="901080" cy="126360"/>
              <a:chOff x="1595520" y="3114000"/>
              <a:chExt cx="901080" cy="126360"/>
            </a:xfrm>
          </p:grpSpPr>
          <p:sp>
            <p:nvSpPr>
              <p:cNvPr id="376" name="Oval 9"/>
              <p:cNvSpPr/>
              <p:nvPr/>
            </p:nvSpPr>
            <p:spPr>
              <a:xfrm>
                <a:off x="1595520" y="3114000"/>
                <a:ext cx="151920" cy="12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0"/>
              <p:cNvSpPr/>
              <p:nvPr/>
            </p:nvSpPr>
            <p:spPr>
              <a:xfrm>
                <a:off x="1681920" y="3114720"/>
                <a:ext cx="747000" cy="1256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1"/>
              <p:cNvSpPr/>
              <p:nvPr/>
            </p:nvSpPr>
            <p:spPr>
              <a:xfrm>
                <a:off x="2360160" y="3115800"/>
                <a:ext cx="136440" cy="121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2"/>
              <p:cNvSpPr/>
              <p:nvPr/>
            </p:nvSpPr>
            <p:spPr>
              <a:xfrm>
                <a:off x="2432880" y="3155400"/>
                <a:ext cx="38160" cy="3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Rectangle 13"/>
            <p:cNvSpPr/>
            <p:nvPr/>
          </p:nvSpPr>
          <p:spPr>
            <a:xfrm rot="3418800">
              <a:off x="2318400" y="2872800"/>
              <a:ext cx="886320" cy="969840"/>
            </a:xfrm>
            <a:prstGeom prst="rect">
              <a:avLst/>
            </a:prstGeom>
            <a:solidFill>
              <a:srgbClr val="92c3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14"/>
            <p:cNvGrpSpPr/>
            <p:nvPr/>
          </p:nvGrpSpPr>
          <p:grpSpPr>
            <a:xfrm>
              <a:off x="3259080" y="3114000"/>
              <a:ext cx="901080" cy="126360"/>
              <a:chOff x="3259080" y="3114000"/>
              <a:chExt cx="901080" cy="126360"/>
            </a:xfrm>
          </p:grpSpPr>
          <p:sp>
            <p:nvSpPr>
              <p:cNvPr id="382" name="Oval 15"/>
              <p:cNvSpPr/>
              <p:nvPr/>
            </p:nvSpPr>
            <p:spPr>
              <a:xfrm>
                <a:off x="3259080" y="3114000"/>
                <a:ext cx="151920" cy="12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6"/>
              <p:cNvSpPr/>
              <p:nvPr/>
            </p:nvSpPr>
            <p:spPr>
              <a:xfrm>
                <a:off x="3345480" y="3114720"/>
                <a:ext cx="747360" cy="1256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7"/>
              <p:cNvSpPr/>
              <p:nvPr/>
            </p:nvSpPr>
            <p:spPr>
              <a:xfrm>
                <a:off x="4023720" y="3115800"/>
                <a:ext cx="136440" cy="121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8"/>
              <p:cNvSpPr/>
              <p:nvPr/>
            </p:nvSpPr>
            <p:spPr>
              <a:xfrm>
                <a:off x="4096800" y="3155400"/>
                <a:ext cx="38160" cy="3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Rectangle 19"/>
            <p:cNvSpPr/>
            <p:nvPr/>
          </p:nvSpPr>
          <p:spPr>
            <a:xfrm rot="3418800">
              <a:off x="3913200" y="2872440"/>
              <a:ext cx="886320" cy="9702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8472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20"/>
            <p:cNvGrpSpPr/>
            <p:nvPr/>
          </p:nvGrpSpPr>
          <p:grpSpPr>
            <a:xfrm>
              <a:off x="4924440" y="3114000"/>
              <a:ext cx="1178640" cy="126360"/>
              <a:chOff x="4924440" y="3114000"/>
              <a:chExt cx="1178640" cy="126360"/>
            </a:xfrm>
          </p:grpSpPr>
          <p:sp>
            <p:nvSpPr>
              <p:cNvPr id="388" name="Oval 21"/>
              <p:cNvSpPr/>
              <p:nvPr/>
            </p:nvSpPr>
            <p:spPr>
              <a:xfrm>
                <a:off x="4924440" y="3114000"/>
                <a:ext cx="198720" cy="12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22"/>
              <p:cNvSpPr/>
              <p:nvPr/>
            </p:nvSpPr>
            <p:spPr>
              <a:xfrm>
                <a:off x="5037480" y="3114720"/>
                <a:ext cx="977400" cy="1256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23"/>
              <p:cNvSpPr/>
              <p:nvPr/>
            </p:nvSpPr>
            <p:spPr>
              <a:xfrm>
                <a:off x="5924520" y="3115800"/>
                <a:ext cx="178560" cy="121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6019920" y="3155400"/>
                <a:ext cx="50040" cy="3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Rectangle 25"/>
            <p:cNvSpPr/>
            <p:nvPr/>
          </p:nvSpPr>
          <p:spPr>
            <a:xfrm rot="3418800">
              <a:off x="5577840" y="2881440"/>
              <a:ext cx="886320" cy="971280"/>
            </a:xfrm>
            <a:prstGeom prst="rect">
              <a:avLst/>
            </a:prstGeom>
            <a:solidFill>
              <a:srgbClr val="92c3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6"/>
            <p:cNvSpPr/>
            <p:nvPr/>
          </p:nvSpPr>
          <p:spPr>
            <a:xfrm>
              <a:off x="862920" y="30769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发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7"/>
            <p:cNvSpPr/>
            <p:nvPr/>
          </p:nvSpPr>
          <p:spPr>
            <a:xfrm>
              <a:off x="2518920" y="30704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方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8"/>
            <p:cNvSpPr/>
            <p:nvPr/>
          </p:nvSpPr>
          <p:spPr>
            <a:xfrm>
              <a:off x="4174560" y="30704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模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制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9"/>
            <p:cNvSpPr/>
            <p:nvPr/>
          </p:nvSpPr>
          <p:spPr>
            <a:xfrm>
              <a:off x="5830200" y="30704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方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优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Group 30"/>
            <p:cNvGrpSpPr/>
            <p:nvPr/>
          </p:nvGrpSpPr>
          <p:grpSpPr>
            <a:xfrm>
              <a:off x="6527880" y="3070440"/>
              <a:ext cx="1178640" cy="126360"/>
              <a:chOff x="6527880" y="3070440"/>
              <a:chExt cx="1178640" cy="126360"/>
            </a:xfrm>
          </p:grpSpPr>
          <p:sp>
            <p:nvSpPr>
              <p:cNvPr id="398" name="Oval 31"/>
              <p:cNvSpPr/>
              <p:nvPr/>
            </p:nvSpPr>
            <p:spPr>
              <a:xfrm>
                <a:off x="6527880" y="3070440"/>
                <a:ext cx="198720" cy="12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32"/>
              <p:cNvSpPr/>
              <p:nvPr/>
            </p:nvSpPr>
            <p:spPr>
              <a:xfrm>
                <a:off x="6640920" y="3071160"/>
                <a:ext cx="977400" cy="1256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3"/>
              <p:cNvSpPr/>
              <p:nvPr/>
            </p:nvSpPr>
            <p:spPr>
              <a:xfrm>
                <a:off x="7527960" y="3072240"/>
                <a:ext cx="178560" cy="121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34"/>
              <p:cNvSpPr/>
              <p:nvPr/>
            </p:nvSpPr>
            <p:spPr>
              <a:xfrm>
                <a:off x="7623360" y="3111840"/>
                <a:ext cx="50040" cy="3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Rectangle 35"/>
            <p:cNvSpPr/>
            <p:nvPr/>
          </p:nvSpPr>
          <p:spPr>
            <a:xfrm rot="3418800">
              <a:off x="7206120" y="2872800"/>
              <a:ext cx="886320" cy="9698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8472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6"/>
            <p:cNvSpPr/>
            <p:nvPr/>
          </p:nvSpPr>
          <p:spPr>
            <a:xfrm>
              <a:off x="7414560" y="30704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方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确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37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8"/>
          <p:cNvSpPr/>
          <p:nvPr/>
        </p:nvSpPr>
        <p:spPr>
          <a:xfrm>
            <a:off x="324000" y="13017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技术与设计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1”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提供通识的技术设计教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以产品设计为依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339966"/>
                </a:solidFill>
                <a:latin typeface="Arial"/>
                <a:ea typeface="宋体"/>
              </a:rPr>
              <a:t>从问题的发现开始，形成完整的设计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4402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什么是通用技术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7" name="Group 40"/>
          <p:cNvGrpSpPr/>
          <p:nvPr/>
        </p:nvGrpSpPr>
        <p:grpSpPr>
          <a:xfrm>
            <a:off x="395280" y="4149720"/>
            <a:ext cx="8470800" cy="2239920"/>
            <a:chOff x="395280" y="4149720"/>
            <a:chExt cx="8470800" cy="2239920"/>
          </a:xfrm>
        </p:grpSpPr>
        <p:sp>
          <p:nvSpPr>
            <p:cNvPr id="408" name="AutoShape 41"/>
            <p:cNvSpPr/>
            <p:nvPr/>
          </p:nvSpPr>
          <p:spPr>
            <a:xfrm>
              <a:off x="5479920" y="4149720"/>
              <a:ext cx="1621080" cy="2235240"/>
            </a:xfrm>
            <a:custGeom>
              <a:avLst/>
              <a:gdLst>
                <a:gd name="textAreaLeft" fmla="*/ 65160 w 1621080"/>
                <a:gd name="textAreaRight" fmla="*/ 1555920 w 1621080"/>
                <a:gd name="textAreaTop" fmla="*/ 65160 h 2235240"/>
                <a:gd name="textAreaBottom" fmla="*/ 2170080 h 2235240"/>
              </a:gdLst>
              <a:ahLst/>
              <a:rect l="textAreaLeft" t="textAreaTop" r="textAreaRight" b="textAreaBottom"/>
              <a:pathLst>
                <a:path w="21600" h="29782">
                  <a:moveTo>
                    <a:pt x="2969" y="0"/>
                  </a:moveTo>
                  <a:arcTo wR="2969" hR="2969" stAng="16200000" swAng="-5400000"/>
                  <a:lnTo>
                    <a:pt x="0" y="26813"/>
                  </a:lnTo>
                  <a:arcTo wR="2969" hR="2969" stAng="10800000" swAng="-5400000"/>
                  <a:lnTo>
                    <a:pt x="18631" y="29782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2"/>
            <p:cNvSpPr/>
            <p:nvPr/>
          </p:nvSpPr>
          <p:spPr>
            <a:xfrm>
              <a:off x="3784680" y="4154400"/>
              <a:ext cx="1611360" cy="2235240"/>
            </a:xfrm>
            <a:custGeom>
              <a:avLst/>
              <a:gdLst>
                <a:gd name="textAreaLeft" fmla="*/ 64800 w 1611360"/>
                <a:gd name="textAreaRight" fmla="*/ 1546560 w 1611360"/>
                <a:gd name="textAreaTop" fmla="*/ 64800 h 2235240"/>
                <a:gd name="textAreaBottom" fmla="*/ 2170440 h 2235240"/>
              </a:gdLst>
              <a:ahLst/>
              <a:rect l="textAreaLeft" t="textAreaTop" r="textAreaRight" b="textAreaBottom"/>
              <a:pathLst>
                <a:path w="21600" h="29961">
                  <a:moveTo>
                    <a:pt x="2969" y="0"/>
                  </a:moveTo>
                  <a:arcTo wR="2969" hR="2969" stAng="16200000" swAng="-5400000"/>
                  <a:lnTo>
                    <a:pt x="0" y="26992"/>
                  </a:lnTo>
                  <a:arcTo wR="2969" hR="2969" stAng="10800000" swAng="-5400000"/>
                  <a:lnTo>
                    <a:pt x="18631" y="29961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43"/>
            <p:cNvSpPr/>
            <p:nvPr/>
          </p:nvSpPr>
          <p:spPr>
            <a:xfrm>
              <a:off x="2101680" y="4154400"/>
              <a:ext cx="1563840" cy="2235240"/>
            </a:xfrm>
            <a:custGeom>
              <a:avLst/>
              <a:gdLst>
                <a:gd name="textAreaLeft" fmla="*/ 62640 w 1563840"/>
                <a:gd name="textAreaRight" fmla="*/ 1501200 w 1563840"/>
                <a:gd name="textAreaTop" fmla="*/ 62640 h 2235240"/>
                <a:gd name="textAreaBottom" fmla="*/ 2172600 h 2235240"/>
              </a:gdLst>
              <a:ahLst/>
              <a:rect l="textAreaLeft" t="textAreaTop" r="textAreaRight" b="textAreaBottom"/>
              <a:pathLst>
                <a:path w="21600" h="30871">
                  <a:moveTo>
                    <a:pt x="2969" y="0"/>
                  </a:moveTo>
                  <a:arcTo wR="2969" hR="2969" stAng="16200000" swAng="-5400000"/>
                  <a:lnTo>
                    <a:pt x="0" y="27902"/>
                  </a:lnTo>
                  <a:arcTo wR="2969" hR="2969" stAng="10800000" swAng="-5400000"/>
                  <a:lnTo>
                    <a:pt x="18631" y="30871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44"/>
            <p:cNvSpPr/>
            <p:nvPr/>
          </p:nvSpPr>
          <p:spPr>
            <a:xfrm>
              <a:off x="395280" y="4154400"/>
              <a:ext cx="1620720" cy="2235240"/>
            </a:xfrm>
            <a:custGeom>
              <a:avLst/>
              <a:gdLst>
                <a:gd name="textAreaLeft" fmla="*/ 65160 w 1620720"/>
                <a:gd name="textAreaRight" fmla="*/ 1555560 w 1620720"/>
                <a:gd name="textAreaTop" fmla="*/ 65160 h 2235240"/>
                <a:gd name="textAreaBottom" fmla="*/ 2170080 h 2235240"/>
              </a:gdLst>
              <a:ahLst/>
              <a:rect l="textAreaLeft" t="textAreaTop" r="textAreaRight" b="textAreaBottom"/>
              <a:pathLst>
                <a:path w="21600" h="29788">
                  <a:moveTo>
                    <a:pt x="2969" y="0"/>
                  </a:moveTo>
                  <a:arcTo wR="2969" hR="2969" stAng="16200000" swAng="-5400000"/>
                  <a:lnTo>
                    <a:pt x="0" y="26819"/>
                  </a:lnTo>
                  <a:arcTo wR="2969" hR="2969" stAng="10800000" swAng="-5400000"/>
                  <a:lnTo>
                    <a:pt x="18631" y="29788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45"/>
            <p:cNvSpPr/>
            <p:nvPr/>
          </p:nvSpPr>
          <p:spPr>
            <a:xfrm>
              <a:off x="7174080" y="4149720"/>
              <a:ext cx="1620720" cy="2235240"/>
            </a:xfrm>
            <a:custGeom>
              <a:avLst/>
              <a:gdLst>
                <a:gd name="textAreaLeft" fmla="*/ 65160 w 1620720"/>
                <a:gd name="textAreaRight" fmla="*/ 1555560 w 1620720"/>
                <a:gd name="textAreaTop" fmla="*/ 65160 h 2235240"/>
                <a:gd name="textAreaBottom" fmla="*/ 2170080 h 2235240"/>
              </a:gdLst>
              <a:ahLst/>
              <a:rect l="textAreaLeft" t="textAreaTop" r="textAreaRight" b="textAreaBottom"/>
              <a:pathLst>
                <a:path w="21600" h="29788">
                  <a:moveTo>
                    <a:pt x="2969" y="0"/>
                  </a:moveTo>
                  <a:arcTo wR="2969" hR="2969" stAng="16200000" swAng="-5400000"/>
                  <a:lnTo>
                    <a:pt x="0" y="26819"/>
                  </a:lnTo>
                  <a:arcTo wR="2969" hR="2969" stAng="10800000" swAng="-5400000"/>
                  <a:lnTo>
                    <a:pt x="18631" y="29788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Picture 46" descr="409482046bt"/>
            <p:cNvPicPr/>
            <p:nvPr/>
          </p:nvPicPr>
          <p:blipFill>
            <a:blip r:embed="rId2"/>
            <a:stretch/>
          </p:blipFill>
          <p:spPr>
            <a:xfrm>
              <a:off x="490680" y="4228920"/>
              <a:ext cx="1423800" cy="20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7" descr="S6000658"/>
            <p:cNvPicPr/>
            <p:nvPr/>
          </p:nvPicPr>
          <p:blipFill>
            <a:blip r:embed="rId3"/>
            <a:stretch/>
          </p:blipFill>
          <p:spPr>
            <a:xfrm>
              <a:off x="3825720" y="4228920"/>
              <a:ext cx="1513080" cy="20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48" descr="台灯手绘图"/>
            <p:cNvPicPr/>
            <p:nvPr/>
          </p:nvPicPr>
          <p:blipFill>
            <a:blip r:embed="rId4"/>
            <a:stretch/>
          </p:blipFill>
          <p:spPr>
            <a:xfrm>
              <a:off x="2170080" y="4228920"/>
              <a:ext cx="1368360" cy="20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49" descr="S6000660"/>
            <p:cNvPicPr/>
            <p:nvPr/>
          </p:nvPicPr>
          <p:blipFill>
            <a:blip r:embed="rId5"/>
            <a:stretch/>
          </p:blipFill>
          <p:spPr>
            <a:xfrm>
              <a:off x="5554800" y="4228920"/>
              <a:ext cx="93636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50" descr="S6000829"/>
            <p:cNvPicPr/>
            <p:nvPr/>
          </p:nvPicPr>
          <p:blipFill>
            <a:blip r:embed="rId6"/>
            <a:stretch/>
          </p:blipFill>
          <p:spPr>
            <a:xfrm>
              <a:off x="6202440" y="4228920"/>
              <a:ext cx="79200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51" descr="S6000788"/>
            <p:cNvPicPr/>
            <p:nvPr/>
          </p:nvPicPr>
          <p:blipFill>
            <a:blip r:embed="rId7"/>
            <a:stretch/>
          </p:blipFill>
          <p:spPr>
            <a:xfrm>
              <a:off x="5554800" y="5194440"/>
              <a:ext cx="1439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52" descr="USB电脑台灯收音机A"/>
            <p:cNvPicPr/>
            <p:nvPr/>
          </p:nvPicPr>
          <p:blipFill>
            <a:blip r:embed="rId8"/>
            <a:stretch/>
          </p:blipFill>
          <p:spPr>
            <a:xfrm>
              <a:off x="7238880" y="4228920"/>
              <a:ext cx="1484280" cy="16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53"/>
            <p:cNvSpPr/>
            <p:nvPr/>
          </p:nvSpPr>
          <p:spPr>
            <a:xfrm>
              <a:off x="7210440" y="4805280"/>
              <a:ext cx="165564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USB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电脑台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收音机，产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使用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CM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长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度的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CFL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管，寿命长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00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以上，带高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保真立体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收音机，使用交直流电源，可直接使用电脑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USB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接口或变压器电源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,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灯头采用万向头设计，灯管照明角度可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60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度方向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Rectangle 54"/>
          <p:cNvSpPr/>
          <p:nvPr/>
        </p:nvSpPr>
        <p:spPr>
          <a:xfrm>
            <a:off x="468360" y="836640"/>
            <a:ext cx="19429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40b6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1640b6"/>
                </a:solidFill>
                <a:latin typeface="黑体"/>
                <a:ea typeface="黑体"/>
              </a:rPr>
              <a:t>．随着科学技术的突飞猛进的发展，技术日益成为我们生活中无时不在、无处不在、无所不在的客观存在，成为社会变化的重要因素。</a:t>
            </a:r>
            <a:br>
              <a:rPr sz="3200"/>
            </a:br>
            <a:endParaRPr b="1" lang="en-US" sz="2000" spc="-1" strike="noStrike">
              <a:solidFill>
                <a:srgbClr val="1640b6"/>
              </a:solidFill>
              <a:latin typeface="Verdana"/>
            </a:endParaRPr>
          </a:p>
        </p:txBody>
      </p:sp>
      <p:grpSp>
        <p:nvGrpSpPr>
          <p:cNvPr id="425" name="Group 3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426" name="Oval 4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5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6"/>
          <p:cNvSpPr/>
          <p:nvPr/>
        </p:nvSpPr>
        <p:spPr>
          <a:xfrm>
            <a:off x="0" y="115920"/>
            <a:ext cx="600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为什么要学习通用技术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468360" y="907920"/>
            <a:ext cx="180000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9" descr="0084"/>
          <p:cNvPicPr/>
          <p:nvPr/>
        </p:nvPicPr>
        <p:blipFill>
          <a:blip r:embed="rId2"/>
          <a:stretch/>
        </p:blipFill>
        <p:spPr>
          <a:xfrm>
            <a:off x="684360" y="2874960"/>
            <a:ext cx="2881080" cy="1576440"/>
          </a:xfrm>
          <a:prstGeom prst="rect">
            <a:avLst/>
          </a:prstGeom>
          <a:ln w="28440">
            <a:solidFill>
              <a:srgbClr val="99ff66"/>
            </a:solidFill>
            <a:miter/>
          </a:ln>
        </p:spPr>
      </p:pic>
      <p:pic>
        <p:nvPicPr>
          <p:cNvPr id="432" name="Picture 10" descr="IMG_5878"/>
          <p:cNvPicPr/>
          <p:nvPr/>
        </p:nvPicPr>
        <p:blipFill>
          <a:blip r:embed="rId3"/>
          <a:stretch/>
        </p:blipFill>
        <p:spPr>
          <a:xfrm>
            <a:off x="6227640" y="2874960"/>
            <a:ext cx="2376720" cy="1938240"/>
          </a:xfrm>
          <a:prstGeom prst="rect">
            <a:avLst/>
          </a:prstGeom>
          <a:ln w="28440">
            <a:solidFill>
              <a:srgbClr val="99ff66"/>
            </a:solidFill>
            <a:miter/>
          </a:ln>
        </p:spPr>
      </p:pic>
      <p:pic>
        <p:nvPicPr>
          <p:cNvPr id="433" name="Picture 11" descr="俄军称中国着力发展空战能力扩大武器自制率"/>
          <p:cNvPicPr/>
          <p:nvPr/>
        </p:nvPicPr>
        <p:blipFill>
          <a:blip r:embed="rId4"/>
          <a:stretch/>
        </p:blipFill>
        <p:spPr>
          <a:xfrm>
            <a:off x="3708360" y="2874960"/>
            <a:ext cx="2376360" cy="1935000"/>
          </a:xfrm>
          <a:prstGeom prst="rect">
            <a:avLst/>
          </a:prstGeom>
          <a:ln w="28440">
            <a:solidFill>
              <a:srgbClr val="99ff66"/>
            </a:solidFill>
            <a:miter/>
          </a:ln>
        </p:spPr>
      </p:pic>
      <p:pic>
        <p:nvPicPr>
          <p:cNvPr id="434" name="Picture 12" descr="无标题"/>
          <p:cNvPicPr/>
          <p:nvPr/>
        </p:nvPicPr>
        <p:blipFill>
          <a:blip r:embed="rId5"/>
          <a:stretch/>
        </p:blipFill>
        <p:spPr>
          <a:xfrm>
            <a:off x="684360" y="4602240"/>
            <a:ext cx="2881080" cy="1635120"/>
          </a:xfrm>
          <a:prstGeom prst="rect">
            <a:avLst/>
          </a:prstGeom>
          <a:ln w="28440">
            <a:solidFill>
              <a:srgbClr val="99ff66"/>
            </a:solidFill>
            <a:miter/>
          </a:ln>
        </p:spPr>
      </p:pic>
      <p:sp>
        <p:nvSpPr>
          <p:cNvPr id="435" name="Text Box 13"/>
          <p:cNvSpPr/>
          <p:nvPr/>
        </p:nvSpPr>
        <p:spPr>
          <a:xfrm>
            <a:off x="3708360" y="5229360"/>
            <a:ext cx="51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66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339966"/>
                </a:solidFill>
                <a:latin typeface="Arial"/>
                <a:ea typeface="宋体"/>
              </a:rPr>
              <a:t>因此，技术素养是当代青少年的基本素养，通用技术课程是普通高中学生人人必须修学的课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859280" y="2133360"/>
            <a:ext cx="374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各国高中开设技术类课程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时间表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4859280" y="2997360"/>
          <a:ext cx="3736800" cy="3198600"/>
        </p:xfrm>
        <a:graphic>
          <a:graphicData uri="http://schemas.openxmlformats.org/drawingml/2006/table">
            <a:tbl>
              <a:tblPr/>
              <a:tblGrid>
                <a:gridCol w="1668600"/>
                <a:gridCol w="206820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设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c331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美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二十世纪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70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年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88e4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英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1988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88e4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法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二十世纪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年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88e4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俄罗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二十世纪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年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88e4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日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1994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88e4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韩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1990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440" name="Group 32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441" name="Oval 33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34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Rectangle 35"/>
          <p:cNvSpPr/>
          <p:nvPr/>
        </p:nvSpPr>
        <p:spPr>
          <a:xfrm>
            <a:off x="468360" y="907920"/>
            <a:ext cx="18716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6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7"/>
          <p:cNvSpPr/>
          <p:nvPr/>
        </p:nvSpPr>
        <p:spPr>
          <a:xfrm>
            <a:off x="0" y="115920"/>
            <a:ext cx="600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为什么要学习通用技术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8"/>
          <p:cNvSpPr/>
          <p:nvPr/>
        </p:nvSpPr>
        <p:spPr>
          <a:xfrm>
            <a:off x="324000" y="162864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国际形势和我国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9"/>
          <p:cNvSpPr/>
          <p:nvPr/>
        </p:nvSpPr>
        <p:spPr>
          <a:xfrm>
            <a:off x="466560" y="2930400"/>
            <a:ext cx="4176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    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国际社会普遍认为，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技术教育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是未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社会成员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基本素养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的教育，是开发人们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能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、促进人的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思维发展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的教育，是人人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必须接受和经历的教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40b6"/>
                </a:solidFill>
                <a:latin typeface="黑体"/>
                <a:ea typeface="黑体"/>
              </a:rPr>
              <a:t>    </a:t>
            </a:r>
            <a:r>
              <a:rPr b="0" lang="en-US" sz="1600" spc="-1" strike="noStrike">
                <a:solidFill>
                  <a:srgbClr val="1640b6"/>
                </a:solidFill>
                <a:latin typeface="黑体"/>
                <a:ea typeface="黑体"/>
              </a:rPr>
              <a:t>1996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年联合国科教文组织国际</a:t>
            </a:r>
            <a:r>
              <a:rPr b="0" lang="en-US" sz="1600" spc="-1" strike="noStrike">
                <a:solidFill>
                  <a:srgbClr val="1640b6"/>
                </a:solidFill>
                <a:latin typeface="黑体"/>
                <a:ea typeface="黑体"/>
              </a:rPr>
              <a:t>21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世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教育委员会发表的</a:t>
            </a:r>
            <a:r>
              <a:rPr b="0" lang="en-US" sz="1600" spc="-1" strike="noStrike">
                <a:solidFill>
                  <a:srgbClr val="1640b6"/>
                </a:solidFill>
                <a:latin typeface="黑体"/>
                <a:ea typeface="黑体"/>
              </a:rPr>
              <a:t>《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学习：内在的财富</a:t>
            </a:r>
            <a:r>
              <a:rPr b="0" lang="en-US" sz="1600" spc="-1" strike="noStrike">
                <a:solidFill>
                  <a:srgbClr val="1640b6"/>
                </a:solidFill>
                <a:latin typeface="黑体"/>
                <a:ea typeface="黑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的报告，报告确立了面向未来的终身教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的宗旨是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四种基本学习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，即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学会认知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学会做事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、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学会共同生活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和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学会生存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学会做事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、发展实践能力决不只是熟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些操作技能，学会某些重复不便的实践方法；在未来工业条件下，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学会做事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意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着要从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资格概念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转向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能力概念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40"/>
          <p:cNvGrpSpPr/>
          <p:nvPr/>
        </p:nvGrpSpPr>
        <p:grpSpPr>
          <a:xfrm>
            <a:off x="395280" y="2349360"/>
            <a:ext cx="3324240" cy="368280"/>
            <a:chOff x="395280" y="2349360"/>
            <a:chExt cx="3324240" cy="368280"/>
          </a:xfrm>
        </p:grpSpPr>
        <p:sp>
          <p:nvSpPr>
            <p:cNvPr id="449" name="Text Box 41"/>
            <p:cNvSpPr/>
            <p:nvPr/>
          </p:nvSpPr>
          <p:spPr>
            <a:xfrm>
              <a:off x="1344240" y="234936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世界各国高中早已开设了技术类课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42"/>
            <p:cNvSpPr/>
            <p:nvPr/>
          </p:nvSpPr>
          <p:spPr>
            <a:xfrm>
              <a:off x="395280" y="2420640"/>
              <a:ext cx="144360" cy="216000"/>
            </a:xfrm>
            <a:prstGeom prst="triangle">
              <a:avLst>
                <a:gd name="adj" fmla="val 100000"/>
              </a:avLst>
            </a:prstGeom>
            <a:solidFill>
              <a:srgbClr val="92c3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2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454" name="Oval 3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" name="Picture 4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Rectangle 5"/>
          <p:cNvSpPr/>
          <p:nvPr/>
        </p:nvSpPr>
        <p:spPr>
          <a:xfrm>
            <a:off x="468360" y="907920"/>
            <a:ext cx="18716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0" y="115920"/>
            <a:ext cx="600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为什么要学习通用技术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971640" y="2060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现在我国沿海经济工业主要以来料加工为主，知识产权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技术）掌握在别人的手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只赚取了低廉的加工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1353960" y="162864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国经济发展的现状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826920" y="1700280"/>
            <a:ext cx="144720" cy="216000"/>
          </a:xfrm>
          <a:prstGeom prst="triangle">
            <a:avLst>
              <a:gd name="adj" fmla="val 100000"/>
            </a:avLst>
          </a:prstGeom>
          <a:solidFill>
            <a:srgbClr val="92c3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11" descr="点击放大此图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2079720"/>
            <a:ext cx="2381400" cy="1780920"/>
          </a:xfrm>
          <a:prstGeom prst="rect">
            <a:avLst/>
          </a:prstGeom>
          <a:ln w="28440">
            <a:solidFill>
              <a:srgbClr val="c1ff11"/>
            </a:solidFill>
            <a:miter/>
          </a:ln>
        </p:spPr>
      </p:pic>
      <p:pic>
        <p:nvPicPr>
          <p:cNvPr id="463" name="Picture 12" descr="点击放大此图片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1268280"/>
            <a:ext cx="1946520" cy="2592360"/>
          </a:xfrm>
          <a:prstGeom prst="rect">
            <a:avLst/>
          </a:prstGeom>
          <a:ln w="28440">
            <a:solidFill>
              <a:srgbClr val="c1ff11"/>
            </a:solidFill>
            <a:miter/>
          </a:ln>
        </p:spPr>
      </p:pic>
      <p:pic>
        <p:nvPicPr>
          <p:cNvPr id="464" name="Picture 13" descr="10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57080" y="4076640"/>
            <a:ext cx="5183280" cy="2592360"/>
          </a:xfrm>
          <a:prstGeom prst="rect">
            <a:avLst/>
          </a:prstGeom>
          <a:ln w="28440">
            <a:solidFill>
              <a:srgbClr val="c1ff11"/>
            </a:solidFill>
            <a:miter/>
          </a:ln>
        </p:spPr>
      </p:pic>
      <p:pic>
        <p:nvPicPr>
          <p:cNvPr id="465" name="Picture 14" descr="20070507012026928"/>
          <p:cNvPicPr/>
          <p:nvPr/>
        </p:nvPicPr>
        <p:blipFill>
          <a:blip r:embed="rId8"/>
          <a:stretch/>
        </p:blipFill>
        <p:spPr>
          <a:xfrm>
            <a:off x="4068720" y="4076640"/>
            <a:ext cx="1871640" cy="1241640"/>
          </a:xfrm>
          <a:prstGeom prst="rect">
            <a:avLst/>
          </a:prstGeom>
          <a:ln w="28440">
            <a:solidFill>
              <a:srgbClr val="c1ff11"/>
            </a:solidFill>
            <a:miter/>
          </a:ln>
        </p:spPr>
      </p:pic>
      <p:sp>
        <p:nvSpPr>
          <p:cNvPr id="466" name="Text Box 15"/>
          <p:cNvSpPr/>
          <p:nvPr/>
        </p:nvSpPr>
        <p:spPr>
          <a:xfrm>
            <a:off x="6156360" y="472428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国工业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技术含量不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如制衣行业，几亿件衣服还不值一架波音飞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2"/>
          <p:cNvSpPr/>
          <p:nvPr/>
        </p:nvSpPr>
        <p:spPr>
          <a:xfrm>
            <a:off x="2141640" y="429084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fdfdfd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3"/>
          <p:cNvSpPr/>
          <p:nvPr/>
        </p:nvSpPr>
        <p:spPr>
          <a:xfrm rot="20601600">
            <a:off x="1452240" y="2179440"/>
            <a:ext cx="5686560" cy="3016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50000">
                <a:srgbClr val="464646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4"/>
          <p:cNvSpPr/>
          <p:nvPr/>
        </p:nvSpPr>
        <p:spPr>
          <a:xfrm rot="20601600">
            <a:off x="1471320" y="20160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rc 5"/>
          <p:cNvSpPr/>
          <p:nvPr/>
        </p:nvSpPr>
        <p:spPr>
          <a:xfrm rot="20601600">
            <a:off x="4129200" y="1904760"/>
            <a:ext cx="2849400" cy="1966680"/>
          </a:xfrm>
          <a:custGeom>
            <a:avLst/>
            <a:gdLst/>
            <a:ahLst/>
            <a:rect l="l" t="t" r="r" b="b"/>
            <a:pathLst>
              <a:path fill="none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</a:path>
              <a:path stroke="0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  <a:lnTo>
                  <a:pt x="0" y="17105"/>
                </a:lnTo>
                <a:lnTo>
                  <a:pt x="13190" y="-1"/>
                </a:lnTo>
                <a:close/>
              </a:path>
            </a:pathLst>
          </a:custGeom>
          <a:gradFill rotWithShape="0">
            <a:gsLst>
              <a:gs pos="0">
                <a:srgbClr val="77bb99"/>
              </a:gs>
              <a:gs pos="100000">
                <a:srgbClr val="339966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rc 6"/>
          <p:cNvSpPr/>
          <p:nvPr/>
        </p:nvSpPr>
        <p:spPr>
          <a:xfrm flipH="1" rot="20602200">
            <a:off x="1716480" y="3780000"/>
            <a:ext cx="3281400" cy="1476360"/>
          </a:xfrm>
          <a:custGeom>
            <a:avLst/>
            <a:gdLst/>
            <a:ahLst/>
            <a:rect l="l" t="t" r="r" b="b"/>
            <a:pathLst>
              <a:path fill="none" w="25114" h="21600">
                <a:moveTo>
                  <a:pt x="25114" y="2497"/>
                </a:moveTo>
                <a:cubicBezTo>
                  <a:pt x="23846" y="13386"/>
                  <a:pt x="14622" y="21600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</a:path>
              <a:path stroke="0" w="25114" h="21600">
                <a:moveTo>
                  <a:pt x="25114" y="2497"/>
                </a:moveTo>
                <a:cubicBezTo>
                  <a:pt x="23846" y="13386"/>
                  <a:pt x="14622" y="21600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  <a:lnTo>
                  <a:pt x="3659" y="0"/>
                </a:lnTo>
                <a:lnTo>
                  <a:pt x="25114" y="2497"/>
                </a:lnTo>
                <a:close/>
              </a:path>
            </a:pathLst>
          </a:custGeom>
          <a:gradFill rotWithShape="0">
            <a:gsLst>
              <a:gs pos="0">
                <a:srgbClr val="59771e"/>
              </a:gs>
              <a:gs pos="100000">
                <a:srgbClr val="92c331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rc 7"/>
          <p:cNvSpPr/>
          <p:nvPr/>
        </p:nvSpPr>
        <p:spPr>
          <a:xfrm rot="20601600">
            <a:off x="2653920" y="1987560"/>
            <a:ext cx="3133800" cy="1417680"/>
          </a:xfrm>
          <a:custGeom>
            <a:avLst/>
            <a:gdLst/>
            <a:ahLst/>
            <a:rect l="l" t="t" r="r" b="b"/>
            <a:pathLst>
              <a:path fill="none" w="23826" h="21600">
                <a:moveTo>
                  <a:pt x="0" y="2683"/>
                </a:moveTo>
                <a:cubicBezTo>
                  <a:pt x="3193" y="923"/>
                  <a:pt x="6780" y="0"/>
                  <a:pt x="10427" y="0"/>
                </a:cubicBezTo>
                <a:cubicBezTo>
                  <a:pt x="15290" y="0"/>
                  <a:pt x="20011" y="1641"/>
                  <a:pt x="23825" y="4658"/>
                </a:cubicBezTo>
              </a:path>
              <a:path stroke="0" w="23826" h="21600">
                <a:moveTo>
                  <a:pt x="0" y="2683"/>
                </a:moveTo>
                <a:cubicBezTo>
                  <a:pt x="3193" y="923"/>
                  <a:pt x="6780" y="0"/>
                  <a:pt x="10427" y="0"/>
                </a:cubicBezTo>
                <a:cubicBezTo>
                  <a:pt x="15290" y="0"/>
                  <a:pt x="20011" y="1641"/>
                  <a:pt x="23825" y="4658"/>
                </a:cubicBezTo>
                <a:lnTo>
                  <a:pt x="10427" y="21600"/>
                </a:lnTo>
                <a:lnTo>
                  <a:pt x="0" y="2683"/>
                </a:lnTo>
                <a:close/>
              </a:path>
            </a:pathLst>
          </a:custGeom>
          <a:gradFill rotWithShape="0">
            <a:gsLst>
              <a:gs pos="0">
                <a:srgbClr val="30616a"/>
              </a:gs>
              <a:gs pos="100000">
                <a:srgbClr val="5cb8ca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rc 8"/>
          <p:cNvSpPr/>
          <p:nvPr/>
        </p:nvSpPr>
        <p:spPr>
          <a:xfrm flipH="1" rot="20602200">
            <a:off x="1370880" y="2514240"/>
            <a:ext cx="2849400" cy="2111400"/>
          </a:xfrm>
          <a:custGeom>
            <a:avLst/>
            <a:gdLst/>
            <a:ahLst/>
            <a:rect l="l" t="t" r="r" b="b"/>
            <a:pathLst>
              <a:path fill="none" w="21600" h="30685">
                <a:moveTo>
                  <a:pt x="7749" y="-1"/>
                </a:moveTo>
                <a:cubicBezTo>
                  <a:pt x="16093" y="3206"/>
                  <a:pt x="21600" y="11222"/>
                  <a:pt x="21600" y="20162"/>
                </a:cubicBezTo>
                <a:cubicBezTo>
                  <a:pt x="21600" y="23845"/>
                  <a:pt x="20657" y="27468"/>
                  <a:pt x="18863" y="30685"/>
                </a:cubicBezTo>
              </a:path>
              <a:path stroke="0" w="21600" h="30685">
                <a:moveTo>
                  <a:pt x="7749" y="-1"/>
                </a:moveTo>
                <a:cubicBezTo>
                  <a:pt x="16093" y="3206"/>
                  <a:pt x="21600" y="11222"/>
                  <a:pt x="21600" y="20162"/>
                </a:cubicBezTo>
                <a:cubicBezTo>
                  <a:pt x="21600" y="23845"/>
                  <a:pt x="20657" y="27468"/>
                  <a:pt x="18863" y="30685"/>
                </a:cubicBezTo>
                <a:lnTo>
                  <a:pt x="0" y="20162"/>
                </a:lnTo>
                <a:lnTo>
                  <a:pt x="7749" y="-1"/>
                </a:lnTo>
                <a:close/>
              </a:path>
            </a:pathLst>
          </a:custGeom>
          <a:gradFill rotWithShape="0">
            <a:gsLst>
              <a:gs pos="0">
                <a:srgbClr val="7d4801"/>
              </a:gs>
              <a:gs pos="100000">
                <a:srgbClr val="e6840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9"/>
          <p:cNvSpPr/>
          <p:nvPr/>
        </p:nvSpPr>
        <p:spPr>
          <a:xfrm rot="20601600">
            <a:off x="2933640" y="27302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ececec"/>
              </a:gs>
              <a:gs pos="50000">
                <a:srgbClr val="b2b2b2"/>
              </a:gs>
              <a:gs pos="100000">
                <a:srgbClr val="ecec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 rot="21333600">
            <a:off x="2625480" y="414936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为了人的全面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展。人的发展就是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和脑的发展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 rot="18148800">
            <a:off x="1703160" y="3310920"/>
            <a:ext cx="124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有利于提高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民的技术素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 rot="20757600">
            <a:off x="3498480" y="2060640"/>
            <a:ext cx="13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未来是科学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竞争的时代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未知"/>
          <p:cNvSpPr/>
          <p:nvPr/>
        </p:nvSpPr>
        <p:spPr>
          <a:xfrm>
            <a:off x="5448240" y="3448080"/>
            <a:ext cx="1773360" cy="1776240"/>
          </a:xfrm>
          <a:custGeom>
            <a:avLst/>
            <a:gdLst/>
            <a:ahLst/>
            <a:rect l="l" t="t" r="r" b="b"/>
            <a:pathLst>
              <a:path w="1117" h="1119">
                <a:moveTo>
                  <a:pt x="21" y="888"/>
                </a:moveTo>
                <a:lnTo>
                  <a:pt x="1117" y="0"/>
                </a:lnTo>
                <a:lnTo>
                  <a:pt x="1093" y="256"/>
                </a:lnTo>
                <a:cubicBezTo>
                  <a:pt x="1026" y="373"/>
                  <a:pt x="896" y="560"/>
                  <a:pt x="717" y="704"/>
                </a:cubicBezTo>
                <a:cubicBezTo>
                  <a:pt x="538" y="848"/>
                  <a:pt x="133" y="1088"/>
                  <a:pt x="17" y="1119"/>
                </a:cubicBezTo>
                <a:cubicBezTo>
                  <a:pt x="0" y="1037"/>
                  <a:pt x="21" y="888"/>
                  <a:pt x="21" y="888"/>
                </a:cubicBezTo>
                <a:close/>
              </a:path>
            </a:pathLst>
          </a:custGeom>
          <a:gradFill rotWithShape="0">
            <a:gsLst>
              <a:gs pos="0">
                <a:srgbClr val="7e88e4"/>
              </a:gs>
              <a:gs pos="100000">
                <a:srgbClr val="4d538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rc 14"/>
          <p:cNvSpPr/>
          <p:nvPr/>
        </p:nvSpPr>
        <p:spPr>
          <a:xfrm rot="20539200">
            <a:off x="4511520" y="2836440"/>
            <a:ext cx="2729160" cy="1859040"/>
          </a:xfrm>
          <a:custGeom>
            <a:avLst/>
            <a:gdLst/>
            <a:ahLst/>
            <a:rect l="l" t="t" r="r" b="b"/>
            <a:pathLst>
              <a:path fill="none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</a:path>
              <a:path stroke="0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  <a:lnTo>
                  <a:pt x="0" y="0"/>
                </a:lnTo>
                <a:lnTo>
                  <a:pt x="18016" y="11915"/>
                </a:lnTo>
                <a:close/>
              </a:path>
            </a:pathLst>
          </a:custGeom>
          <a:gradFill rotWithShape="0">
            <a:gsLst>
              <a:gs pos="0">
                <a:srgbClr val="3a3f6a"/>
              </a:gs>
              <a:gs pos="100000">
                <a:srgbClr val="7e88e4"/>
              </a:gs>
            </a:gsLst>
            <a:lin ang="11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未知"/>
          <p:cNvSpPr/>
          <p:nvPr/>
        </p:nvSpPr>
        <p:spPr>
          <a:xfrm>
            <a:off x="4583160" y="3924360"/>
            <a:ext cx="923760" cy="1311120"/>
          </a:xfrm>
          <a:custGeom>
            <a:avLst/>
            <a:gdLst/>
            <a:ahLst/>
            <a:rect l="l" t="t" r="r" b="b"/>
            <a:pathLst>
              <a:path w="582" h="826">
                <a:moveTo>
                  <a:pt x="582" y="572"/>
                </a:moveTo>
                <a:lnTo>
                  <a:pt x="562" y="826"/>
                </a:lnTo>
                <a:lnTo>
                  <a:pt x="0" y="42"/>
                </a:lnTo>
                <a:lnTo>
                  <a:pt x="90" y="0"/>
                </a:lnTo>
                <a:lnTo>
                  <a:pt x="582" y="572"/>
                </a:lnTo>
                <a:close/>
              </a:path>
            </a:pathLst>
          </a:custGeom>
          <a:gradFill rotWithShape="0">
            <a:gsLst>
              <a:gs pos="0">
                <a:srgbClr val="3a3f6a"/>
              </a:gs>
              <a:gs pos="100000">
                <a:srgbClr val="7e88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6"/>
          <p:cNvSpPr/>
          <p:nvPr/>
        </p:nvSpPr>
        <p:spPr>
          <a:xfrm rot="2613000">
            <a:off x="5628240" y="22284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动手是一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技术和艺术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源泉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未知"/>
          <p:cNvSpPr/>
          <p:nvPr/>
        </p:nvSpPr>
        <p:spPr>
          <a:xfrm>
            <a:off x="4427640" y="3990960"/>
            <a:ext cx="838080" cy="1108080"/>
          </a:xfrm>
          <a:custGeom>
            <a:avLst/>
            <a:gdLst/>
            <a:ahLst/>
            <a:rect l="l" t="t" r="r" b="b"/>
            <a:pathLst>
              <a:path w="528" h="698">
                <a:moveTo>
                  <a:pt x="0" y="34"/>
                </a:moveTo>
                <a:lnTo>
                  <a:pt x="248" y="546"/>
                </a:lnTo>
                <a:lnTo>
                  <a:pt x="256" y="698"/>
                </a:lnTo>
                <a:lnTo>
                  <a:pt x="435" y="642"/>
                </a:lnTo>
                <a:lnTo>
                  <a:pt x="528" y="594"/>
                </a:lnTo>
                <a:lnTo>
                  <a:pt x="119" y="0"/>
                </a:lnTo>
                <a:lnTo>
                  <a:pt x="0" y="34"/>
                </a:lnTo>
                <a:close/>
              </a:path>
            </a:pathLst>
          </a:cu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8"/>
          <p:cNvSpPr/>
          <p:nvPr/>
        </p:nvSpPr>
        <p:spPr>
          <a:xfrm rot="20601600">
            <a:off x="3036960" y="2981160"/>
            <a:ext cx="2587680" cy="111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19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487" name="Oval 20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8" name="Picture 21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Text Box 22"/>
          <p:cNvSpPr/>
          <p:nvPr/>
        </p:nvSpPr>
        <p:spPr>
          <a:xfrm>
            <a:off x="32400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个人发展的需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3"/>
          <p:cNvSpPr/>
          <p:nvPr/>
        </p:nvSpPr>
        <p:spPr>
          <a:xfrm>
            <a:off x="0" y="115920"/>
            <a:ext cx="600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为什么要学习通用技术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4"/>
          <p:cNvSpPr/>
          <p:nvPr/>
        </p:nvSpPr>
        <p:spPr>
          <a:xfrm>
            <a:off x="468360" y="907920"/>
            <a:ext cx="180000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5"/>
          <p:cNvSpPr/>
          <p:nvPr/>
        </p:nvSpPr>
        <p:spPr>
          <a:xfrm>
            <a:off x="7596360" y="6524640"/>
            <a:ext cx="1223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26"/>
          <p:cNvSpPr/>
          <p:nvPr/>
        </p:nvSpPr>
        <p:spPr>
          <a:xfrm rot="18814200">
            <a:off x="5720400" y="4080600"/>
            <a:ext cx="1728720" cy="8571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8184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7" descr="学生形象1"/>
          <p:cNvPicPr/>
          <p:nvPr/>
        </p:nvPicPr>
        <p:blipFill>
          <a:blip r:embed="rId2"/>
          <a:stretch/>
        </p:blipFill>
        <p:spPr>
          <a:xfrm>
            <a:off x="6659640" y="4508640"/>
            <a:ext cx="1981080" cy="20145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900000" y="56610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9966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915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如何学好通用技术课程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50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50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4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7"/>
            <p:cNvSpPr/>
            <p:nvPr/>
          </p:nvSpPr>
          <p:spPr>
            <a:xfrm>
              <a:off x="1219320" y="25938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要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学会综合运用多学科知识，善于思考，勤于动手，积极参与技术活动和亲身经历、体验设计过程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51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20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24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25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26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27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29"/>
            <p:cNvSpPr/>
            <p:nvPr/>
          </p:nvSpPr>
          <p:spPr>
            <a:xfrm>
              <a:off x="3581640" y="25938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采取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自主学习、合作学习、网络学习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等多种学习方式，促进能力的提高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30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31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529" name="AutoShape 33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35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36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37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534" name="Oval 38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39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40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41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42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44"/>
            <p:cNvSpPr/>
            <p:nvPr/>
          </p:nvSpPr>
          <p:spPr>
            <a:xfrm>
              <a:off x="5943600" y="2593800"/>
              <a:ext cx="2057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要注意使用本书导读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明确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“学习目标”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会使我们明确学习的方向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为进入学习过程做好心理准备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了解 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“章节构成 ”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能使我们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总揽全貌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    “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马上行动”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使我们所学的知识与能力得到即时的巩固、应用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46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47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544" name="Oval 48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Picture 49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Rectangle 50"/>
          <p:cNvSpPr/>
          <p:nvPr/>
        </p:nvSpPr>
        <p:spPr>
          <a:xfrm>
            <a:off x="468360" y="907920"/>
            <a:ext cx="18716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1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2170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容提要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3276720" y="4346640"/>
            <a:ext cx="4824360" cy="782640"/>
            <a:chOff x="3276720" y="4346640"/>
            <a:chExt cx="4824360" cy="782640"/>
          </a:xfrm>
        </p:grpSpPr>
        <p:sp>
          <p:nvSpPr>
            <p:cNvPr id="116" name="AutoShape 4"/>
            <p:cNvSpPr/>
            <p:nvPr/>
          </p:nvSpPr>
          <p:spPr>
            <a:xfrm>
              <a:off x="3276720" y="4346640"/>
              <a:ext cx="4824360" cy="782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5"/>
            <p:cNvSpPr/>
            <p:nvPr/>
          </p:nvSpPr>
          <p:spPr>
            <a:xfrm>
              <a:off x="3382200" y="4417920"/>
              <a:ext cx="929160" cy="641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bb590"/>
                </a:gs>
                <a:gs pos="100000">
                  <a:srgbClr val="339966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3441240" y="4459320"/>
              <a:ext cx="462960" cy="3207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9966">
                    <a:alpha val="0"/>
                  </a:srgbClr>
                </a:gs>
                <a:gs pos="100000">
                  <a:srgbClr val="a9d4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640680" y="4475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"/>
            <p:cNvSpPr/>
            <p:nvPr/>
          </p:nvSpPr>
          <p:spPr>
            <a:xfrm>
              <a:off x="4439520" y="4556160"/>
              <a:ext cx="354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68402"/>
                  </a:solidFill>
                  <a:latin typeface="黑体"/>
                  <a:ea typeface="黑体"/>
                </a:rPr>
                <a:t>为什么要学习通用技术</a:t>
              </a:r>
              <a:r>
                <a:rPr b="1" lang="en-US" sz="1800" spc="-1" strike="noStrike">
                  <a:solidFill>
                    <a:srgbClr val="e68402"/>
                  </a:solidFill>
                  <a:latin typeface="黑体"/>
                  <a:ea typeface="黑体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9"/>
          <p:cNvGrpSpPr/>
          <p:nvPr/>
        </p:nvGrpSpPr>
        <p:grpSpPr>
          <a:xfrm>
            <a:off x="3276720" y="5354640"/>
            <a:ext cx="4824360" cy="738360"/>
            <a:chOff x="3276720" y="5354640"/>
            <a:chExt cx="4824360" cy="738360"/>
          </a:xfrm>
        </p:grpSpPr>
        <p:sp>
          <p:nvSpPr>
            <p:cNvPr id="122" name="AutoShape 10"/>
            <p:cNvSpPr/>
            <p:nvPr/>
          </p:nvSpPr>
          <p:spPr>
            <a:xfrm>
              <a:off x="3276720" y="5354640"/>
              <a:ext cx="4824360" cy="738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1"/>
            <p:cNvSpPr/>
            <p:nvPr/>
          </p:nvSpPr>
          <p:spPr>
            <a:xfrm>
              <a:off x="3382200" y="5423040"/>
              <a:ext cx="929160" cy="603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db3ee"/>
                </a:gs>
                <a:gs pos="100000">
                  <a:srgbClr val="7e88e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3441240" y="5460840"/>
              <a:ext cx="462960" cy="3034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e88e4">
                    <a:alpha val="0"/>
                  </a:srgbClr>
                </a:gs>
                <a:gs pos="100000">
                  <a:srgbClr val="c0c5f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3"/>
            <p:cNvSpPr/>
            <p:nvPr/>
          </p:nvSpPr>
          <p:spPr>
            <a:xfrm>
              <a:off x="3640680" y="5427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4439520" y="5564160"/>
              <a:ext cx="354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68402"/>
                  </a:solidFill>
                  <a:latin typeface="Arial"/>
                  <a:ea typeface="黑体"/>
                </a:rPr>
                <a:t>如何学好通用技术课程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5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128" name="Oval 16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7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18"/>
          <p:cNvGrpSpPr/>
          <p:nvPr/>
        </p:nvGrpSpPr>
        <p:grpSpPr>
          <a:xfrm>
            <a:off x="3276720" y="3338640"/>
            <a:ext cx="4824360" cy="761760"/>
            <a:chOff x="3276720" y="3338640"/>
            <a:chExt cx="4824360" cy="761760"/>
          </a:xfrm>
        </p:grpSpPr>
        <p:sp>
          <p:nvSpPr>
            <p:cNvPr id="131" name="AutoShape 19"/>
            <p:cNvSpPr/>
            <p:nvPr/>
          </p:nvSpPr>
          <p:spPr>
            <a:xfrm>
              <a:off x="3276720" y="3338640"/>
              <a:ext cx="4824360" cy="76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0"/>
            <p:cNvSpPr/>
            <p:nvPr/>
          </p:nvSpPr>
          <p:spPr>
            <a:xfrm>
              <a:off x="3382200" y="3408120"/>
              <a:ext cx="929160" cy="6220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2c331"/>
                </a:gs>
                <a:gs pos="100000">
                  <a:srgbClr val="668822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3441240" y="3447720"/>
              <a:ext cx="462960" cy="3110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2c331">
                    <a:alpha val="0"/>
                  </a:srgbClr>
                </a:gs>
                <a:gs pos="50000">
                  <a:srgbClr val="c4de8f"/>
                </a:gs>
                <a:gs pos="100000">
                  <a:srgbClr val="92c331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2"/>
            <p:cNvSpPr/>
            <p:nvPr/>
          </p:nvSpPr>
          <p:spPr>
            <a:xfrm>
              <a:off x="3569760" y="3468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3"/>
            <p:cNvSpPr/>
            <p:nvPr/>
          </p:nvSpPr>
          <p:spPr>
            <a:xfrm>
              <a:off x="4439520" y="3547800"/>
              <a:ext cx="354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68402"/>
                  </a:solidFill>
                  <a:latin typeface="Arial"/>
                  <a:ea typeface="黑体"/>
                </a:rPr>
                <a:t>什么是通用技术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4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5"/>
          <p:cNvSpPr/>
          <p:nvPr/>
        </p:nvSpPr>
        <p:spPr>
          <a:xfrm>
            <a:off x="468360" y="907920"/>
            <a:ext cx="180000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6"/>
          <p:cNvGrpSpPr/>
          <p:nvPr/>
        </p:nvGrpSpPr>
        <p:grpSpPr>
          <a:xfrm>
            <a:off x="684360" y="1620720"/>
            <a:ext cx="2160000" cy="1154160"/>
            <a:chOff x="684360" y="1620720"/>
            <a:chExt cx="2160000" cy="1154160"/>
          </a:xfrm>
        </p:grpSpPr>
        <p:grpSp>
          <p:nvGrpSpPr>
            <p:cNvPr id="139" name="Group 27"/>
            <p:cNvGrpSpPr/>
            <p:nvPr/>
          </p:nvGrpSpPr>
          <p:grpSpPr>
            <a:xfrm>
              <a:off x="684360" y="1620720"/>
              <a:ext cx="2160000" cy="1154160"/>
              <a:chOff x="684360" y="1620720"/>
              <a:chExt cx="2160000" cy="1154160"/>
            </a:xfrm>
          </p:grpSpPr>
          <p:grpSp>
            <p:nvGrpSpPr>
              <p:cNvPr id="140" name="Group 28"/>
              <p:cNvGrpSpPr/>
              <p:nvPr/>
            </p:nvGrpSpPr>
            <p:grpSpPr>
              <a:xfrm>
                <a:off x="684360" y="1723680"/>
                <a:ext cx="2160000" cy="1051200"/>
                <a:chOff x="684360" y="1723680"/>
                <a:chExt cx="2160000" cy="1051200"/>
              </a:xfrm>
            </p:grpSpPr>
            <p:sp>
              <p:nvSpPr>
                <p:cNvPr id="141" name="Oval 29"/>
                <p:cNvSpPr/>
                <p:nvPr/>
              </p:nvSpPr>
              <p:spPr>
                <a:xfrm>
                  <a:off x="707760" y="1757160"/>
                  <a:ext cx="2136600" cy="101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94a32"/>
                    </a:gs>
                    <a:gs pos="100000">
                      <a:srgbClr val="3399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30"/>
                <p:cNvSpPr/>
                <p:nvPr/>
              </p:nvSpPr>
              <p:spPr>
                <a:xfrm>
                  <a:off x="684360" y="1723680"/>
                  <a:ext cx="2136960" cy="101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a5d2bb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Oval 31"/>
              <p:cNvSpPr/>
              <p:nvPr/>
            </p:nvSpPr>
            <p:spPr>
              <a:xfrm>
                <a:off x="785880" y="1620720"/>
                <a:ext cx="1933920" cy="966600"/>
              </a:xfrm>
              <a:prstGeom prst="ellipse">
                <a:avLst/>
              </a:prstGeom>
              <a:gradFill rotWithShape="0">
                <a:gsLst>
                  <a:gs pos="0">
                    <a:srgbClr val="92c331"/>
                  </a:gs>
                  <a:gs pos="100000">
                    <a:srgbClr val="445a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32"/>
              <p:cNvSpPr/>
              <p:nvPr/>
            </p:nvSpPr>
            <p:spPr>
              <a:xfrm>
                <a:off x="811080" y="1626120"/>
                <a:ext cx="1887120" cy="942480"/>
              </a:xfrm>
              <a:prstGeom prst="ellipse">
                <a:avLst/>
              </a:prstGeom>
              <a:gradFill rotWithShape="0">
                <a:gsLst>
                  <a:gs pos="0">
                    <a:srgbClr val="d9eab7"/>
                  </a:gs>
                  <a:gs pos="100000">
                    <a:srgbClr val="92c331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33"/>
              <p:cNvSpPr/>
              <p:nvPr/>
            </p:nvSpPr>
            <p:spPr>
              <a:xfrm>
                <a:off x="830520" y="1635480"/>
                <a:ext cx="1795680" cy="880920"/>
              </a:xfrm>
              <a:prstGeom prst="ellipse">
                <a:avLst/>
              </a:prstGeom>
              <a:gradFill rotWithShape="0">
                <a:gsLst>
                  <a:gs pos="0">
                    <a:srgbClr val="92c331">
                      <a:alpha val="48235"/>
                    </a:srgbClr>
                  </a:gs>
                  <a:gs pos="100000">
                    <a:srgbClr val="749a2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34"/>
              <p:cNvSpPr/>
              <p:nvPr/>
            </p:nvSpPr>
            <p:spPr>
              <a:xfrm>
                <a:off x="925560" y="1654920"/>
                <a:ext cx="1580760" cy="713880"/>
              </a:xfrm>
              <a:prstGeom prst="ellipse">
                <a:avLst/>
              </a:prstGeom>
              <a:gradFill rotWithShape="0">
                <a:gsLst>
                  <a:gs pos="0">
                    <a:srgbClr val="92c331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35"/>
            <p:cNvSpPr/>
            <p:nvPr/>
          </p:nvSpPr>
          <p:spPr>
            <a:xfrm>
              <a:off x="1390320" y="18190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课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未知"/>
          <p:cNvSpPr/>
          <p:nvPr/>
        </p:nvSpPr>
        <p:spPr>
          <a:xfrm flipH="1">
            <a:off x="1763640" y="2781360"/>
            <a:ext cx="1309680" cy="30970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dfce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A4B-27C9-4772-A649-E3E6F78460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2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554" name="Oval 3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5" name="Picture 4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6" name="Rectangle 5"/>
          <p:cNvSpPr/>
          <p:nvPr/>
        </p:nvSpPr>
        <p:spPr>
          <a:xfrm>
            <a:off x="468360" y="907920"/>
            <a:ext cx="18716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1116000" y="148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分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762120" y="2133720"/>
          <a:ext cx="7619760" cy="4038480"/>
        </p:xfrm>
        <a:graphic>
          <a:graphicData uri="http://schemas.openxmlformats.org/drawingml/2006/table">
            <a:tbl>
              <a:tblPr/>
              <a:tblGrid>
                <a:gridCol w="1904760"/>
                <a:gridCol w="1904760"/>
                <a:gridCol w="1905120"/>
                <a:gridCol w="1905120"/>
              </a:tblGrid>
              <a:tr h="10288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640b6"/>
                          </a:solidFill>
                          <a:latin typeface="Verdana"/>
                          <a:ea typeface="黑体"/>
                        </a:rPr>
                        <a:t>过程性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640b6"/>
                          </a:solidFill>
                          <a:latin typeface="Verdana"/>
                          <a:ea typeface="黑体"/>
                        </a:rPr>
                        <a:t>终结性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学习过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c33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参与程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操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考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考勤、纪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c33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讨论、辩论、制作、作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作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书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2c33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699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如何学好通用技术课程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AutoShape 34"/>
          <p:cNvSpPr/>
          <p:nvPr/>
        </p:nvSpPr>
        <p:spPr>
          <a:xfrm>
            <a:off x="880920" y="1557360"/>
            <a:ext cx="162000" cy="216000"/>
          </a:xfrm>
          <a:prstGeom prst="triangle">
            <a:avLst>
              <a:gd name="adj" fmla="val 100000"/>
            </a:avLst>
          </a:prstGeom>
          <a:solidFill>
            <a:srgbClr val="92c331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886200" y="323028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hai*****@163.com </a:t>
            </a:r>
            <a:endParaRPr b="1" lang="en-US" sz="1800" spc="-1" strike="noStrike">
              <a:solidFill>
                <a:srgbClr val="1640b6"/>
              </a:solidFill>
              <a:latin typeface="Verdana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395280" y="1413000"/>
            <a:ext cx="4464000" cy="4537080"/>
            <a:chOff x="395280" y="1413000"/>
            <a:chExt cx="4464000" cy="4537080"/>
          </a:xfrm>
        </p:grpSpPr>
        <p:sp>
          <p:nvSpPr>
            <p:cNvPr id="564" name="Oval 4"/>
            <p:cNvSpPr/>
            <p:nvPr/>
          </p:nvSpPr>
          <p:spPr>
            <a:xfrm>
              <a:off x="395280" y="1413000"/>
              <a:ext cx="4464000" cy="453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5" descr="GT标志副本"/>
            <p:cNvPicPr/>
            <p:nvPr/>
          </p:nvPicPr>
          <p:blipFill>
            <a:blip r:embed="rId1"/>
            <a:stretch/>
          </p:blipFill>
          <p:spPr>
            <a:xfrm>
              <a:off x="611280" y="1822680"/>
              <a:ext cx="3960720" cy="391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WordArt 6"/>
          <p:cNvSpPr txBox="1"/>
          <p:nvPr/>
        </p:nvSpPr>
        <p:spPr>
          <a:xfrm>
            <a:off x="3492360" y="5373720"/>
            <a:ext cx="534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2c331"/>
                    </a:gs>
                    <a:gs pos="100000">
                      <a:srgbClr val="339966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2c331"/>
                  </a:gs>
                  <a:gs pos="100000">
                    <a:srgbClr val="339966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67" name="AutoShape 7"/>
          <p:cNvSpPr/>
          <p:nvPr/>
        </p:nvSpPr>
        <p:spPr>
          <a:xfrm>
            <a:off x="4284720" y="620640"/>
            <a:ext cx="4419720" cy="1584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4f0cd"/>
              </a:gs>
              <a:gs pos="50000">
                <a:srgbClr val="92c331"/>
              </a:gs>
              <a:gs pos="100000">
                <a:srgbClr val="e4f0cd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相信通用技术的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定会成为同学们豆寇年华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夯实基础、挑战自我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享受创造与发展乐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美好生活的一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2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339966"/>
              </a:gs>
              <a:gs pos="100000">
                <a:srgbClr val="45a274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e88e4"/>
              </a:gs>
              <a:gs pos="100000">
                <a:srgbClr val="b5baef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900000" y="2924280"/>
            <a:ext cx="2295360" cy="3324240"/>
            <a:chOff x="900000" y="2924280"/>
            <a:chExt cx="2295360" cy="3324240"/>
          </a:xfrm>
        </p:grpSpPr>
        <p:sp>
          <p:nvSpPr>
            <p:cNvPr id="158" name="AutoShape 9"/>
            <p:cNvSpPr/>
            <p:nvPr/>
          </p:nvSpPr>
          <p:spPr>
            <a:xfrm>
              <a:off x="900000" y="30924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e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0"/>
            <p:cNvSpPr/>
            <p:nvPr/>
          </p:nvSpPr>
          <p:spPr>
            <a:xfrm>
              <a:off x="1116000" y="294984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13559"/>
                </a:gs>
                <a:gs pos="50000">
                  <a:srgbClr val="7e88e4"/>
                </a:gs>
                <a:gs pos="100000">
                  <a:srgbClr val="3135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 flipH="1">
              <a:off x="2799360" y="302112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2"/>
            <p:cNvSpPr/>
            <p:nvPr/>
          </p:nvSpPr>
          <p:spPr>
            <a:xfrm flipH="1">
              <a:off x="1216800" y="30211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1527480" y="29242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技      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976320" y="335304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技术是指人类在利用、改造和保护自然的过程中通过创新所积累的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经验、知识、技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以及为某一目的的共同协作组成的工具和规则体系，这一体系是不断发展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5"/>
          <p:cNvGrpSpPr/>
          <p:nvPr/>
        </p:nvGrpSpPr>
        <p:grpSpPr>
          <a:xfrm>
            <a:off x="3424320" y="2475000"/>
            <a:ext cx="2295360" cy="3333600"/>
            <a:chOff x="3424320" y="2475000"/>
            <a:chExt cx="2295360" cy="3333600"/>
          </a:xfrm>
        </p:grpSpPr>
        <p:sp>
          <p:nvSpPr>
            <p:cNvPr id="165" name="AutoShape 16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e68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17"/>
            <p:cNvGrpSpPr/>
            <p:nvPr/>
          </p:nvGrpSpPr>
          <p:grpSpPr>
            <a:xfrm>
              <a:off x="3505320" y="2475000"/>
              <a:ext cx="2133720" cy="1328040"/>
              <a:chOff x="3505320" y="2475000"/>
              <a:chExt cx="2133720" cy="1328040"/>
            </a:xfrm>
          </p:grpSpPr>
          <p:sp>
            <p:nvSpPr>
              <p:cNvPr id="167" name="AutoShape 18"/>
              <p:cNvSpPr/>
              <p:nvPr/>
            </p:nvSpPr>
            <p:spPr>
              <a:xfrm>
                <a:off x="3657600" y="251460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a3d01"/>
                  </a:gs>
                  <a:gs pos="50000">
                    <a:srgbClr val="e68402"/>
                  </a:gs>
                  <a:gs pos="100000">
                    <a:srgbClr val="6a3d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9"/>
              <p:cNvSpPr/>
              <p:nvPr/>
            </p:nvSpPr>
            <p:spPr>
              <a:xfrm>
                <a:off x="4265280" y="24750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通用技术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20"/>
              <p:cNvSpPr/>
              <p:nvPr/>
            </p:nvSpPr>
            <p:spPr>
              <a:xfrm>
                <a:off x="3505320" y="2886120"/>
                <a:ext cx="2133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通用技术在本课程中是指信息技术之外的，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较为宽泛的、体现基础性和通用性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并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与专业技术相区别的技术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,  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是日常生活中应用广泛、对广大同学的发展具有广泛迁移价值的技术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21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171" name="Oval 22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23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4402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什么是通用技术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5"/>
          <p:cNvSpPr/>
          <p:nvPr/>
        </p:nvSpPr>
        <p:spPr>
          <a:xfrm>
            <a:off x="468360" y="907920"/>
            <a:ext cx="180000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6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27"/>
          <p:cNvGrpSpPr/>
          <p:nvPr/>
        </p:nvGrpSpPr>
        <p:grpSpPr>
          <a:xfrm>
            <a:off x="5934240" y="1979640"/>
            <a:ext cx="2367720" cy="3327480"/>
            <a:chOff x="5934240" y="1979640"/>
            <a:chExt cx="2367720" cy="3327480"/>
          </a:xfrm>
        </p:grpSpPr>
        <p:sp>
          <p:nvSpPr>
            <p:cNvPr id="177" name="AutoShape 28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9"/>
            <p:cNvSpPr/>
            <p:nvPr/>
          </p:nvSpPr>
          <p:spPr>
            <a:xfrm>
              <a:off x="6150240" y="2008080"/>
              <a:ext cx="1863720" cy="28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472f"/>
                </a:gs>
                <a:gs pos="50000">
                  <a:srgbClr val="339966"/>
                </a:gs>
                <a:gs pos="100000">
                  <a:srgbClr val="1847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30"/>
            <p:cNvSpPr/>
            <p:nvPr/>
          </p:nvSpPr>
          <p:spPr>
            <a:xfrm>
              <a:off x="6564600" y="1979640"/>
              <a:ext cx="103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《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通用技术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》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教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31" descr="课本"/>
            <p:cNvPicPr/>
            <p:nvPr/>
          </p:nvPicPr>
          <p:blipFill>
            <a:blip r:embed="rId2"/>
            <a:stretch/>
          </p:blipFill>
          <p:spPr>
            <a:xfrm rot="20990400">
              <a:off x="6080400" y="2587680"/>
              <a:ext cx="2087280" cy="1704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>
                  <a:alpha val="50000"/>
                </a:srgbClr>
              </a:outerShdw>
            </a:effectLst>
          </p:spPr>
        </p:pic>
        <p:pic>
          <p:nvPicPr>
            <p:cNvPr id="181" name="Picture 32" descr="课本"/>
            <p:cNvPicPr/>
            <p:nvPr/>
          </p:nvPicPr>
          <p:blipFill>
            <a:blip r:embed="rId3"/>
            <a:stretch/>
          </p:blipFill>
          <p:spPr>
            <a:xfrm>
              <a:off x="6012000" y="2924280"/>
              <a:ext cx="2158920" cy="1763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什么是通用技术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技术的内涵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85800" y="1981080"/>
            <a:ext cx="77724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305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30305"/>
                </a:solidFill>
                <a:latin typeface="Verdana"/>
              </a:rPr>
              <a:t>技术是伴随着人类劳动而产生的；在不同的历史时期，技术的内涵也不同</a:t>
            </a:r>
            <a:r>
              <a:rPr b="1" lang="zh-CN" sz="2800" spc="-1" strike="noStrike">
                <a:solidFill>
                  <a:srgbClr val="030305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技术的内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153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宋体"/>
                <a:ea typeface="宋体"/>
              </a:rPr>
              <a:t>在古代，技术仅仅是指个人的技术和技能。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pic>
        <p:nvPicPr>
          <p:cNvPr id="191" name="Picture 4" descr="zhm"/>
          <p:cNvPicPr/>
          <p:nvPr/>
        </p:nvPicPr>
        <p:blipFill>
          <a:blip r:embed="rId1"/>
          <a:stretch/>
        </p:blipFill>
        <p:spPr>
          <a:xfrm>
            <a:off x="2700360" y="2349360"/>
            <a:ext cx="29512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技术的内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     </a:t>
            </a: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在手工业生产条件下，技术是指手艺人世代相传的制作方法、手段和配方等。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pic>
        <p:nvPicPr>
          <p:cNvPr id="196" name="Picture 4" descr="造纸流程"/>
          <p:cNvPicPr/>
          <p:nvPr/>
        </p:nvPicPr>
        <p:blipFill>
          <a:blip r:embed="rId1"/>
          <a:stretch/>
        </p:blipFill>
        <p:spPr>
          <a:xfrm>
            <a:off x="1403280" y="2421000"/>
            <a:ext cx="6121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技术的内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6200" y="11966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      </a:t>
            </a:r>
            <a:r>
              <a:rPr b="1" lang="en-US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17</a:t>
            </a: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世纪后，技术内涵逐渐丰富。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pic>
        <p:nvPicPr>
          <p:cNvPr id="201" name="Picture 4" descr="蒸汽机"/>
          <p:cNvPicPr/>
          <p:nvPr/>
        </p:nvPicPr>
        <p:blipFill>
          <a:blip r:embed="rId1"/>
          <a:stretch/>
        </p:blipFill>
        <p:spPr>
          <a:xfrm>
            <a:off x="1260360" y="1844640"/>
            <a:ext cx="69343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技术的内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4868640"/>
            <a:ext cx="259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Verdana"/>
                <a:ea typeface="宋体"/>
              </a:rPr>
              <a:t>爱迪生与电灯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pic>
        <p:nvPicPr>
          <p:cNvPr id="206" name="Picture 4" descr="爱迪生"/>
          <p:cNvPicPr/>
          <p:nvPr/>
        </p:nvPicPr>
        <p:blipFill>
          <a:blip r:embed="rId1"/>
          <a:stretch/>
        </p:blipFill>
        <p:spPr>
          <a:xfrm>
            <a:off x="900000" y="1557360"/>
            <a:ext cx="2344680" cy="2971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d0201gs"/>
          <p:cNvPicPr/>
          <p:nvPr/>
        </p:nvPicPr>
        <p:blipFill>
          <a:blip r:embed="rId2"/>
          <a:stretch/>
        </p:blipFill>
        <p:spPr>
          <a:xfrm>
            <a:off x="4572000" y="1557360"/>
            <a:ext cx="3505320" cy="29354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4791240" y="4946760"/>
            <a:ext cx="35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Verdana"/>
                <a:ea typeface="宋体"/>
              </a:rPr>
              <a:t>航天技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技术的内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6200" y="1123560"/>
            <a:ext cx="815364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     </a:t>
            </a: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20</a:t>
            </a: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世纪中叶以后，核能技术、航天技术、生物技术、信息网络技术发明和推广，使人们对技术的认识提升到崭新的高度。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pic>
        <p:nvPicPr>
          <p:cNvPr id="213" name="Picture 4" descr="ha1c25a"/>
          <p:cNvPicPr/>
          <p:nvPr/>
        </p:nvPicPr>
        <p:blipFill>
          <a:blip r:embed="rId1"/>
          <a:stretch/>
        </p:blipFill>
        <p:spPr>
          <a:xfrm>
            <a:off x="179280" y="2492280"/>
            <a:ext cx="3283200" cy="4249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2-8"/>
          <p:cNvPicPr/>
          <p:nvPr/>
        </p:nvPicPr>
        <p:blipFill>
          <a:blip r:embed="rId2"/>
          <a:stretch/>
        </p:blipFill>
        <p:spPr>
          <a:xfrm>
            <a:off x="4356000" y="2565360"/>
            <a:ext cx="3397320" cy="41752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3651120" y="3121200"/>
            <a:ext cx="63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航天技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028000" y="3213000"/>
            <a:ext cx="79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07:05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13:14:46Z</dcterms:modified>
  <cp:revision>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