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E1C-84D2-4DDD-8054-B015B6C2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7E2-79F8-4D0F-8AEB-2A85E8D1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255-C1CE-4684-ACB7-1E4F6613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A9E-1E78-4AB1-9A35-957368C7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B927-C936-4609-8376-69F20FA1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78E8-7350-44D3-8544-DBB5E716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C59A-1903-48F8-9A33-A7B3631C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DE1E-4909-406C-83F3-2CFECD56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194B-397B-4250-9172-04FDB2AB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41DE-5963-4DDF-9F72-6D80D4A6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3BDA-4B64-407C-B122-E458FF6C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B99-254F-434F-B04F-20FC2737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76A1-1562-41AC-B604-A2D8AF1E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24B8-1CB1-4E6C-8C6F-64181A17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8A2A-031A-4654-B041-4B113976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D23A-6C41-4DE4-9B05-0165C3CD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9920-1493-483C-86AE-3FA1F8F2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12E-4DF1-4AB9-9174-97924344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86E-1BA3-425C-8704-94A86F32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40A-3DEC-48EF-90F2-1D562B82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62D-71FB-4F66-8189-308941D9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DDE-F86F-4292-B8A7-7418805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498-1B69-4569-B213-DA448BF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971-403E-4050-89FE-F1713765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D5EC-5701-4F06-BE0E-6DBDD4B3976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8960"/>
            <a:chOff x="228600" y="1981080"/>
            <a:chExt cx="7391520" cy="31896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D25F-2741-442C-ADCC-38E930D62C72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未成年人德育管理研究中心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2895120"/>
            <a:ext cx="7264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XXX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大学</a:t>
            </a: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XXX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系    </a:t>
            </a: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XXX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16600" y="320040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宋体"/>
              </a:rPr>
              <a:t>成立“未成年人德育管理研究中心”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宋体"/>
              </a:rPr>
              <a:t>                         背景之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成立“未成年人德育管理研究中心”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宋体"/>
              </a:rPr>
              <a:t>                         背景之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成立“未成年人德育管理研究中心”的意义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理论意义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: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运用管理学的思想去分析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未成年人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的德育管理工作，使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未成年人的道德教育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有管理学的背景为理论指导，这是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未成年人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德育管理工作科学有效的关键所在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实践意义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|: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德育工作的复杂性决定了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未成年人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德育管理的多样性和实践性，所以只有把理论运用于实践，才能切实地提高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未成年人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德育管理的质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宋体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宋体"/>
              </a:rPr>
              <a:t>未成年人德育管理研究中心”的宗旨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</a:rPr>
              <a:t>从学校、家庭、社会的战略管理的角度，剖析未成年人德育管理工作存在的诸多问题，并结合当前未成年人德育管理工作面临的新形势和新任务，使未成年人德育管理工作的质量不断提高，自觉按照德育管理规律办事</a:t>
            </a:r>
            <a:r>
              <a:rPr b="0" lang="zh-CN" sz="2800" spc="-1" strike="noStrike">
                <a:solidFill>
                  <a:srgbClr val="003366"/>
                </a:solidFill>
                <a:latin typeface="宋体"/>
              </a:rPr>
              <a:t>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本研究中心的工作思路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</a:rPr>
              <a:t>本中心先从学校德育管理的角度出发，分析目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前学校德育管理的内外部环境，掌握内部的优势和弱点，了解外部的机会与不利条件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在研究现行学校有关德育政策和规划的基础上，确定学校德育管理工作的目标和确认主要议题领域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3EE-912F-411B-A690-9046132B77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</a:rPr>
              <a:t>与部分中小学建立联系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，制定并选择恰当的策略，付诸实施，在实践中不断修改完善。最后进行总结评估。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</a:rPr>
              <a:t>在上述研究的基础上，对学校以外的德育管理展开专项研究，结合社区管理、家庭教育、社会文化管理等有关领域，研究构建面向全社会的未成年人德育管理体系，探索未成年人德育管理的规律。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73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c8e3"/>
                </a:solidFill>
                <a:latin typeface="华文新魏"/>
                <a:ea typeface="华文新魏"/>
              </a:rPr>
              <a:t>希望并热忱欢迎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c8e3"/>
                </a:solidFill>
                <a:latin typeface="华文新魏"/>
                <a:ea typeface="华文新魏"/>
              </a:rPr>
              <a:t>对未成年人的德育管理研究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c8e3"/>
                </a:solidFill>
                <a:latin typeface="华文新魏"/>
                <a:ea typeface="华文新魏"/>
              </a:rPr>
              <a:t>兴趣的教师和学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c8e3"/>
                </a:solidFill>
                <a:latin typeface="华文新魏"/>
                <a:ea typeface="华文新魏"/>
              </a:rPr>
              <a:t>加入进来！</a:t>
            </a:r>
            <a:r>
              <a:rPr b="0" lang="en-US" sz="4400" spc="-1" strike="noStrike">
                <a:solidFill>
                  <a:srgbClr val="83c8e3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1825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24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