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FCB-EFB6-47A5-9D46-B67D8045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9F5-1FAC-4AAE-8942-630A275F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759-910D-4E49-A539-2FB6735B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32A-B21C-4BA4-BDE6-57EB03B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839-E770-4AC5-9BAC-381E3A65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F58-E0D4-4474-9F13-B8E6289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341-3018-4A58-B4AA-DF4F2CDD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F5B-53B5-4426-A1C0-C41C1FF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C09-B795-4992-9A26-596CDD0D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9D7-41DE-49DA-BE18-D7DDF4EE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0E6-AB87-451B-89DD-33AACE1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5C8-D306-47E5-8361-FCD57D8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DB74-A0E4-460F-B74B-FA28D4EEED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57D-A18D-4742-987E-D4B0DC7E0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iStock_000000747323Small-ori.jpg"/>
          <p:cNvPicPr/>
          <p:nvPr/>
        </p:nvPicPr>
        <p:blipFill>
          <a:blip r:embed="rId1"/>
          <a:srcRect l="0" t="0" r="-6852" b="0"/>
          <a:stretch/>
        </p:blipFill>
        <p:spPr>
          <a:xfrm>
            <a:off x="0" y="152280"/>
            <a:ext cx="8839080" cy="670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3"/>
          <p:cNvSpPr/>
          <p:nvPr/>
        </p:nvSpPr>
        <p:spPr>
          <a:xfrm>
            <a:off x="7238880" y="423720"/>
            <a:ext cx="1909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9080" y="4237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外国人物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21760" y="14130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14:21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