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EBE-8B4D-416D-A235-F5DDF95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C75-BD48-4E16-9DA8-A8C389D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0A1-7687-4BF0-8105-CAA09E9E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EB5-2A82-4BB8-A176-BB65B0E8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38E-79FE-42B3-95F5-81B164D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D66-8083-4D74-9E9D-4902C556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E9E-60D8-451F-BD43-8430A4B4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8AC-706A-491A-9D8F-9A4D5F7D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52B-5FF2-47DE-8CE1-A962065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B21-CB53-48D5-B787-02F8735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33E-D10A-4A29-A05B-2D76D8B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55F-FED6-44D1-BD43-E052660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918-0F95-47BB-B56C-0CEDB8554A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46A-AFBD-4A0F-8102-CEF035E36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baby.jpg"/>
          <p:cNvPicPr/>
          <p:nvPr/>
        </p:nvPicPr>
        <p:blipFill>
          <a:blip r:embed="rId1"/>
          <a:srcRect l="0" t="0" r="-22" b="12"/>
          <a:stretch/>
        </p:blipFill>
        <p:spPr>
          <a:xfrm>
            <a:off x="5562720" y="152280"/>
            <a:ext cx="3352680" cy="637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0768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国小孩人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7040" y="184464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0C1-22A3-43EB-82DB-2E9F55254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9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