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D86-087B-4D33-AA4F-5DB323D2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CAD-0FC5-4D7F-825A-4F1F5055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97C-C86D-42EE-B376-44F1FEC8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8D0-CBA2-47D4-98DF-3AAA0DF2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1A4-E763-4AF2-BDAE-CF6540FB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CCE-F0DA-41BC-B003-D33E515D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F94-FF9D-4E1A-9D62-F8CBB235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345-D267-43D4-811D-ECDB9CAC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06C-822E-4A86-9608-6E519522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7F6-AADC-4BFE-9061-4731BB57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2DF-4693-4EA9-AE7C-F2FE18A7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1F22-7031-491E-B3F7-16A66736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3446-859C-41C8-BEAC-AFE35D8928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818A-5721-4492-BD5C-C87738DC48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D:\Backup\Presentations\Lianne\mafish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8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\\eyestore\Home\ori.carmon\Re-Branding\logos new Mortar\Logo white.wmf"/>
          <p:cNvPicPr/>
          <p:nvPr/>
        </p:nvPicPr>
        <p:blipFill>
          <a:blip r:embed="rId2"/>
          <a:stretch/>
        </p:blipFill>
        <p:spPr>
          <a:xfrm>
            <a:off x="7467480" y="6205680"/>
            <a:ext cx="1447920" cy="34740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6"/>
          <p:cNvSpPr/>
          <p:nvPr/>
        </p:nvSpPr>
        <p:spPr>
          <a:xfrm>
            <a:off x="30492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15151"/>
                </a:solidFill>
                <a:latin typeface="Arial"/>
              </a:rPr>
              <a:t>© 2008 Eyeblaster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Bottom-wave-for-dean.png"/>
          <p:cNvPicPr/>
          <p:nvPr/>
        </p:nvPicPr>
        <p:blipFill>
          <a:blip r:embed="rId3">
            <a:lum bright="-44000"/>
          </a:blip>
          <a:srcRect l="-1040" t="-6863" r="641" b="-1032"/>
          <a:stretch/>
        </p:blipFill>
        <p:spPr>
          <a:xfrm>
            <a:off x="0" y="3857760"/>
            <a:ext cx="9144000" cy="3000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5"/>
          <p:cNvSpPr/>
          <p:nvPr/>
        </p:nvSpPr>
        <p:spPr>
          <a:xfrm>
            <a:off x="0" y="322200"/>
            <a:ext cx="9144000" cy="7574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top-wave-for-Dean.png"/>
          <p:cNvPicPr/>
          <p:nvPr/>
        </p:nvPicPr>
        <p:blipFill>
          <a:blip r:embed="rId4">
            <a:lum contrast="-24000"/>
          </a:blip>
          <a:srcRect l="0" t="1211" r="-7219" b="0"/>
          <a:stretch/>
        </p:blipFill>
        <p:spPr>
          <a:xfrm>
            <a:off x="0" y="0"/>
            <a:ext cx="9144000" cy="330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Backup\Presentations\Lianne\mafish.jpg"/>
          <p:cNvPicPr/>
          <p:nvPr/>
        </p:nvPicPr>
        <p:blipFill>
          <a:blip r:embed="rId5"/>
          <a:stretch/>
        </p:blipFill>
        <p:spPr>
          <a:xfrm>
            <a:off x="-3240" y="1060560"/>
            <a:ext cx="5270400" cy="5194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1520" y="374760"/>
            <a:ext cx="82915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s out in the cro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1332000"/>
            <a:ext cx="9144000" cy="3240000"/>
          </a:xfrm>
          <a:prstGeom prst="rect">
            <a:avLst/>
          </a:prstGeom>
          <a:solidFill>
            <a:srgbClr val="bfbfb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914400"/>
            <a:ext cx="7286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buClr>
                <a:srgbClr val="5151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3737"/>
                </a:solidFill>
                <a:latin typeface="Arial"/>
              </a:rPr>
              <a:t>Ease of use complements innov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3737"/>
                </a:solidFill>
                <a:latin typeface="Arial"/>
              </a:rPr>
              <a:t>Get it ad hoc or schedu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3737"/>
                </a:solidFill>
                <a:latin typeface="Arial"/>
              </a:rPr>
              <a:t>Significant time sav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3737"/>
                </a:solidFill>
                <a:latin typeface="Arial"/>
              </a:rPr>
              <a:t>Use metrics available only in the CR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3737"/>
                </a:solidFill>
                <a:latin typeface="Arial"/>
              </a:rPr>
              <a:t>Analysis made eas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1095795.jpg"/>
          <p:cNvPicPr/>
          <p:nvPr/>
        </p:nvPicPr>
        <p:blipFill>
          <a:blip r:embed="rId6"/>
          <a:stretch/>
        </p:blipFill>
        <p:spPr>
          <a:xfrm>
            <a:off x="-32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Bottom-wave-for-dean.png"/>
          <p:cNvPicPr/>
          <p:nvPr/>
        </p:nvPicPr>
        <p:blipFill>
          <a:blip r:embed="rId7"/>
          <a:srcRect l="-1040" t="-6863" r="641" b="-1032"/>
          <a:stretch/>
        </p:blipFill>
        <p:spPr>
          <a:xfrm>
            <a:off x="0" y="3857760"/>
            <a:ext cx="9144000" cy="300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Bottom-wave-for-dean.png"/>
          <p:cNvPicPr/>
          <p:nvPr/>
        </p:nvPicPr>
        <p:blipFill>
          <a:blip r:embed="rId8"/>
          <a:srcRect l="-1040" t="-6863" r="641" b="-1032"/>
          <a:stretch/>
        </p:blipFill>
        <p:spPr>
          <a:xfrm>
            <a:off x="-3240" y="0"/>
            <a:ext cx="9142560" cy="300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14360" y="56833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网络通信数据传输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E07-350A-4759-8F38-9015A009D4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5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