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7.jpeg" ContentType="image/jpeg"/>
  <Override PartName="/ppt/media/image16.jpeg" ContentType="image/jpeg"/>
  <Override PartName="/ppt/media/image18.png" ContentType="image/png"/>
  <Override PartName="/ppt/media/image15.gif" ContentType="image/gif"/>
  <Override PartName="/ppt/media/image3.jpeg" ContentType="image/jpeg"/>
  <Override PartName="/ppt/media/image1.png" ContentType="image/png"/>
  <Override PartName="/ppt/media/image19.gif" ContentType="image/gif"/>
  <Override PartName="/ppt/media/image4.jpeg" ContentType="image/jpeg"/>
  <Override PartName="/ppt/media/image5.jpeg" ContentType="image/jpeg"/>
  <Override PartName="/ppt/media/image6.gif" ContentType="image/gif"/>
  <Override PartName="/ppt/media/image11.gif" ContentType="image/gif"/>
  <Override PartName="/ppt/media/image10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F4A8-9A12-4900-9378-6501CDF08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BF3C-D2DF-45EE-A791-5FA9AFF2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5112-1377-4938-A8EB-064A10B05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D1BD-EF33-4416-A33B-D16A25CFF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C477-DDC1-4892-90F1-66AF75195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594C-AEC6-4406-B696-28CB6AC5A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11888-F24F-486A-B171-DDCECC8F6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B166-8C16-4315-AFFB-F4FD5CF3B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7840-B820-4E7E-951A-6C3CD7C20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87F1-CB4C-456F-81EA-A6FCDBB6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A3FE-3DC8-4E91-B4F0-7731FC13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B572-3D50-4DF8-B104-9D7E2773E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DD915-ADAB-4A71-A463-2CB4B35043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zhongguofeng/" TargetMode="External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8.png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图片1"/>
          <p:cNvPicPr/>
          <p:nvPr/>
        </p:nvPicPr>
        <p:blipFill>
          <a:blip r:embed="rId1"/>
          <a:stretch/>
        </p:blipFill>
        <p:spPr>
          <a:xfrm>
            <a:off x="7632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905120" y="23623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317320" y="12952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我为你骄傲课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2005112875849577"/>
          <p:cNvPicPr/>
          <p:nvPr/>
        </p:nvPicPr>
        <p:blipFill>
          <a:blip r:embed="rId1"/>
          <a:stretch/>
        </p:blipFill>
        <p:spPr>
          <a:xfrm>
            <a:off x="36360" y="44280"/>
            <a:ext cx="9134640" cy="68407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3"/>
          <p:cNvSpPr/>
          <p:nvPr/>
        </p:nvSpPr>
        <p:spPr>
          <a:xfrm>
            <a:off x="324000" y="907920"/>
            <a:ext cx="814212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看着石头像子弹一样射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又像流星一样从天而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觉得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开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很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有趣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6445080" y="6237360"/>
            <a:ext cx="503280" cy="360360"/>
          </a:xfrm>
          <a:prstGeom prst="smileyFace">
            <a:avLst>
              <a:gd name="adj" fmla="val 4653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0" y="9144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0" y="6858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</a:t>
            </a:r>
            <a:r>
              <a:rPr b="1" lang="zh-CN" sz="4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我拾起一块光滑的小石头，把它扔了出去。一不小心，石头砸在老奶奶家的后窗户上。</a:t>
            </a: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我们听到玻璃破碎的声音，就像兔子一样飞快地逃走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A1_296"/>
          <p:cNvPicPr/>
          <p:nvPr/>
        </p:nvPicPr>
        <p:blipFill>
          <a:blip r:embed="rId1"/>
          <a:stretch/>
        </p:blipFill>
        <p:spPr>
          <a:xfrm>
            <a:off x="3429000" y="4343400"/>
            <a:ext cx="2209680" cy="17524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914400" y="152280"/>
            <a:ext cx="388620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新魏"/>
              </a:rPr>
              <a:t>看谁读得好！</a:t>
            </a:r>
            <a:endParaRPr b="1" lang="en-US" sz="5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0" y="3505320"/>
            <a:ext cx="853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2</a:t>
            </a:r>
            <a:r>
              <a:rPr b="1" lang="zh-CN" sz="48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、我们听到玻璃破碎的声音，就</a:t>
            </a:r>
            <a:r>
              <a:rPr b="1" lang="zh-CN" sz="48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像</a:t>
            </a:r>
            <a:r>
              <a:rPr b="1" lang="zh-CN" sz="48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兔子一样飞快地逃走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250920" y="1628640"/>
            <a:ext cx="8381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1</a:t>
            </a:r>
            <a:r>
              <a:rPr b="1" lang="zh-CN" sz="48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、石头</a:t>
            </a:r>
            <a:r>
              <a:rPr b="1" lang="zh-CN" sz="48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像</a:t>
            </a:r>
            <a:r>
              <a:rPr b="1" lang="zh-CN" sz="48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子弹一样射出去，</a:t>
            </a:r>
            <a:r>
              <a:rPr b="1" lang="zh-CN" sz="48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又像</a:t>
            </a:r>
            <a:r>
              <a:rPr b="1" lang="zh-CN" sz="48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流星一样从天而降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418c343e7a6a1e1c71cf6c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AutoShape 3"/>
          <p:cNvSpPr/>
          <p:nvPr/>
        </p:nvSpPr>
        <p:spPr>
          <a:xfrm>
            <a:off x="6156360" y="5373720"/>
            <a:ext cx="936720" cy="576360"/>
          </a:xfrm>
          <a:custGeom>
            <a:avLst/>
            <a:gdLst>
              <a:gd name="textAreaLeft" fmla="*/ 218520 w 936720"/>
              <a:gd name="textAreaRight" fmla="*/ 718200 w 936720"/>
              <a:gd name="textAreaTop" fmla="*/ 60480 h 576360"/>
              <a:gd name="textAreaBottom" fmla="*/ 365040 h 5763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solidFill>
            <a:srgbClr val="bbe0e3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1585080" y="883800"/>
            <a:ext cx="601308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我能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天上的白云像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又像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秋天的落叶像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又像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天上的星星像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又像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像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，又像 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276360" y="609480"/>
            <a:ext cx="3809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害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3276720" y="1981080"/>
            <a:ext cx="152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担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3763800" y="327672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不自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3124080" y="480060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Arial"/>
                <a:ea typeface="楷体_GB2312"/>
              </a:rPr>
              <a:t>一阵轻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6"/>
          <p:cNvSpPr/>
          <p:nvPr/>
        </p:nvSpPr>
        <p:spPr>
          <a:xfrm>
            <a:off x="3962520" y="1371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7"/>
          <p:cNvSpPr/>
          <p:nvPr/>
        </p:nvSpPr>
        <p:spPr>
          <a:xfrm>
            <a:off x="4038480" y="26668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8"/>
          <p:cNvSpPr/>
          <p:nvPr/>
        </p:nvSpPr>
        <p:spPr>
          <a:xfrm>
            <a:off x="4038480" y="3962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014"/>
          <p:cNvPicPr/>
          <p:nvPr/>
        </p:nvPicPr>
        <p:blipFill>
          <a:blip r:embed="rId1"/>
          <a:stretch/>
        </p:blipFill>
        <p:spPr>
          <a:xfrm>
            <a:off x="36360" y="-77760"/>
            <a:ext cx="9144000" cy="23544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179280" y="2565360"/>
            <a:ext cx="8712360" cy="185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58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天晚上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一想到老奶奶家被打碎的玻璃就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害怕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担心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她知道是我干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5800"/>
              </a:lnSpc>
              <a:spcBef>
                <a:spcPts val="1125"/>
              </a:spcBef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396720" y="490248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因为我担心老奶奶知道后，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所以我害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2005112875472081"/>
          <p:cNvPicPr/>
          <p:nvPr/>
        </p:nvPicPr>
        <p:blipFill>
          <a:blip r:embed="rId1"/>
          <a:stretch/>
        </p:blipFill>
        <p:spPr>
          <a:xfrm>
            <a:off x="0" y="0"/>
            <a:ext cx="9509040" cy="68389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228600" y="1143000"/>
            <a:ext cx="864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这以后</a:t>
            </a:r>
            <a:r>
              <a:rPr b="1" lang="zh-CN" sz="44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我还是和往常一样</a:t>
            </a:r>
            <a:r>
              <a:rPr b="1" lang="zh-CN" sz="44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每天给她送报纸。她也和往常一样</a:t>
            </a:r>
            <a:r>
              <a:rPr b="1" lang="zh-CN" sz="44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微笑着跟我打招呼</a:t>
            </a:r>
            <a:r>
              <a:rPr b="1" lang="zh-CN" sz="44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我却觉得很不自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2005112875472081"/>
          <p:cNvPicPr/>
          <p:nvPr/>
        </p:nvPicPr>
        <p:blipFill>
          <a:blip r:embed="rId1"/>
          <a:stretch/>
        </p:blipFill>
        <p:spPr>
          <a:xfrm>
            <a:off x="0" y="0"/>
            <a:ext cx="9509040" cy="68389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3"/>
          <p:cNvSpPr/>
          <p:nvPr/>
        </p:nvSpPr>
        <p:spPr>
          <a:xfrm>
            <a:off x="396720" y="1557360"/>
            <a:ext cx="864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以后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还是和往常一样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每天给她送报纸。</a:t>
            </a: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她也和往常一样</a:t>
            </a: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微笑着跟我打招呼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却觉得很</a:t>
            </a: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不自在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304920" y="76212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那天晚上，我一想到老奶奶家被打碎的玻璃就害怕，担心她知道是我干的。这以后，我还是和往常一样，每天给她送报纸。她也和往常一样，微笑着跟我打招呼，我却觉得很不自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395280" y="2781360"/>
            <a:ext cx="8569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直等到天黑，我才悄悄地来到老奶奶家门前，把信封投到她家的信箱里。</a:t>
            </a:r>
            <a:r>
              <a:rPr b="1" lang="zh-CN" sz="40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我心里感到一阵轻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250920" y="476280"/>
            <a:ext cx="856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一直等到天黑，我才悄悄地来到老奶奶家门前，把信封投到她家的信箱里。</a:t>
            </a:r>
            <a:r>
              <a:rPr b="1" lang="zh-CN" sz="40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我心里</a:t>
            </a:r>
            <a:r>
              <a:rPr b="1" lang="zh-CN" sz="40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顿时</a:t>
            </a:r>
            <a:r>
              <a:rPr b="1" lang="zh-CN" sz="40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感到一阵轻松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2438280" y="1981080"/>
            <a:ext cx="2514600" cy="24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5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骄</a:t>
            </a:r>
            <a:endParaRPr b="0" lang="en-US" sz="1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4572000" y="1981080"/>
            <a:ext cx="2514600" cy="24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5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傲</a:t>
            </a:r>
            <a:endParaRPr b="0" lang="en-US" sz="1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2005112875472081"/>
          <p:cNvPicPr/>
          <p:nvPr/>
        </p:nvPicPr>
        <p:blipFill>
          <a:blip r:embed="rId1"/>
          <a:stretch/>
        </p:blipFill>
        <p:spPr>
          <a:xfrm>
            <a:off x="0" y="0"/>
            <a:ext cx="9509040" cy="68389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"/>
          <p:cNvSpPr/>
          <p:nvPr/>
        </p:nvSpPr>
        <p:spPr>
          <a:xfrm>
            <a:off x="1219320" y="1171440"/>
            <a:ext cx="6738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0080"/>
                </a:solidFill>
                <a:latin typeface="宋体"/>
              </a:rPr>
              <a:t>攒       装进   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800080"/>
                </a:solidFill>
                <a:latin typeface="宋体"/>
              </a:rPr>
              <a:t>来到     投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228600" y="1905120"/>
            <a:ext cx="8317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44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第一天，他攒了</a:t>
            </a:r>
            <a:r>
              <a:rPr b="1" lang="zh-CN" sz="44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30</a:t>
            </a:r>
            <a:r>
              <a:rPr b="1" lang="zh-CN" sz="44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美分；第二天，他攒了</a:t>
            </a:r>
            <a:r>
              <a:rPr b="1" lang="zh-CN" sz="44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70</a:t>
            </a:r>
            <a:r>
              <a:rPr b="1" lang="zh-CN" sz="44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美分。一个星期过去了，他攒了</a:t>
            </a:r>
            <a:r>
              <a:rPr b="1" lang="zh-CN" sz="44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美元，两个星期过去了，他攒了</a:t>
            </a:r>
            <a:r>
              <a:rPr b="1" lang="zh-CN" sz="44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5</a:t>
            </a:r>
            <a:r>
              <a:rPr b="1" lang="zh-CN" sz="44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美元，</a:t>
            </a:r>
            <a:r>
              <a:rPr b="1" lang="zh-CN" sz="44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21</a:t>
            </a:r>
            <a:r>
              <a:rPr b="1" lang="zh-CN" sz="44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天过去了，他终于攒够了</a:t>
            </a:r>
            <a:r>
              <a:rPr b="1" lang="zh-CN" sz="44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——</a:t>
            </a:r>
            <a:r>
              <a:rPr b="1" lang="zh-CN" sz="44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2005112875472081"/>
          <p:cNvPicPr/>
          <p:nvPr/>
        </p:nvPicPr>
        <p:blipFill>
          <a:blip r:embed="rId1"/>
          <a:stretch/>
        </p:blipFill>
        <p:spPr>
          <a:xfrm>
            <a:off x="0" y="0"/>
            <a:ext cx="9509040" cy="68389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3"/>
          <p:cNvSpPr/>
          <p:nvPr/>
        </p:nvSpPr>
        <p:spPr>
          <a:xfrm>
            <a:off x="304920" y="304920"/>
            <a:ext cx="75308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99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三个星期过去了</a:t>
            </a:r>
            <a:r>
              <a:rPr b="1" lang="zh-CN" sz="40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，</a:t>
            </a:r>
            <a:r>
              <a:rPr b="1" lang="zh-CN" sz="40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我已经攒了</a:t>
            </a:r>
            <a:r>
              <a:rPr b="1" lang="zh-CN" sz="40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7</a:t>
            </a:r>
            <a:r>
              <a:rPr b="1" lang="zh-CN" sz="40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美元。这些钱足够用来修理窗户了。我把钱和一张便条装进信封，在便条上向老奶奶说明了事情的经过，并真诚地向她道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0" y="0"/>
            <a:ext cx="8991720" cy="76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亲爱的老奶奶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您好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　　我是给您送（    ）的小男孩。我（    ）一块（    ）的石子扔出去，不小心砸碎了您家的玻璃。我一听到（   ）（   ）的声音，就吓得像兔子似的逃走了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我一天不说出是我打碎的，我就一天不得安宁。到您家送报纸，我就浑身不自在。现在，我把三个星期送报纸的钱攒起来，用来修理窗户，请您收下吧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　　对不起，老奶奶，请您原谅我，好吗？</a:t>
            </a:r>
            <a:r>
              <a:rPr b="0" lang="zh-CN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 　　</a:t>
            </a:r>
            <a:r>
              <a:rPr b="1" lang="zh-CN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　　　　　　　　　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b85cfb03be188f55e8c337dc9fa67fea"/>
          <p:cNvPicPr/>
          <p:nvPr/>
        </p:nvPicPr>
        <p:blipFill>
          <a:blip r:embed="rId2"/>
          <a:srcRect l="0" t="91432" r="0" b="1093"/>
          <a:stretch/>
        </p:blipFill>
        <p:spPr>
          <a:xfrm>
            <a:off x="0" y="6308640"/>
            <a:ext cx="9144000" cy="5144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4"/>
          <p:cNvSpPr/>
          <p:nvPr/>
        </p:nvSpPr>
        <p:spPr>
          <a:xfrm>
            <a:off x="5334120" y="5638680"/>
            <a:ext cx="32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打碎玻璃的小男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3117240" y="11653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报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6622560" y="1143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拾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304920" y="175248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光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1460880" y="23623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玻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2590920" y="2286000"/>
            <a:ext cx="100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破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3_9"/>
          <p:cNvPicPr/>
          <p:nvPr/>
        </p:nvPicPr>
        <p:blipFill>
          <a:blip r:embed="rId1"/>
          <a:stretch/>
        </p:blipFill>
        <p:spPr>
          <a:xfrm>
            <a:off x="0" y="5897520"/>
            <a:ext cx="9144000" cy="9604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3"/>
          <p:cNvSpPr/>
          <p:nvPr/>
        </p:nvSpPr>
        <p:spPr>
          <a:xfrm>
            <a:off x="365040" y="401760"/>
            <a:ext cx="824544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第二天，我去给老奶奶送报纸。她微笑着接过报纸，说：“我有点儿东西给你。”原来是一袋饼干。我谢过她，然后一边吃着饼干，一边继续送报纸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　　当饼干快要吃完的时候，我发现袋子里有一个信封。打开一看，里面是７美元和一张便条，上面写着：</a:t>
            </a:r>
            <a:r>
              <a:rPr b="1" lang="zh-CN" sz="54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我为你骄傲</a:t>
            </a:r>
            <a:r>
              <a:rPr b="1" lang="zh-CN" sz="40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2514600" y="1066680"/>
            <a:ext cx="487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5400" spc="-1" strike="noStrike">
                <a:solidFill>
                  <a:srgbClr val="9900cc"/>
                </a:solidFill>
                <a:latin typeface="Times New Roman"/>
                <a:ea typeface="楷体_GB2312"/>
              </a:rPr>
              <a:t>想象如果老奶奶当面说这句话，会是什么样的表情和语气？读读看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990720" y="38098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3251_2009052922452116bMr"/>
          <p:cNvPicPr/>
          <p:nvPr/>
        </p:nvPicPr>
        <p:blipFill>
          <a:blip r:embed="rId1"/>
          <a:stretch/>
        </p:blipFill>
        <p:spPr>
          <a:xfrm>
            <a:off x="0" y="0"/>
            <a:ext cx="9972720" cy="755964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3"/>
          <p:cNvSpPr/>
          <p:nvPr/>
        </p:nvSpPr>
        <p:spPr>
          <a:xfrm>
            <a:off x="2345040" y="2777400"/>
            <a:ext cx="369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为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的</a:t>
            </a:r>
            <a:r>
              <a:rPr b="1" lang="zh-CN" sz="3200" spc="-1" strike="noStrike" u="sng">
                <a:solidFill>
                  <a:srgbClr val="ffffff"/>
                </a:solidFill>
                <a:uFillTx/>
                <a:latin typeface="黑体"/>
                <a:ea typeface="黑体"/>
              </a:rPr>
              <a:t>       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而骄傲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2872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16000" y="3645000"/>
            <a:ext cx="7688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中国风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zhongguofeng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B0AB-DCDA-4856-B9C5-2E58EF21A8A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WordArt 2" descr=""/>
          <p:cNvPicPr/>
          <p:nvPr/>
        </p:nvPicPr>
        <p:blipFill>
          <a:blip r:embed="rId2"/>
          <a:stretch/>
        </p:blipFill>
        <p:spPr>
          <a:xfrm>
            <a:off x="993600" y="-165240"/>
            <a:ext cx="3383280" cy="11462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3"/>
          <p:cNvSpPr/>
          <p:nvPr/>
        </p:nvSpPr>
        <p:spPr>
          <a:xfrm>
            <a:off x="136440" y="1143000"/>
            <a:ext cx="90075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你觉得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我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还可以采取什么样的方法来弥补这次过失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在生活中，你遇到过这样的事吗？做了错事，应当怎么办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、当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我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看到便条时心里会怎么想？请你大胆想象，续讲故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WW_015"/>
          <p:cNvPicPr/>
          <p:nvPr/>
        </p:nvPicPr>
        <p:blipFill>
          <a:blip r:embed="rId3"/>
          <a:stretch/>
        </p:blipFill>
        <p:spPr>
          <a:xfrm>
            <a:off x="7543800" y="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228600" y="53316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我们犯错时，我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该 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别人犯错时，我们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应该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2779920" y="14479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勇于承担责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2961360" y="39862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Comic Sans MS"/>
                <a:ea typeface="楷体_GB2312"/>
              </a:rPr>
              <a:t>学会宽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2438280" y="1676520"/>
          <a:ext cx="2514600" cy="2336760"/>
        </p:xfrm>
        <a:graphic>
          <a:graphicData uri="http://schemas.openxmlformats.org/drawingml/2006/table">
            <a:tbl>
              <a:tblPr/>
              <a:tblGrid>
                <a:gridCol w="1219320"/>
                <a:gridCol w="1295280"/>
              </a:tblGrid>
              <a:tr h="116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Text Box 13"/>
          <p:cNvSpPr/>
          <p:nvPr/>
        </p:nvSpPr>
        <p:spPr>
          <a:xfrm>
            <a:off x="2666880" y="1523880"/>
            <a:ext cx="2514600" cy="24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5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骄</a:t>
            </a:r>
            <a:endParaRPr b="0" lang="en-US" sz="15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5410080" y="1676520"/>
          <a:ext cx="2514600" cy="2336760"/>
        </p:xfrm>
        <a:graphic>
          <a:graphicData uri="http://schemas.openxmlformats.org/drawingml/2006/table">
            <a:tbl>
              <a:tblPr/>
              <a:tblGrid>
                <a:gridCol w="1219320"/>
                <a:gridCol w="1295280"/>
              </a:tblGrid>
              <a:tr h="116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" name="Text Box 25"/>
          <p:cNvSpPr/>
          <p:nvPr/>
        </p:nvSpPr>
        <p:spPr>
          <a:xfrm>
            <a:off x="5715000" y="1523880"/>
            <a:ext cx="2514600" cy="24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5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傲</a:t>
            </a:r>
            <a:endParaRPr b="0" lang="en-US" sz="15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-227160" y="457200"/>
            <a:ext cx="91425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      </a:t>
            </a:r>
            <a:r>
              <a:rPr b="1" lang="zh-CN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诚实是一个人得以保持的最高尚的东西。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                                      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---------  </a:t>
            </a:r>
            <a:r>
              <a:rPr b="1" lang="zh-CN" sz="2800" spc="-1" strike="noStrike">
                <a:solidFill>
                  <a:srgbClr val="ff9900"/>
                </a:solidFill>
                <a:latin typeface="宋体"/>
              </a:rPr>
              <a:t>（英国   乔叟）</a:t>
            </a:r>
            <a:r>
              <a:rPr b="1" lang="zh-CN" sz="2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宁可因为说真话而负罪，也不要说假话开脱。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  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               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             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      </a:t>
            </a:r>
            <a:r>
              <a:rPr b="1" lang="zh-CN" sz="2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---------</a:t>
            </a:r>
            <a:r>
              <a:rPr b="1" lang="zh-CN" sz="2800" spc="-1" strike="noStrike">
                <a:solidFill>
                  <a:srgbClr val="ff9900"/>
                </a:solidFill>
                <a:latin typeface="宋体"/>
              </a:rPr>
              <a:t>（波斯     萨迪</a:t>
            </a:r>
            <a:r>
              <a:rPr b="1" lang="zh-CN" sz="2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走正直诚实的生活道路，必定会有一个问心无愧的归宿。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                                     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--------</a:t>
            </a:r>
            <a:r>
              <a:rPr b="1" lang="zh-CN" sz="2800" spc="-1" strike="noStrike">
                <a:solidFill>
                  <a:srgbClr val="ff9900"/>
                </a:solidFill>
                <a:latin typeface="宋体"/>
              </a:rPr>
              <a:t>（前苏联   高尔基）</a:t>
            </a:r>
            <a:r>
              <a:rPr b="1" lang="zh-CN" sz="2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谅解也是一种勉励、启迪、指引，它难催人弃恶从善，使歧路人走入正轨，发挥他们的潜力。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          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 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                    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    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9900"/>
                </a:solidFill>
                <a:latin typeface="宋体"/>
              </a:rPr>
              <a:t>---------</a:t>
            </a:r>
            <a:r>
              <a:rPr b="1" lang="zh-CN" sz="2800" spc="-1" strike="noStrike">
                <a:solidFill>
                  <a:srgbClr val="ff9900"/>
                </a:solidFill>
                <a:latin typeface="宋体"/>
              </a:rPr>
              <a:t>（穆尼尔</a:t>
            </a:r>
            <a:r>
              <a:rPr b="1" lang="zh-CN" sz="2800" spc="-1" strike="noStrike">
                <a:solidFill>
                  <a:srgbClr val="ff99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ff9900"/>
                </a:solidFill>
                <a:latin typeface="宋体"/>
              </a:rPr>
              <a:t>纳素</a:t>
            </a:r>
            <a:r>
              <a:rPr b="1" lang="zh-CN" sz="2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夫</a:t>
            </a:r>
            <a:r>
              <a:rPr b="1" lang="zh-CN" sz="2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 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宽容产生的道德上的震动比责罚产生的要强烈得多。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                   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      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        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9900"/>
                </a:solidFill>
                <a:latin typeface="宋体"/>
              </a:rPr>
              <a:t>---------(</a:t>
            </a:r>
            <a:r>
              <a:rPr b="1" lang="zh-CN" sz="2800" spc="-1" strike="noStrike">
                <a:solidFill>
                  <a:srgbClr val="ff9900"/>
                </a:solidFill>
                <a:latin typeface="宋体"/>
              </a:rPr>
              <a:t>前苏联  苏霍姆林斯基</a:t>
            </a:r>
            <a:r>
              <a:rPr b="1" lang="zh-CN" sz="28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尽量宽恕别人</a:t>
            </a:r>
            <a:r>
              <a:rPr b="1" lang="zh-CN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而不要原谅自己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  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               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      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    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 </a:t>
            </a:r>
            <a:r>
              <a:rPr b="1" lang="zh-CN" sz="2800" spc="-1" strike="noStrike">
                <a:solidFill>
                  <a:srgbClr val="ff9900"/>
                </a:solidFill>
                <a:latin typeface="宋体"/>
              </a:rPr>
              <a:t> </a:t>
            </a:r>
            <a:r>
              <a:rPr b="1" lang="zh-CN" sz="2800" spc="-1" strike="noStrike">
                <a:solidFill>
                  <a:srgbClr val="ff9900"/>
                </a:solidFill>
                <a:latin typeface="宋体"/>
              </a:rPr>
              <a:t>---------</a:t>
            </a:r>
            <a:r>
              <a:rPr b="1" lang="zh-CN" sz="2800" spc="-1" strike="noStrike">
                <a:solidFill>
                  <a:srgbClr val="ff9900"/>
                </a:solidFill>
                <a:latin typeface="宋体"/>
              </a:rPr>
              <a:t>（古罗马  贺拉斯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06640" y="634536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2005112875472081"/>
          <p:cNvPicPr/>
          <p:nvPr/>
        </p:nvPicPr>
        <p:blipFill>
          <a:blip r:embed="rId1"/>
          <a:stretch/>
        </p:blipFill>
        <p:spPr>
          <a:xfrm>
            <a:off x="36360" y="46080"/>
            <a:ext cx="9509400" cy="68389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468360" y="549360"/>
            <a:ext cx="33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读书要求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900000" y="1341360"/>
            <a:ext cx="7228080" cy="32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、读准字音，读通句子，遇到难读的句子，反反复复多读几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、边读边标上自然段序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、用横线画出文中的比喻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800080"/>
                </a:solidFill>
                <a:latin typeface="楷体_GB2312"/>
                <a:ea typeface="楷体_GB2312"/>
              </a:rPr>
              <a:t>、思考：课文讲了一件什么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WordArt 2"/>
          <p:cNvSpPr txBox="1"/>
          <p:nvPr/>
        </p:nvSpPr>
        <p:spPr>
          <a:xfrm>
            <a:off x="1295280" y="533520"/>
            <a:ext cx="289584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隶书"/>
              </a:rPr>
              <a:t>我会读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隶书"/>
              <a:ea typeface="隶书"/>
            </a:endParaRPr>
          </a:p>
        </p:txBody>
      </p:sp>
      <p:sp>
        <p:nvSpPr>
          <p:cNvPr id="54" name="Text Box 3"/>
          <p:cNvSpPr/>
          <p:nvPr/>
        </p:nvSpPr>
        <p:spPr>
          <a:xfrm>
            <a:off x="1371600" y="274320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1219320" y="2666880"/>
            <a:ext cx="761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光</a:t>
            </a: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滑  玻璃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破</a:t>
            </a: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碎 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攒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起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1143000" y="4648320"/>
            <a:ext cx="8001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信</a:t>
            </a: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封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信</a:t>
            </a: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箱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道</a:t>
            </a: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歉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4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顿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1143000" y="22860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1371600" y="4191120"/>
            <a:ext cx="685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ē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ng     xi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ā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ng     qi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à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n   d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ù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1143000" y="213372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hu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á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b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ō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li         su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ì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  z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ă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9" descr="11"/>
          <p:cNvPicPr/>
          <p:nvPr/>
        </p:nvPicPr>
        <p:blipFill>
          <a:blip r:embed="rId2"/>
          <a:stretch/>
        </p:blipFill>
        <p:spPr>
          <a:xfrm>
            <a:off x="4427640" y="620640"/>
            <a:ext cx="123804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1343160" y="907920"/>
            <a:ext cx="6581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滑  玻  璃  碎  攒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  </a:t>
            </a:r>
            <a:r>
              <a:rPr b="1" lang="zh-CN" sz="60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封  歉  箱  顿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3"/>
          <p:cNvGrpSpPr/>
          <p:nvPr/>
        </p:nvGrpSpPr>
        <p:grpSpPr>
          <a:xfrm>
            <a:off x="1476360" y="4437000"/>
            <a:ext cx="2808360" cy="1944720"/>
            <a:chOff x="1476360" y="4437000"/>
            <a:chExt cx="2808360" cy="1944720"/>
          </a:xfrm>
        </p:grpSpPr>
        <p:grpSp>
          <p:nvGrpSpPr>
            <p:cNvPr id="63" name="Group 4"/>
            <p:cNvGrpSpPr/>
            <p:nvPr/>
          </p:nvGrpSpPr>
          <p:grpSpPr>
            <a:xfrm>
              <a:off x="1547640" y="4437000"/>
              <a:ext cx="1657080" cy="1944720"/>
              <a:chOff x="1547640" y="4437000"/>
              <a:chExt cx="1657080" cy="1944720"/>
            </a:xfrm>
          </p:grpSpPr>
          <p:sp>
            <p:nvSpPr>
              <p:cNvPr id="64" name="Line 5"/>
              <p:cNvSpPr/>
              <p:nvPr/>
            </p:nvSpPr>
            <p:spPr>
              <a:xfrm>
                <a:off x="1547640" y="4437000"/>
                <a:ext cx="0" cy="1944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Rectangle 6"/>
              <p:cNvSpPr/>
              <p:nvPr/>
            </p:nvSpPr>
            <p:spPr>
              <a:xfrm>
                <a:off x="1547640" y="4437000"/>
                <a:ext cx="1657080" cy="972360"/>
              </a:xfrm>
              <a:prstGeom prst="rect">
                <a:avLst/>
              </a:prstGeom>
              <a:solidFill>
                <a:srgbClr val="ff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" name="Text Box 7"/>
            <p:cNvSpPr/>
            <p:nvPr/>
          </p:nvSpPr>
          <p:spPr>
            <a:xfrm>
              <a:off x="1476360" y="4581360"/>
              <a:ext cx="2808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读准字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Group 8"/>
          <p:cNvGrpSpPr/>
          <p:nvPr/>
        </p:nvGrpSpPr>
        <p:grpSpPr>
          <a:xfrm>
            <a:off x="5724360" y="4365720"/>
            <a:ext cx="1657080" cy="1944720"/>
            <a:chOff x="5724360" y="4365720"/>
            <a:chExt cx="1657080" cy="1944720"/>
          </a:xfrm>
        </p:grpSpPr>
        <p:grpSp>
          <p:nvGrpSpPr>
            <p:cNvPr id="68" name="Group 9"/>
            <p:cNvGrpSpPr/>
            <p:nvPr/>
          </p:nvGrpSpPr>
          <p:grpSpPr>
            <a:xfrm>
              <a:off x="5724360" y="4365720"/>
              <a:ext cx="1657080" cy="1944720"/>
              <a:chOff x="5724360" y="4365720"/>
              <a:chExt cx="1657080" cy="1944720"/>
            </a:xfrm>
          </p:grpSpPr>
          <p:sp>
            <p:nvSpPr>
              <p:cNvPr id="69" name="Line 10"/>
              <p:cNvSpPr/>
              <p:nvPr/>
            </p:nvSpPr>
            <p:spPr>
              <a:xfrm>
                <a:off x="5724360" y="4365720"/>
                <a:ext cx="0" cy="1944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Rectangle 11"/>
              <p:cNvSpPr/>
              <p:nvPr/>
            </p:nvSpPr>
            <p:spPr>
              <a:xfrm>
                <a:off x="5724360" y="4365720"/>
                <a:ext cx="1657080" cy="972360"/>
              </a:xfrm>
              <a:prstGeom prst="rect">
                <a:avLst/>
              </a:prstGeom>
              <a:solidFill>
                <a:srgbClr val="ff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" name="Text Box 12"/>
            <p:cNvSpPr/>
            <p:nvPr/>
          </p:nvSpPr>
          <p:spPr>
            <a:xfrm>
              <a:off x="5868720" y="4508640"/>
              <a:ext cx="1440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记字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2"/>
          <p:cNvSpPr/>
          <p:nvPr/>
        </p:nvSpPr>
        <p:spPr>
          <a:xfrm>
            <a:off x="304920" y="230400"/>
            <a:ext cx="9144000" cy="58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光滑      玻璃     打碎    顿时      攒起来    信封     信箱    道歉        报纸      继续     东西   窗户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不自在    打招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真诚地道歉    光滑的小石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1167877805727"/>
          <p:cNvPicPr/>
          <p:nvPr/>
        </p:nvPicPr>
        <p:blipFill>
          <a:blip r:embed="rId1"/>
          <a:srcRect l="11394" t="9394" r="8074" b="21108"/>
          <a:stretch/>
        </p:blipFill>
        <p:spPr>
          <a:xfrm>
            <a:off x="-30240" y="0"/>
            <a:ext cx="920772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"/>
          <p:cNvSpPr/>
          <p:nvPr/>
        </p:nvSpPr>
        <p:spPr>
          <a:xfrm>
            <a:off x="1116000" y="1960200"/>
            <a:ext cx="67896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、小男孩拾起一块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光滑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的石头扔向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玻璃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，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顿时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玻璃被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打碎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1044720" y="4188240"/>
            <a:ext cx="720396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、小男孩把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攒起来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的钱放在一个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信封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里，然后投进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信箱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，真诚地向老奶奶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道歉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WordArt 5" descr=""/>
          <p:cNvPicPr/>
          <p:nvPr/>
        </p:nvPicPr>
        <p:blipFill>
          <a:blip r:embed="rId2"/>
          <a:stretch/>
        </p:blipFill>
        <p:spPr>
          <a:xfrm>
            <a:off x="1401840" y="463680"/>
            <a:ext cx="2268360" cy="11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418c343e7a6a1e1c71cf6c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3"/>
          <p:cNvSpPr/>
          <p:nvPr/>
        </p:nvSpPr>
        <p:spPr>
          <a:xfrm>
            <a:off x="755640" y="2381040"/>
            <a:ext cx="77770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群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           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躲在老奶奶家后院里玩扔石子的游戏，我一不小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        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了老奶奶家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        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我们逃走了。后来我攒了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美元，装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       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里，跟老奶奶道歉。老奶奶原谅了我，并写了一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        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给我，上面写着“我为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        )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2556000" y="155736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小伙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5796000" y="213372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打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5364000" y="393372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便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562200" y="450864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骄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2124000" y="270828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玻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2916360" y="335772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信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3T05:17:45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4:43:53Z</dcterms:modified>
  <cp:revision>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